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AAEA-0112-4A39-AADC-FBDDBEF3C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2356-C014-471C-8FE9-DF88A5D21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2D53-7F86-401C-AC58-E2859C73B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6705-9A96-4B19-BD79-24F41313F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4AD7-01A0-4DAA-B336-1CF6E0F52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50D3-3446-4EB1-9C22-AC9FCD4FA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5F48-AE0C-4C28-A428-CD8F39383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5C5D-6D83-4E79-A05D-EC91076BE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9986-CEE9-4EE0-832F-ED34931E1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E32E-DA69-4AC3-9CE6-72A2D442B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B264-EB6A-4267-B86A-5906ABAFD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4514-835D-400F-9F6C-D7CBB2487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7DA37-EB29-476D-8F8D-CB2CE948D1D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テキスト ボックス 1"/>
          <p:cNvSpPr/>
          <p:nvPr/>
        </p:nvSpPr>
        <p:spPr>
          <a:xfrm>
            <a:off x="1311120" y="3705120"/>
            <a:ext cx="952560" cy="48600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入学金（Ｂ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テキスト ボックス 2"/>
          <p:cNvSpPr/>
          <p:nvPr/>
        </p:nvSpPr>
        <p:spPr>
          <a:xfrm>
            <a:off x="2268360" y="3705120"/>
            <a:ext cx="1762200" cy="48600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授業料（Ｃ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テキスト ボックス 3"/>
          <p:cNvSpPr/>
          <p:nvPr/>
        </p:nvSpPr>
        <p:spPr>
          <a:xfrm>
            <a:off x="4025880" y="3705120"/>
            <a:ext cx="1647720" cy="48600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施設整備費等（Ｄ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テキスト ボックス 4"/>
          <p:cNvSpPr/>
          <p:nvPr/>
        </p:nvSpPr>
        <p:spPr>
          <a:xfrm>
            <a:off x="330120" y="3705120"/>
            <a:ext cx="914400" cy="48600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検定料（Ａ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左右矢印 8"/>
          <p:cNvSpPr/>
          <p:nvPr/>
        </p:nvSpPr>
        <p:spPr>
          <a:xfrm>
            <a:off x="1311120" y="890640"/>
            <a:ext cx="4343400" cy="428400"/>
          </a:xfrm>
          <a:prstGeom prst="leftRightArrow">
            <a:avLst>
              <a:gd name="adj1" fmla="val 50000"/>
              <a:gd name="adj2" fmla="val 50036"/>
            </a:avLst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園児１人当たり補助上限額　</a:t>
            </a:r>
            <a:r>
              <a:rPr b="0" lang="en-US" sz="11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249,589</a:t>
            </a:r>
            <a:r>
              <a:rPr b="0" lang="ja-JP" sz="11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円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左右矢印 9"/>
          <p:cNvSpPr/>
          <p:nvPr/>
        </p:nvSpPr>
        <p:spPr>
          <a:xfrm>
            <a:off x="311040" y="880920"/>
            <a:ext cx="981360" cy="428760"/>
          </a:xfrm>
          <a:prstGeom prst="leftRightArrow">
            <a:avLst>
              <a:gd name="adj1" fmla="val 50000"/>
              <a:gd name="adj2" fmla="val 49994"/>
            </a:avLst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全額補助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テキスト ボックス 9"/>
          <p:cNvSpPr/>
          <p:nvPr/>
        </p:nvSpPr>
        <p:spPr>
          <a:xfrm>
            <a:off x="1330200" y="1324080"/>
            <a:ext cx="903240" cy="48564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入園料（Ｂ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テキスト ボックス 10"/>
          <p:cNvSpPr/>
          <p:nvPr/>
        </p:nvSpPr>
        <p:spPr>
          <a:xfrm>
            <a:off x="2233440" y="1324080"/>
            <a:ext cx="1764000" cy="48564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保育料（Ｃ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テキスト ボックス 11"/>
          <p:cNvSpPr/>
          <p:nvPr/>
        </p:nvSpPr>
        <p:spPr>
          <a:xfrm>
            <a:off x="3995640" y="1328760"/>
            <a:ext cx="1648080" cy="48564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施設整備費等（Ｄ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テキスト ボックス 12"/>
          <p:cNvSpPr/>
          <p:nvPr/>
        </p:nvSpPr>
        <p:spPr>
          <a:xfrm>
            <a:off x="311040" y="1324080"/>
            <a:ext cx="971640" cy="48564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検定料（Ａ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テキスト ボックス 13"/>
          <p:cNvSpPr/>
          <p:nvPr/>
        </p:nvSpPr>
        <p:spPr>
          <a:xfrm>
            <a:off x="1330200" y="1968480"/>
            <a:ext cx="4329360" cy="48564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162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補助対象部分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テキスト ボックス 14"/>
          <p:cNvSpPr/>
          <p:nvPr/>
        </p:nvSpPr>
        <p:spPr>
          <a:xfrm>
            <a:off x="311040" y="1973160"/>
            <a:ext cx="971640" cy="48600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162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補助対象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部分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角丸四角形 16"/>
          <p:cNvSpPr/>
          <p:nvPr/>
        </p:nvSpPr>
        <p:spPr>
          <a:xfrm>
            <a:off x="6253200" y="1052640"/>
            <a:ext cx="2695680" cy="1495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テキスト ボックス 15"/>
          <p:cNvSpPr/>
          <p:nvPr/>
        </p:nvSpPr>
        <p:spPr>
          <a:xfrm>
            <a:off x="6330960" y="1206360"/>
            <a:ext cx="280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alibri"/>
              </a:rPr>
              <a:t>　園児ごとの補助金額は、次の計算による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左右矢印 18"/>
          <p:cNvSpPr/>
          <p:nvPr/>
        </p:nvSpPr>
        <p:spPr>
          <a:xfrm>
            <a:off x="1330200" y="3209760"/>
            <a:ext cx="4353120" cy="428760"/>
          </a:xfrm>
          <a:prstGeom prst="leftRightArrow">
            <a:avLst>
              <a:gd name="adj1" fmla="val 50000"/>
              <a:gd name="adj2" fmla="val 49965"/>
            </a:avLst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児童生徒１人当たり補助上限額　：　学校種別に設定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左右矢印 19"/>
          <p:cNvSpPr/>
          <p:nvPr/>
        </p:nvSpPr>
        <p:spPr>
          <a:xfrm>
            <a:off x="330120" y="3200400"/>
            <a:ext cx="981000" cy="428760"/>
          </a:xfrm>
          <a:prstGeom prst="leftRightArrow">
            <a:avLst>
              <a:gd name="adj1" fmla="val 50000"/>
              <a:gd name="adj2" fmla="val 49975"/>
            </a:avLst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全額補助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角丸四角形 20"/>
          <p:cNvSpPr/>
          <p:nvPr/>
        </p:nvSpPr>
        <p:spPr>
          <a:xfrm>
            <a:off x="6330960" y="2997360"/>
            <a:ext cx="2695680" cy="1495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テキスト ボックス 19"/>
          <p:cNvSpPr/>
          <p:nvPr/>
        </p:nvSpPr>
        <p:spPr>
          <a:xfrm>
            <a:off x="6416640" y="3068640"/>
            <a:ext cx="26766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alibri"/>
              </a:rPr>
              <a:t>　生徒ごとの補助金額は、次の計算による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テキスト ボックス 21"/>
          <p:cNvSpPr/>
          <p:nvPr/>
        </p:nvSpPr>
        <p:spPr>
          <a:xfrm>
            <a:off x="339840" y="5537160"/>
            <a:ext cx="952560" cy="33984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入学金（Ｂ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テキスト ボックス 22"/>
          <p:cNvSpPr/>
          <p:nvPr/>
        </p:nvSpPr>
        <p:spPr>
          <a:xfrm>
            <a:off x="1297080" y="5537160"/>
            <a:ext cx="1762200" cy="33984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授業料（Ｃ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テキスト ボックス 23"/>
          <p:cNvSpPr/>
          <p:nvPr/>
        </p:nvSpPr>
        <p:spPr>
          <a:xfrm>
            <a:off x="3063960" y="5537160"/>
            <a:ext cx="1647720" cy="33984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施設整備費等（Ｄ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" name="グループ化 25"/>
          <p:cNvGrpSpPr/>
          <p:nvPr/>
        </p:nvGrpSpPr>
        <p:grpSpPr>
          <a:xfrm>
            <a:off x="6273720" y="5369040"/>
            <a:ext cx="2695680" cy="685800"/>
            <a:chOff x="6273720" y="5369040"/>
            <a:chExt cx="2695680" cy="685800"/>
          </a:xfrm>
        </p:grpSpPr>
        <p:sp>
          <p:nvSpPr>
            <p:cNvPr id="63" name="角丸四角形 32"/>
            <p:cNvSpPr/>
            <p:nvPr/>
          </p:nvSpPr>
          <p:spPr>
            <a:xfrm>
              <a:off x="6273720" y="5369040"/>
              <a:ext cx="2695680" cy="6858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テキスト ボックス 29"/>
            <p:cNvSpPr/>
            <p:nvPr/>
          </p:nvSpPr>
          <p:spPr>
            <a:xfrm>
              <a:off x="6349680" y="5448240"/>
              <a:ext cx="25149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Calibri"/>
                </a:rPr>
                <a:t>　学生ごとの補助金額は、設置者が減免した額の３分の２とする。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5" name="テキスト ボックス 34"/>
          <p:cNvSpPr/>
          <p:nvPr/>
        </p:nvSpPr>
        <p:spPr>
          <a:xfrm>
            <a:off x="1824480" y="6407280"/>
            <a:ext cx="1354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設置者が減免した額の３分の２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テキスト ボックス 35"/>
          <p:cNvSpPr/>
          <p:nvPr/>
        </p:nvSpPr>
        <p:spPr>
          <a:xfrm>
            <a:off x="6449040" y="1616040"/>
            <a:ext cx="1999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　　　　</a:t>
            </a:r>
            <a:r>
              <a:rPr b="0" lang="ja-JP" sz="1100" spc="-1" strike="noStrike" u="sng">
                <a:solidFill>
                  <a:srgbClr val="000000"/>
                </a:solidFill>
                <a:uFillTx/>
                <a:latin typeface="Calibri"/>
              </a:rPr>
              <a:t>補助額＝Ａ＋（Ｂ＋Ｃ＋Ｄ－Ｅ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テキスト ボックス 36"/>
          <p:cNvSpPr/>
          <p:nvPr/>
        </p:nvSpPr>
        <p:spPr>
          <a:xfrm>
            <a:off x="7094160" y="2097000"/>
            <a:ext cx="1217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※</a:t>
            </a:r>
            <a:r>
              <a:rPr b="0" lang="ja-JP" sz="10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Ｂ＋Ｃ＋Ｄの上限額は、</a:t>
            </a:r>
            <a:r>
              <a:rPr b="0" lang="en-US" sz="10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249,589</a:t>
            </a:r>
            <a:r>
              <a:rPr b="0" lang="ja-JP" sz="10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円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テキスト ボックス 37"/>
          <p:cNvSpPr/>
          <p:nvPr/>
        </p:nvSpPr>
        <p:spPr>
          <a:xfrm>
            <a:off x="7085520" y="3421080"/>
            <a:ext cx="1578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 u="sng">
                <a:solidFill>
                  <a:srgbClr val="000000"/>
                </a:solidFill>
                <a:uFillTx/>
                <a:latin typeface="Calibri"/>
              </a:rPr>
              <a:t>補助額＝Ａ＋（Ｂ＋Ｃ＋Ｄ－Ｆ）　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テキスト ボックス 38"/>
          <p:cNvSpPr/>
          <p:nvPr/>
        </p:nvSpPr>
        <p:spPr>
          <a:xfrm>
            <a:off x="7090560" y="3754440"/>
            <a:ext cx="14331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※</a:t>
            </a:r>
            <a:r>
              <a:rPr b="0" lang="ja-JP" sz="10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Ｂ＋Ｃ＋Ｄの上限額は、次のとおり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　小学校 </a:t>
            </a:r>
            <a:r>
              <a:rPr b="0" lang="en-US" sz="10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328,400</a:t>
            </a:r>
            <a:r>
              <a:rPr b="0" lang="ja-JP" sz="10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円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　中学校 </a:t>
            </a:r>
            <a:r>
              <a:rPr b="0" lang="en-US" sz="10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235,500</a:t>
            </a:r>
            <a:r>
              <a:rPr b="0" lang="ja-JP" sz="10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円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　高・特・専修（高等） </a:t>
            </a:r>
            <a:r>
              <a:rPr b="0" lang="en-US" sz="10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510,554</a:t>
            </a:r>
            <a:r>
              <a:rPr b="0" lang="ja-JP" sz="10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円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テキスト ボックス 34"/>
          <p:cNvSpPr/>
          <p:nvPr/>
        </p:nvSpPr>
        <p:spPr>
          <a:xfrm>
            <a:off x="189000" y="476280"/>
            <a:ext cx="71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幼稚園</a:t>
            </a:r>
            <a:r>
              <a:rPr b="1" lang="en-US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テキスト ボックス 35"/>
          <p:cNvSpPr/>
          <p:nvPr/>
        </p:nvSpPr>
        <p:spPr>
          <a:xfrm>
            <a:off x="2425320" y="2924280"/>
            <a:ext cx="72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小学校、中学校、高等学校、特別支援学校、専修（高等課程）</a:t>
            </a:r>
            <a:r>
              <a:rPr b="1" lang="en-US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テキスト ボックス 36"/>
          <p:cNvSpPr/>
          <p:nvPr/>
        </p:nvSpPr>
        <p:spPr>
          <a:xfrm>
            <a:off x="1381680" y="5191200"/>
            <a:ext cx="47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専修学校（専門課程）、各種学校</a:t>
            </a:r>
            <a:r>
              <a:rPr b="1" lang="en-US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テキスト ボックス 37"/>
          <p:cNvSpPr/>
          <p:nvPr/>
        </p:nvSpPr>
        <p:spPr>
          <a:xfrm>
            <a:off x="3188880" y="233280"/>
            <a:ext cx="319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私立学校被災児童生徒等就学支援事業スキーム図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テキスト ボックス 13"/>
          <p:cNvSpPr/>
          <p:nvPr/>
        </p:nvSpPr>
        <p:spPr>
          <a:xfrm>
            <a:off x="1311120" y="4280040"/>
            <a:ext cx="4353120" cy="48564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162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補助対象部分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テキスト ボックス 14"/>
          <p:cNvSpPr/>
          <p:nvPr/>
        </p:nvSpPr>
        <p:spPr>
          <a:xfrm>
            <a:off x="316080" y="4284720"/>
            <a:ext cx="928440" cy="48564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162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補助対象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部分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右中かっこ 39"/>
          <p:cNvSpPr/>
          <p:nvPr/>
        </p:nvSpPr>
        <p:spPr>
          <a:xfrm rot="5400000">
            <a:off x="3419280" y="412560"/>
            <a:ext cx="165240" cy="4324320"/>
          </a:xfrm>
          <a:custGeom>
            <a:avLst/>
            <a:gdLst>
              <a:gd name="textAreaLeft" fmla="*/ 0 w 165240"/>
              <a:gd name="textAreaRight" fmla="*/ 59760 w 165240"/>
              <a:gd name="textAreaTop" fmla="*/ 20160 h 4324320"/>
              <a:gd name="textAreaBottom" fmla="*/ 4304160 h 432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62"/>
                  <a:pt x="10800" y="323"/>
                </a:cubicBezTo>
                <a:lnTo>
                  <a:pt x="10800" y="10607"/>
                </a:lnTo>
                <a:cubicBezTo>
                  <a:pt x="10800" y="10769"/>
                  <a:pt x="16200" y="10930"/>
                  <a:pt x="21600" y="10930"/>
                </a:cubicBezTo>
                <a:cubicBezTo>
                  <a:pt x="16200" y="10930"/>
                  <a:pt x="10800" y="11092"/>
                  <a:pt x="10800" y="11253"/>
                </a:cubicBezTo>
                <a:lnTo>
                  <a:pt x="10800" y="21277"/>
                </a:lnTo>
                <a:cubicBezTo>
                  <a:pt x="10800" y="21439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テキスト ボックス 34"/>
          <p:cNvSpPr/>
          <p:nvPr/>
        </p:nvSpPr>
        <p:spPr>
          <a:xfrm>
            <a:off x="1898640" y="2657520"/>
            <a:ext cx="3751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「幼稚園就園奨励費等（Ｅ）」⇒補助対象部分から差し引くこと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右中かっこ 41"/>
          <p:cNvSpPr/>
          <p:nvPr/>
        </p:nvSpPr>
        <p:spPr>
          <a:xfrm rot="5400000">
            <a:off x="3407400" y="2705760"/>
            <a:ext cx="165240" cy="4322880"/>
          </a:xfrm>
          <a:custGeom>
            <a:avLst/>
            <a:gdLst>
              <a:gd name="textAreaLeft" fmla="*/ 0 w 165240"/>
              <a:gd name="textAreaRight" fmla="*/ 59760 w 165240"/>
              <a:gd name="textAreaTop" fmla="*/ 20160 h 4322880"/>
              <a:gd name="textAreaBottom" fmla="*/ 4302720 h 4322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62"/>
                  <a:pt x="10800" y="323"/>
                </a:cubicBezTo>
                <a:lnTo>
                  <a:pt x="10800" y="10607"/>
                </a:lnTo>
                <a:cubicBezTo>
                  <a:pt x="10800" y="10769"/>
                  <a:pt x="16200" y="10930"/>
                  <a:pt x="21600" y="10930"/>
                </a:cubicBezTo>
                <a:cubicBezTo>
                  <a:pt x="16200" y="10930"/>
                  <a:pt x="10800" y="11092"/>
                  <a:pt x="10800" y="11253"/>
                </a:cubicBezTo>
                <a:lnTo>
                  <a:pt x="10800" y="21277"/>
                </a:lnTo>
                <a:cubicBezTo>
                  <a:pt x="10800" y="21439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テキスト ボックス 34"/>
          <p:cNvSpPr/>
          <p:nvPr/>
        </p:nvSpPr>
        <p:spPr>
          <a:xfrm>
            <a:off x="1787400" y="4950000"/>
            <a:ext cx="37515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「就学支援金等」（Ｆ）⇒補助対象部分から差し引くこと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右中かっこ 43"/>
          <p:cNvSpPr/>
          <p:nvPr/>
        </p:nvSpPr>
        <p:spPr>
          <a:xfrm rot="5400000">
            <a:off x="2419560" y="4200480"/>
            <a:ext cx="164880" cy="4324320"/>
          </a:xfrm>
          <a:custGeom>
            <a:avLst/>
            <a:gdLst>
              <a:gd name="textAreaLeft" fmla="*/ 0 w 164880"/>
              <a:gd name="textAreaRight" fmla="*/ 59400 w 164880"/>
              <a:gd name="textAreaTop" fmla="*/ 20160 h 4324320"/>
              <a:gd name="textAreaBottom" fmla="*/ 4304160 h 432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62"/>
                  <a:pt x="10800" y="323"/>
                </a:cubicBezTo>
                <a:lnTo>
                  <a:pt x="10800" y="10607"/>
                </a:lnTo>
                <a:cubicBezTo>
                  <a:pt x="10800" y="10769"/>
                  <a:pt x="16200" y="10930"/>
                  <a:pt x="21600" y="10930"/>
                </a:cubicBezTo>
                <a:cubicBezTo>
                  <a:pt x="16200" y="10930"/>
                  <a:pt x="10800" y="11092"/>
                  <a:pt x="10800" y="11253"/>
                </a:cubicBezTo>
                <a:lnTo>
                  <a:pt x="10800" y="21277"/>
                </a:lnTo>
                <a:cubicBezTo>
                  <a:pt x="10800" y="21439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テキスト ボックス 13"/>
          <p:cNvSpPr/>
          <p:nvPr/>
        </p:nvSpPr>
        <p:spPr>
          <a:xfrm>
            <a:off x="331920" y="5950080"/>
            <a:ext cx="4379760" cy="30780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162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補助対象部分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0T08:38:31Z</dcterms:created>
  <dc:creator>石木田　浩美</dc:creator>
  <dc:description/>
  <dc:language>en-US</dc:language>
  <cp:lastModifiedBy>小野寺　裕士</cp:lastModifiedBy>
  <cp:lastPrinted>2011-12-09T02:24:53Z</cp:lastPrinted>
  <dcterms:modified xsi:type="dcterms:W3CDTF">2011-12-09T02:26:13Z</dcterms:modified>
  <cp:revision>5</cp:revision>
  <dc:subject/>
  <dc:title>PowerPoint プレゼンテーション</dc:title>
</cp:coreProperties>
</file>