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2680"/>
            <a:ext cx="5051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336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06AD-DCEE-4B3A-B204-8DEED12B9F6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3498-774C-4EAB-81EF-71BD0675CB77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3000" y="743040"/>
            <a:ext cx="5051520" cy="37227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F718-0EAC-4EE1-A6C2-053B60EB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03B-DFE7-48F9-A31C-3F977465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B85-60EC-4BC6-B5F3-CD45B170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A166-C3F4-4404-839D-489ADD0B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E282-7D61-4F5C-9C13-1212EA11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E5C-46B5-4E05-85A5-0AA1FD69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F61-F68F-449F-8BAB-D00A4DBB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77C-E60A-4B7D-9CF1-5541FAC2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A69-A87C-42F6-A963-2DC052D2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38EC-94E0-441C-8658-8313352F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48E9-7337-4596-ACBE-B592EA07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4696-7F6A-442D-90C7-39E58FDB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7D3A-779E-473D-89B8-77F6A5E33517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気仙光陵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明るく　楽しく　元気よく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503280" y="1101600"/>
            <a:ext cx="126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気仙光陵支援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時間外在校等時間が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超延べ人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（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超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度でもあった者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　　　　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よりよい授業づくりの努力は惜しまないが、他業務のために時間が限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られている。また、時期により、業務が集中する職員が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管理職の対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時間外在校等時間から業務量の把握を行っており、可能なところ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業務分担の見直しや削減を図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9001080" y="9524880"/>
            <a:ext cx="4952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８日　気仙光陵支援学校長　石川　則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896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学校独自の目標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一人一人の時間外在校等時間が前年度を下回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働き方改革の取組に対する教職員の肯定的評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068640"/>
            <a:ext cx="5591160" cy="1792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児童生徒の充実した学びが実現し、保護者も教育活動に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足し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一人一人が手応えを感じながら教育活動を行って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は、健康で、心が満たされる時間を生活の中で確保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職員会議において、プランを教職員に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学校運営協議会において、プランを提示し、各委員より助言をいただ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257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各職員室ごとに、月に一度のノー残業デーを確実に実施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は、時間外在校等時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5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時間を超える教職員に声掛けをするとともに、業務状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　を把握し、業務の割り振りを検討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会議の内容の吟味、実施回数、ＩＣＴの活用、資料のデータ化などの検討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学校閉庁時の児童生徒の対応について、保護者、関係機関との連携、協力体制を図り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　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全教職員一斉の定時退庁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石川　則子</cp:lastModifiedBy>
  <cp:lastPrinted>2024-05-02T08:08:21Z</cp:lastPrinted>
  <dcterms:modified xsi:type="dcterms:W3CDTF">2024-05-02T09:19:16Z</dcterms:modified>
  <cp:revision>991</cp:revision>
  <dc:subject/>
  <dc:title>スライド 1</dc:title>
</cp:coreProperties>
</file>