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70C9-B32D-4829-8F85-061C43EC84C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C4FE-FAF3-4669-9C0C-4D70779C56B8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DF24-40B2-4F2C-9580-5D53176A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996-5932-4622-99C9-A41FC970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1858-F211-4DA9-B260-F843D1B7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A4AC-4D7E-4A6F-81BD-8B7DC8B7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629C-E5C6-486C-B2B2-E4C09398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6B0-C1F0-461C-82F8-CEB739CC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007-D318-4A89-B20E-477EFB59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4562-E7F6-48EF-AE32-C77AEE4D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926-2887-4259-87C1-4B37D142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CE75-2FF8-4E95-B6DF-95365ED1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4672-93C5-49FB-95DA-7B86F246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FD8D-2C99-47DF-ACCD-775A9D2D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3389-54B2-41BC-9AD9-A3AD3EA801FB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盛岡峰南高等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学年・学科・各部が連携して推進する「チーム峰南」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5991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時間外在校等時間→一人あたり年間平均で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時間外在校等時間年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職員→０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時間外在校等時間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職員→０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年次休暇の取得日数→一人あたり年間平均取得日数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以上、１日単位の年次取得５日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毎週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回の定時退庁日設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192720"/>
            <a:ext cx="7129440" cy="4064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2"/>
          <p:cNvSpPr/>
          <p:nvPr/>
        </p:nvSpPr>
        <p:spPr>
          <a:xfrm>
            <a:off x="10796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盛岡峰南高等支援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県内唯一の専門学科が設置された高等支援学校であり、県内全域から生徒が集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ま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進路支援業務、課外活動（週休日における大会やそれに向けた練習、専門教科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学習で製作した製品の展示、販売対応等）、県内各圏域におけるＰＴＡ活動対応等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移動距離や対応回数、時間的負担も大き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関係各所の本校教育への関心が高く、学校見学や入学相談の依頼件数が多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本校の教育理念である「生きがいある豊かな生活の実現」を目指し、各教職員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使命感を持って日常の業務を遂行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402912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5108400" y="402912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2"/>
          <p:cNvSpPr/>
          <p:nvPr/>
        </p:nvSpPr>
        <p:spPr>
          <a:xfrm>
            <a:off x="8064360" y="756144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令和６年５月１日　盛岡峰南高等支援学校長　矢鳴　慶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生徒が、学校に通うことが楽しいと感じることができる学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教職員が、達成感、有用感を感じ、教育の楽しさを実感しながら各学年、学科が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携して、業務を推進するチームとしての学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各教職員が自分のライフプラン、ミッションを意識化し業務を推進する学校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健全（健康・安心・安全）な学校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72720" y="399240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5108400" y="4352760"/>
            <a:ext cx="395460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業務が円滑に進むように、資料データの整理と見直し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行い、作成の簡略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現状の校内業務のスクラップ＆ビルド等について随時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討し、より効果的な業務運営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業務の効率化につながるように、組織のあり方を検証しな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ら、必要な改変を視野に入れて業務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様々な事案の未然防止、適切な初期対応ができるよう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告・連絡・相談の徹底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9063000" y="4352760"/>
            <a:ext cx="374976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本校が事務局を担当する他の支援学校が関わる諸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議等において、連絡調整等の効率化を図るために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学校間における連携協力の一層の充実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支援学校のセンター的機能に係る取組について、依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校や関係機関等のニーズを把握し、組織としての適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対応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1079640" y="4352760"/>
            <a:ext cx="401940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勤務時間の正確な把握の取組を確実に実施し、業務の優先順位を見極めながら、長時間勤務の軽減に努め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毎月の時間外在校等時間を各人に知らせ、時間外勤務状況を意識し、縮減に努め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年間を通じた計画的な業務推進により、繁忙期の時間外勤務時間の縮減と、多忙感の低減に努め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管理職が、教職員の健康管理について　積極的に面談や声掛けをするなど、メンタルヘルスを含めた健康状態の把握に努め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衛生委員会等において、職場環境の在り方や健康保持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つ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いて意見交換を行い、職場環境の整備を図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109520" y="7837560"/>
            <a:ext cx="11738160" cy="21715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２０２４～２０２６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令和６年度～令和８年度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〈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定量的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〉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12"/>
          <p:cNvSpPr/>
          <p:nvPr/>
        </p:nvSpPr>
        <p:spPr>
          <a:xfrm>
            <a:off x="7128000" y="7915320"/>
            <a:ext cx="571968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含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段階的に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8"/>
          <p:cNvSpPr/>
          <p:nvPr/>
        </p:nvSpPr>
        <p:spPr>
          <a:xfrm>
            <a:off x="6951600" y="9072720"/>
            <a:ext cx="5854680" cy="86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定性的目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〉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業務への充実感や、健康面での安心感の向上、教職員のウェルビーイングの確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８年度において、目標に関連するアンケート項目の肯定的実感が令和６年度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0"/>
          <p:cNvSpPr/>
          <p:nvPr/>
        </p:nvSpPr>
        <p:spPr>
          <a:xfrm>
            <a:off x="1079640" y="366084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348760" y="8404200"/>
          <a:ext cx="3095640" cy="68112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６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4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前年度（令和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5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）実績より減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髙橋　奈津子</cp:lastModifiedBy>
  <cp:lastPrinted>2024-05-01T01:38:30Z</cp:lastPrinted>
  <dcterms:modified xsi:type="dcterms:W3CDTF">2024-05-02T00:15:07Z</dcterms:modified>
  <cp:revision>970</cp:revision>
  <dc:subject/>
  <dc:title>スライド 1</dc:title>
</cp:coreProperties>
</file>