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F758-DA55-4D56-8F43-F0C31BFA06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EECB-7C11-4EF4-9A07-2342B24171D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911-76C8-4A32-AE8E-2501F5CC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3B-4A0E-4DAF-B94B-4C9FA72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542-AC97-46D1-92E3-C457DE59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4C8-F2FC-41C7-9DD6-F35164C4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6CA-6605-46F9-B5B1-184E3FD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FA0-8181-4EF6-B198-87D03B83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39C-F8DC-4C37-8B8C-48CD537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0A3-D4C3-4AFE-9172-C08DAB18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6D1-B88D-4728-8023-0341AA6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C18-B16A-4AB1-8D56-C74A8FD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480-4B20-4F1D-8F36-7D3C3D2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29F-008B-42F6-A1B9-99309EA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64E-A8BC-4CDC-9EB5-740EEF1F726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谷堂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健康で文化的な生活のために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792000" y="1101600"/>
            <a:ext cx="120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岩谷堂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１４．６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１５．０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６．１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長時間の時間外勤務が常態化している教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献身的に業務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との面談を通して、業務見直し等の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４日　岩谷堂高等学校長　山影　稔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082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８０時間以上の者を０人にすること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７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290760"/>
            <a:ext cx="5591160" cy="15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ら働き方の見直しについて職員全体で考え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授業や授業準備に集中できている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業務にやりがいを感じ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自身や家庭の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のｎｏｔｅ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を紹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5596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週１回以上の定時退庁の取組を実施し、教職員の健康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分掌組織や部活動の見直しを図り、業務の効率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行事や業務のスリム化を図り、ゆとりのある学校運営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度途中においても分掌内の役割分担を見直し、業務の平準化を目指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ｎｏｔｅ等を活用して保護者や地域の方に周知を行います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を月頭（先月分）と月途中の分を職員に知らせることで、在校等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間が長い教職員に声掛けし、健康確保の観点から、在校時間短縮の方策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留守番電話の運用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直人</cp:lastModifiedBy>
  <cp:lastPrinted>2024-05-09T05:41:08Z</cp:lastPrinted>
  <dcterms:modified xsi:type="dcterms:W3CDTF">2024-05-10T04:49:57Z</dcterms:modified>
  <cp:revision>996</cp:revision>
  <dc:subject/>
  <dc:title>スライド 1</dc:title>
</cp:coreProperties>
</file>