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E4F9-9C64-444D-BA6C-987E859C62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44C4-6FCA-4E51-ACF8-464462A47DD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0C2A-CC90-4247-9716-ED8F65D47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8239B-1136-4A20-BCA8-475FC81BC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5F7BB-0314-47C4-8B29-CA641DF45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6AEED-EEC4-419A-ADD1-752047DBC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FCD9-1F67-4A08-A500-B7008AB8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26A5-5A3E-4E4F-8AEE-CCF38D79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E34E-F5F8-430A-8D7F-8F4FE0AC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DC04-0A90-409D-B5B0-F0622E41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5747-D717-4A66-B723-EC215B09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D58D-8F68-4AFE-AB91-9981B718A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33C5-2190-4EC0-BECC-B5F8C238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A87B-0734-44B2-90CC-6720CD25E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5D3B-466F-4A49-8EF8-7608B7A07B6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コミュニケーションの活性化によるウェルビーイングの向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本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ja-JP" sz="1400" spc="-1" strike="noStrike">
                <a:solidFill>
                  <a:srgbClr val="000000"/>
                </a:solidFill>
                <a:latin typeface="Arial"/>
                <a:ea typeface="Arial"/>
              </a:rPr>
              <a:t>３</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Arial"/>
              </a:rPr>
              <a:t>14.1</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Arial"/>
                <a:ea typeface="Arial"/>
              </a:rPr>
              <a:t>13.0</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Arial"/>
              </a:rPr>
              <a:t>15.5</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チーム盛北」コミュニケーションを軸とした意識改革が進み、情報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共有や効率的な業務遂行を進んでいるが、自分自身の自由な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確保できている教職員が少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CT</a:t>
            </a:r>
            <a:r>
              <a:rPr b="0" lang="ja-JP" sz="1400" spc="-1" strike="noStrike">
                <a:solidFill>
                  <a:srgbClr val="000000"/>
                </a:solidFill>
                <a:latin typeface="Arial"/>
              </a:rPr>
              <a:t>機器を活用した業務の効率化や見える化を進め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5</a:t>
            </a:r>
            <a:r>
              <a:rPr b="0" lang="ja-JP" sz="1100" spc="-1" strike="noStrike">
                <a:solidFill>
                  <a:srgbClr val="000000"/>
                </a:solidFill>
                <a:latin typeface="Arial"/>
              </a:rPr>
              <a:t>日　盛岡北高等学校長　嶋　　　隆</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毎週水曜日を学校全体の定時退庁推奨日とし、教職員一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あたり月２回以上の定時退庁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の取得（１日単位で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の取得を推奨）、夏季休暇５日間取得</a:t>
            </a:r>
            <a:r>
              <a:rPr b="0" lang="en-US" sz="1600" spc="-1" strike="noStrike">
                <a:solidFill>
                  <a:srgbClr val="000000"/>
                </a:solidFill>
                <a:latin typeface="Arial"/>
              </a:rPr>
              <a:t>100</a:t>
            </a:r>
            <a:r>
              <a:rPr b="0" lang="ja-JP" sz="1600" spc="-1" strike="noStrike">
                <a:solidFill>
                  <a:srgbClr val="000000"/>
                </a:solidFill>
                <a:latin typeface="Arial"/>
              </a:rPr>
              <a:t>％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保護者・生徒・地域とのコミュニケーションを大切に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し、組織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業務への充実感を持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に掲載して地域・保護者に対してプランの内容を公開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等を取得しやすい環境づくりに努め、柔軟な働き方を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必要に応じて長時間勤務者に対し、産業医の保健指導やメンタルヘルス相談</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利用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務的な業務について、本来業務に時間が割けるよう業務の見直しや簡便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管データの整理・整頓を進め、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や会議、模擬試験等の運営を見直し、教員が担う業務の整理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協力体制をつくり、従事時間の縮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教職員一人一人の業務改善目標の設定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五十嵐　忠義</cp:lastModifiedBy>
  <cp:lastPrinted>2024-05-15T02:43:12Z</cp:lastPrinted>
  <dcterms:modified xsi:type="dcterms:W3CDTF">2024-05-15T02:49:20Z</dcterms:modified>
  <cp:revision>1002</cp:revision>
  <dc:subject/>
  <dc:title>スライド 1</dc:title>
</cp:coreProperties>
</file>