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6039-BD4B-4BAC-AA1D-B385C614D70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45DD-8D1C-4603-885E-8C17798B662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850E4-6F18-4F62-B9CA-C69686FBA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162F0-3698-4F6A-A504-144C143D9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84D29-C367-4DFA-91B4-632B40AC7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7D8EB-AC80-4955-85E7-049145811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9CC91-00D1-4BCE-8671-9DC3D0260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203D8-127B-4CE5-84B3-CE42C142B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AF150-B508-43D3-8891-2390D409E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DCEC5-C46F-4DED-AA54-B24827315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261FE-B1E5-491F-A876-DF90CDD3B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6CC66-4F41-4A78-9D13-B94A10ED7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3DD71-C91B-43B7-9557-FA4F797BC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40659-189F-4E51-B591-F554D804A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E7CE3-74D1-40EF-9F53-9C552539C294}"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久慈高等学校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573120" y="1101600"/>
            <a:ext cx="122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久慈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7</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0</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0</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1.2</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3.4</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5.8</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業務のペーパーレス化の取組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部活動の大会開催時期及び受験期に時間外勤務が集中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７日　久慈高等学校長　藤田知彦</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35</a:t>
            </a:r>
            <a:r>
              <a:rPr b="0" lang="ja-JP" sz="1600" spc="-1" strike="noStrike">
                <a:solidFill>
                  <a:srgbClr val="000000"/>
                </a:solidFill>
                <a:latin typeface="Arial"/>
              </a:rPr>
              <a:t>時間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4</a:t>
            </a:r>
            <a:r>
              <a:rPr b="0" lang="ja-JP" sz="1600" spc="-1" strike="noStrike">
                <a:solidFill>
                  <a:srgbClr val="000000"/>
                </a:solidFill>
                <a:latin typeface="Arial"/>
              </a:rPr>
              <a:t>日に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生徒への質の高い教育を持続的に提供し得る観点か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生徒と接する時間が十分に確保でき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保護者や地域の方にも周知し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時間外在校等時間の多い教職員に月初に指導・助言を行い健康を確保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教育の質の向上という観点から業務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業務のオンライン化、ペーパーレス化をさらに推進し業務の効率化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ＨＰに掲載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部活動の統廃合や部活動指導員の任用により、教職員の業務負担を軽減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分掌ごとに業務削減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田友哉</cp:lastModifiedBy>
  <cp:lastPrinted>2024-07-10T04:48:51Z</cp:lastPrinted>
  <dcterms:modified xsi:type="dcterms:W3CDTF">2024-07-10T04:58:38Z</dcterms:modified>
  <cp:revision>994</cp:revision>
  <dc:subject/>
  <dc:title>スライド 1</dc:title>
</cp:coreProperties>
</file>