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6A55-68C1-4850-913D-03BE28B7482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EB2B-553E-4B0E-9807-66B9997EFBB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AC2-FA30-481C-9811-EA219398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6C3-8082-4E22-8588-75D9F2FB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9F1-015B-4D82-AD8E-8C19CF0E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DB4-3A94-4995-93B3-AED9D4ED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07A-4A28-402D-9A4F-64C5C0A8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058-6A58-4C98-ACBC-09109CBD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E37-84BE-4819-BF77-5AAA0901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A4D-2C48-4B82-AC40-8613257A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D86-E857-4619-8825-495DACC8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49A-19EB-420B-9B7C-74B95615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3F0-52E7-4353-B222-2B0E96D2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D76-E1CB-48F3-9D07-9EB1E156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329E-3A25-4ED4-AD1B-CA77A2DC4EE2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杜陵高等学校奥州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　「熱意・誠意・創意」で明るく健康的な職場づくり　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杜陵高等学校奥州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量的現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目標達成状況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をゼロにす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者を縮減す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当校で推進する「計画的な年次取得」の取組が推進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時間外勤務が長時間化している教職員が固定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業務効率化を意識し、業務の精選と見直しを推進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9063000" y="7707240"/>
            <a:ext cx="37418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７日　杜陵高等学校長　三田正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時間外在校等時間を１日２時間以内とし、１カ月全体の平均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内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します。また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を超える教職員をゼロ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年次休暇の計画的取得を推進し、夏季休暇の取得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それぞれのライフワークバランスを意識してウェルビーイングを実現し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つつ職務に取り組む。一方で、本校の役割を自覚し自らの責務を果た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の目配り、気配りの行き届いた教育によって、生徒個々の能力を引き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し、生徒が明るく学校生活を楽し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教職員の勤務状況を把握して、個に応じて適切に対応することで、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好な職場環境を築い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常的にこまめな情報交換を行い、定例職員会議など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会議が効率よく行われるよう時間短縮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教職員が、軽減・廃止できる業務について、積極的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資料のデータ配信を推進することにより、会議に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う準備業務の時間短縮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材データの共有化を推進することにより、業務の効率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定時制と通信制に所属する教職員が協力する業務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独立する業務とを明確にして、負担軽減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W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児童相談所、福祉施設など外部と連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して生徒を指導する体制を構築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同窓会等の事務局業務について、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及び教職員が担う業務の適正化を図るよう、関係団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との協議を積極的に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に向けた取組について、保護者に理解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ただけるよう、必要に応じた情報提供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08920"/>
            <a:ext cx="11737800" cy="184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4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6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※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抜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持続的提供につなげる。〇教職員のウェルビーイングを確保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定量的目標　　県立学校の教員の時間外在校等時間の縮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0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４年度実績　月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100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以上の延べ人数　県立学校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21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名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・令和５年度実績（第３四半期まで）　月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100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以上の延べ人数　県立学校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</a:t>
            </a:r>
            <a:r>
              <a:rPr b="1" lang="ja-JP" sz="10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含む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。）が月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877160" y="8350200"/>
          <a:ext cx="4103640" cy="657360"/>
        </p:xfrm>
        <a:graphic>
          <a:graphicData uri="http://schemas.openxmlformats.org/drawingml/2006/table">
            <a:tbl>
              <a:tblPr/>
              <a:tblGrid>
                <a:gridCol w="1414440"/>
                <a:gridCol w="2689200"/>
              </a:tblGrid>
              <a:tr h="1544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６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4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６～８年度　前年度実績より減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080120" y="8085240"/>
            <a:ext cx="5615280" cy="225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段階的に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032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定性敵目標　業務への充実感や、健康面での安心感の向上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 教職員のウェルビーイングの確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令和８年度において、アンケート調査に基づく肯定的実感が令和６年度の実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 結果から向上することを目指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時間外在校等時間縮減の取組を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実に実施し、教職員の健康を確保し、ウェルビーイングの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実現を目指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教職員の健康診断の結果や普段の健康状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を把握し、配慮が必要な場合は積極的に対処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相互の理解と心遣いに基づいた風通しのよい教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員の文化を醸成し、メンタルヘルスを心掛け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の計画的な取得を推進し、教職員が生き生き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仕事ができる環境づくり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224000" y="9288360"/>
            <a:ext cx="5040360" cy="360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村山　純子</cp:lastModifiedBy>
  <cp:lastPrinted>2024-05-01T22:46:17Z</cp:lastPrinted>
  <dcterms:modified xsi:type="dcterms:W3CDTF">2024-05-01T22:50:17Z</dcterms:modified>
  <cp:revision>977</cp:revision>
  <dc:subject/>
  <dc:title>スライド 1</dc:title>
</cp:coreProperties>
</file>