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0344-2C35-41B2-9082-1716EFCCA42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B8EC-2EFE-4D83-9E98-5A498A8176F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550-D231-40A8-AB4B-D7CBD611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335-3611-4B55-A3D3-FBFFFD9A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DE7-E40E-4F6F-B101-E20556D5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8BA-48D2-491C-8341-B3C28C88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4CC-A12A-4FA0-989B-3CBEC517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BDF-7EC6-48FB-8A21-4EE49F85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455-8ACC-4293-84CC-393D9F5D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071-01FA-42C5-82A9-1FA39A9E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863-E400-4376-BCA5-10792087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5B3-FE7D-4966-8A3D-9311F973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ABE-1276-4419-912B-4D2D997A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BB9-6E21-4743-822C-B9C4B06D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C6BB-7A65-48B3-BFF9-90910FA8379A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花北青雲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22400" y="4916520"/>
            <a:ext cx="11783880" cy="3920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2"/>
          <p:cNvSpPr/>
          <p:nvPr/>
        </p:nvSpPr>
        <p:spPr>
          <a:xfrm>
            <a:off x="592200" y="1133640"/>
            <a:ext cx="127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北青雲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1657440"/>
            <a:ext cx="5473440" cy="3228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０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.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.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部活動に意欲的に取り組む生徒・職員が多いため、週休日及び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日の部活動指導の時間が多くな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退庁時間後も業務を続けている。仕事量の均一化は容易では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副担任２人制を用い、全教職員で学級運営に携わり担任の負担を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軽減する対応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2"/>
          <p:cNvSpPr/>
          <p:nvPr/>
        </p:nvSpPr>
        <p:spPr>
          <a:xfrm>
            <a:off x="8569440" y="955512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１０日　岩手県立花北青雲高等学校長　小松　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7213680" y="2165400"/>
            <a:ext cx="5603760" cy="1125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の時間外在校時間が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以上の者をゼロに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１５日とす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5120" y="3297240"/>
            <a:ext cx="5591160" cy="1563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ひとりが、心に余裕をもち、生徒と向き合い丁寧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な指導を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管理職が日頃から教職員に対し、休暇取得や定時退庁の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がけを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1011240" y="8523360"/>
            <a:ext cx="11806200" cy="3380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22400" y="8861400"/>
            <a:ext cx="11795040" cy="6634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地域・保護者に対して周知するとともに、教職員には会議等で呼びかけ、確認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運営協議会等を通じて、地域・委員の方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022400" y="5308560"/>
          <a:ext cx="11795040" cy="32641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休暇取得について積極的に呼びかけを行い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が月途中で４０時間超となった教職員に声掛けを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欠席・遅刻の把握や学校行事等のお知らせは、一斉メールを活用し、教職員や保護者の連絡時間の　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負担を軽減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部活動の休養日を月に１回以上は週休日に設定し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P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でお知らせ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6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保護者や地域の方に理解いただけるよう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P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にアクションプランを掲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休日の部活動については、顧問間で分担したり外部コーチ等の協力をいただきながら指導にあたり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「週休日の振替」を積極的に活用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1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小原　桂</cp:lastModifiedBy>
  <cp:lastPrinted>2024-05-09T07:17:45Z</cp:lastPrinted>
  <dcterms:modified xsi:type="dcterms:W3CDTF">2024-05-10T03:13:57Z</dcterms:modified>
  <cp:revision>988</cp:revision>
  <dc:subject/>
  <dc:title>スライド 1</dc:title>
</cp:coreProperties>
</file>