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04BD-4731-419C-B87A-972EFCA2EC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5991-7CC5-4884-B57D-F0295980078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59574-563D-4A39-A87C-B5C795B33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4E24-4569-478B-8B74-E4D0ADBB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41237-FDC2-4BA8-99D8-BDFAFCEAE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F7C6C-88AD-444A-87F4-3DA20A656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F8B7-AE5E-4B26-A8A4-B3AB722D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0BA9-D219-4B56-A002-824AB83A9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CDF4-E1BB-43EB-BFDE-E17AE4A9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D581A-3042-4EF6-9B0B-C53D7EA00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D28B0-9F9A-4C0A-9587-E8B8B947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51E6-69B7-4FD7-9D2B-584E03E2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0C46-508E-4C87-8C97-589F03A9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2C99-73FB-46F6-A892-8D1B49AAB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0DCC-B8EA-49A7-A04A-C49302B3B87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葛巻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c000"/>
                </a:solidFill>
                <a:latin typeface="HGS創英角ｺﾞｼｯｸUB"/>
                <a:ea typeface="HGS創英角ｺﾞｼｯｸUB"/>
              </a:rPr>
              <a:t>～くずこうワークイノベーション</a:t>
            </a:r>
            <a:r>
              <a:rPr b="0" i="1" lang="ja-JP" sz="2000" spc="-1" strike="noStrike">
                <a:solidFill>
                  <a:srgbClr val="ffc000"/>
                </a:solidFill>
                <a:latin typeface="HGS創英角ｺﾞｼｯｸUB"/>
                <a:ea typeface="HGS創英角ｺﾞｼｯｸUB"/>
              </a:rPr>
              <a:t>（みんなで取り組む働き方改革）</a:t>
            </a:r>
            <a:r>
              <a:rPr b="0" lang="ja-JP" sz="2000" spc="-1" strike="noStrike">
                <a:solidFill>
                  <a:srgbClr val="ffc000"/>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7600" y="4927680"/>
            <a:ext cx="1178424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葛巻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 </a:t>
            </a:r>
            <a:r>
              <a:rPr b="0" lang="en-US" sz="1400" spc="-1" strike="noStrike">
                <a:solidFill>
                  <a:srgbClr val="000000"/>
                </a:solidFill>
                <a:latin typeface="Arial"/>
              </a:rPr>
              <a:t>0 </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 </a:t>
            </a:r>
            <a:r>
              <a:rPr b="0" lang="en-US" sz="1400" spc="-1" strike="noStrike">
                <a:solidFill>
                  <a:srgbClr val="000000"/>
                </a:solidFill>
                <a:latin typeface="Arial"/>
              </a:rPr>
              <a:t>0 </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 </a:t>
            </a:r>
            <a:r>
              <a:rPr b="0" lang="en-US" sz="1400" spc="-1" strike="noStrike">
                <a:solidFill>
                  <a:srgbClr val="000000"/>
                </a:solidFill>
                <a:latin typeface="Arial"/>
              </a:rPr>
              <a:t>0 </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 </a:t>
            </a:r>
            <a:r>
              <a:rPr b="0" lang="en-US" sz="1400" spc="-1" strike="noStrike">
                <a:solidFill>
                  <a:srgbClr val="000000"/>
                </a:solidFill>
                <a:latin typeface="Arial"/>
              </a:rPr>
              <a:t>12.8 </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 </a:t>
            </a:r>
            <a:r>
              <a:rPr b="0" lang="en-US" sz="1400" spc="-1" strike="noStrike">
                <a:solidFill>
                  <a:srgbClr val="000000"/>
                </a:solidFill>
                <a:latin typeface="Arial"/>
              </a:rPr>
              <a:t>16.5 </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 </a:t>
            </a:r>
            <a:r>
              <a:rPr b="0" lang="en-US" sz="1400" spc="-1" strike="noStrike">
                <a:solidFill>
                  <a:srgbClr val="000000"/>
                </a:solidFill>
                <a:latin typeface="Arial"/>
              </a:rPr>
              <a:t>16.8 </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小規模校のため教職員数が少なく、個々が担当する分掌業務が多岐にわた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中高一貫教育や町からの支援等により成果が現れているが、その取組に必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な関係機関との連携・調整等に係る負担が大きい。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中高一貫教育や山村留学制度等により多種多様な生徒が入学しており、学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面及び精神面での支援を必要な生徒が増加し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000000"/>
                </a:solidFill>
                <a:latin typeface="ＭＳ Ｐゴシック"/>
              </a:rPr>
              <a:t>遠距離通勤により、１日における通勤と勤務に要する時間が長時間に及ぶ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が少なくな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8856720" y="9556920"/>
            <a:ext cx="3960720" cy="30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6</a:t>
            </a:r>
            <a:r>
              <a:rPr b="0" lang="ja-JP" sz="1100" spc="-1" strike="noStrike">
                <a:solidFill>
                  <a:srgbClr val="000000"/>
                </a:solidFill>
                <a:latin typeface="ＭＳ Ｐゴシック"/>
              </a:rPr>
              <a:t>日</a:t>
            </a:r>
            <a:r>
              <a:rPr b="0" lang="ja-JP" sz="1100" spc="-1" strike="noStrike">
                <a:solidFill>
                  <a:srgbClr val="000000"/>
                </a:solidFill>
                <a:latin typeface="Arial"/>
              </a:rPr>
              <a:t>　岩手県立葛巻学校長　和田健利</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教職員一人当たりの平均時間外在校等時間を </a:t>
            </a:r>
            <a:r>
              <a:rPr b="0" lang="en-US" sz="1200" spc="-1" strike="noStrike">
                <a:solidFill>
                  <a:srgbClr val="000000"/>
                </a:solidFill>
                <a:latin typeface="Arial"/>
              </a:rPr>
              <a:t>80 </a:t>
            </a:r>
            <a:r>
              <a:rPr b="0" lang="ja-JP" sz="1200" spc="-1" strike="noStrike">
                <a:solidFill>
                  <a:srgbClr val="000000"/>
                </a:solidFill>
                <a:latin typeface="Arial"/>
              </a:rPr>
              <a:t>時間以内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年次休暇の平均取得日数を</a:t>
            </a:r>
            <a:r>
              <a:rPr b="0" lang="en-US" sz="1200" spc="-1" strike="noStrike">
                <a:solidFill>
                  <a:srgbClr val="000000"/>
                </a:solidFill>
                <a:latin typeface="Arial"/>
              </a:rPr>
              <a:t> </a:t>
            </a:r>
            <a:r>
              <a:rPr b="0" lang="en-US" sz="1200" spc="-1" strike="noStrike">
                <a:solidFill>
                  <a:srgbClr val="000000"/>
                </a:solidFill>
                <a:latin typeface="Arial"/>
              </a:rPr>
              <a:t>15 </a:t>
            </a:r>
            <a:r>
              <a:rPr b="0" lang="ja-JP" sz="1200" spc="-1" strike="noStrike">
                <a:solidFill>
                  <a:srgbClr val="000000"/>
                </a:solidFill>
                <a:latin typeface="Arial"/>
              </a:rPr>
              <a:t>日とすること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学校評価「教職員が意欲的に取り組める環境にある。」「気軽に相談しあえ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職場の人間関係ができている。」の項目評価値が</a:t>
            </a:r>
            <a:r>
              <a:rPr b="0" lang="en-US" sz="1200" spc="-1" strike="noStrike">
                <a:solidFill>
                  <a:srgbClr val="000000"/>
                </a:solidFill>
                <a:latin typeface="Arial"/>
              </a:rPr>
              <a:t>3.0</a:t>
            </a:r>
            <a:r>
              <a:rPr b="0" lang="ja-JP" sz="1200" spc="-1" strike="noStrike">
                <a:solidFill>
                  <a:srgbClr val="000000"/>
                </a:solidFill>
                <a:latin typeface="Arial"/>
              </a:rPr>
              <a:t>とすることを目指します。</a:t>
            </a:r>
            <a:endParaRPr b="0" lang="en-US" sz="12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教職員一人一人が、教育への強い使命感を持ち、健康でいきいきとやりがいをもちながら業務に取り組んでい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教職員が、授業や授業準備等に集中できる時間、生徒と向き合うことができる時間を十分に確保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管理</a:t>
            </a:r>
            <a:r>
              <a:rPr b="0" lang="ja-JP" sz="1200" spc="-1" strike="noStrike">
                <a:solidFill>
                  <a:srgbClr val="000000"/>
                </a:solidFill>
                <a:latin typeface="Arial"/>
              </a:rPr>
              <a:t>職が、日頃から教職員の勤務状況や業務の進捗状況等を把握し、時間外勤務の縮減や健康管理の推進など、適切なマネジメントを行っている。</a:t>
            </a: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p:txBody>
      </p:sp>
      <p:graphicFrame>
        <p:nvGraphicFramePr>
          <p:cNvPr id="61" name=""/>
          <p:cNvGraphicFramePr/>
          <p:nvPr/>
        </p:nvGraphicFramePr>
        <p:xfrm>
          <a:off x="1055520" y="5367240"/>
          <a:ext cx="11795400" cy="3078360"/>
        </p:xfrm>
        <a:graphic>
          <a:graphicData uri="http://schemas.openxmlformats.org/drawingml/2006/table">
            <a:tbl>
              <a:tblPr/>
              <a:tblGrid>
                <a:gridCol w="816120"/>
                <a:gridCol w="2016000"/>
                <a:gridCol w="896328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勤務時間を客観的に把握し、時間外在校等時間の縮減等に向けた対策を講じるなど、「勤務時間の適正管理」に取り組みます。</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宿泊を伴う生徒引率や出張の場合は振替休日の取得の有無を確認したり、考査期間などの休暇の取りやすい時期は、管理職が積極的に休暇の取得を促し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6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役割分担及び業務の適正化を図り、「チーム学校」として業務改善の推進に取り組みます。　</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会議等の簡略化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た授業の効率化等、多忙化解消に向けた対策を検討し、「労働安全衛生体制の確立」に向けて取り組みます。</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休養日等を定めた「学校の部活動に係る活動方針」に基づき、「部活動の適正な運営」に取り組み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勤務状況の把握や業務内容の見直しを図り、業務のスクラップアンドビルドについて検討するなど、「教職員の業務改善」に向けた取り組みを推進します。　</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校の教職員・生徒や保護者、地域と一体となって高校の魅力化推進に向けて取り組み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Ｐゴシック"/>
                        </a:rPr>
                        <a:t>　　長時間勤務・遠距離通勤等により、疲労の蓄積や慢性的ストレスを抱える教職員への声掛け、悩みを相談できる雰囲気作り、必要に応じて産業医の保健指導を促すなど、　「心と身体の健康対策」を推進し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均</cp:lastModifiedBy>
  <cp:lastPrinted>2024-05-02T00:16:09Z</cp:lastPrinted>
  <dcterms:modified xsi:type="dcterms:W3CDTF">2024-05-02T00:16:13Z</dcterms:modified>
  <cp:revision>986</cp:revision>
  <dc:subject/>
  <dc:title>スライド 1</dc:title>
</cp:coreProperties>
</file>