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280D-E7DE-4A57-BC0F-6224A355039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9A1-95D6-402B-9C9B-EC583C9F3CB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53D-F0BC-4698-A928-908AF87C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5A5-83D4-421D-B180-B190397A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31D-C222-413F-B179-A652F2A7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979-C42B-4034-8CE5-2C3A629A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1F9-3DD0-41F1-843F-361DD0FC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56E-D696-41E6-A344-AC56098E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5B1-6313-44C9-8672-ABB2681B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8DC-32BC-4FAF-BE27-21CF61CD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F30-8D41-4C7C-9195-E0E1AA3D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9E6-0B29-40E6-935B-06C0A607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A35-D175-42B4-8ED8-6414956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77E-3DF5-47CC-9329-9384AE54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05E0-9E45-41FF-B049-16BE4F928F1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盛岡聴覚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「チーム盛聴」：目配り、気配り、細やかな連携で着実な推進 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1257480" y="110016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盛岡聴覚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.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.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盛聴フライデー等の取り組みにより定時退庁の意識が高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時間外勤務している教職員が固定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職員全体で意欲的に聴覚支援教育に取り組む姿勢を大切に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やりがいのある職場環境の実現に取り組んで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盛岡聴覚支援学校長　森山　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月の平均時間外在校等時間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 以下と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月に１回以上の年次休暇の取得及び年間に１日単位で５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 以上の取得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513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こどもたちへの質の高い教育を持続的に提供し得る観点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  ら働き方の見直しが図られ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、やりがいを感じながら業務に取り組んで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会議等を通じて教職員に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健康管理や必要な通院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の中間で２０時間超となった教職員に声掛けし、健康確保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観点から、業務分担の見直しや取り組みについてアドバイス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行事等について、教育において真に必要な観点から業務の見直し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保護者へのお知らせについて、メールやブログ等の活用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周知を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業務分担の明確化、適正化が図られるよう「チーム盛聴」として全体で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0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分以内の会議の実施（職員会議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分）」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藤　修子</cp:lastModifiedBy>
  <cp:lastPrinted>2024-04-25T07:03:35Z</cp:lastPrinted>
  <dcterms:modified xsi:type="dcterms:W3CDTF">2024-05-15T23:56:02Z</dcterms:modified>
  <cp:revision>990</cp:revision>
  <dc:subject/>
  <dc:title>スライド 1</dc:title>
</cp:coreProperties>
</file>