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97EF-A33F-49C6-8E4B-33C754D6D27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6854-D33F-4B8C-B0BB-C231BA2A1EE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4D7-A4D5-405D-82A0-3BB9D827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591-DAB0-48AD-A2D3-CFFAAA91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9C0-9DDB-4E92-A7E2-57BB9C30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D5B-1300-4B80-B74A-93D105F4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CF7-1A25-4642-9F21-7CBF1F5C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E4D-2072-4A90-9C7A-470E6BBB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D80-CC56-40F0-A991-25FB7843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D42-B5B3-44E0-8372-E3FE6F8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4AC-E93F-47D8-960B-9D2F2E88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489-28C1-4D82-8211-D33F644F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426-9674-4CB4-962E-9E2A426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78C-4278-46D5-B1FC-0B17033D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D311-0BC6-4F78-A84F-C2B51F1E4FB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花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やりがいと希望のもてる職場づくり 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教職員数が少ないため、一人あたりの担当業務の種類が多くなり、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多忙感につな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からの改善提言等に対して、できることから業務の軽減や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善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928000" y="9540720"/>
            <a:ext cx="4953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花泉高等学校長　橋本　ゆか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が前年度実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より減少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計画的取得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生徒への質の高い教育を持続的に提供し得る観点から働き方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　見直しが図られて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教職員一人一人が、やりがいを感じながら業務に取り組んで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共有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通信等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多忙化解消・健康管理・メンタル相談について積極的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時間外在校時間が１日２時間以内とすることを心がけるよう教職員に周知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各種業務について、一人に負担がかからないよう業務の見直し・軽減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会議等について、紙資料配付の廃止や、時間の短縮など更なる効率化を図り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お知ら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休養日の徹底とともに、より効率的・効果的な部活動の実施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月の中間時点での時間外在校等時間について、教職員個々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伝達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総司</cp:lastModifiedBy>
  <cp:lastPrinted>2024-05-15T01:44:56Z</cp:lastPrinted>
  <dcterms:modified xsi:type="dcterms:W3CDTF">2024-05-15T01:44:57Z</dcterms:modified>
  <cp:revision>987</cp:revision>
  <dc:subject/>
  <dc:title>スライド 1</dc:title>
</cp:coreProperties>
</file>