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9977-A799-4226-8D01-967C67B72D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236A-DD11-4408-A910-C0CE39408B7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0CF44-16AA-4C51-9DC1-B8A07CA24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6298A-8D6E-4B79-B391-DE2213871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4A0CD-7799-4857-96E9-0CBBA3B4A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12032-205D-4113-8781-0428B499D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122BC-6F65-466F-BFF1-5BC440C9F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0C460-1D34-44A7-8656-471060B90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FC553-1AD3-4093-BF0C-D71865E9A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7D530-0911-45B8-9368-5A136502D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2E0BA-AE9D-43AF-BDBF-574BBD9D0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825D9-3DFF-4E64-935E-BE73515FB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19421-FA5C-43B7-8EB1-997FCA251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A5F04-7681-4CF8-B86E-890C43BBE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BEAE-8A0C-46A0-9C0F-54315D62DB5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雫石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点滴穿石」～</a:t>
            </a:r>
            <a:r>
              <a:rPr b="0" i="1" lang="ja-JP" sz="2000" spc="-1" strike="noStrike">
                <a:solidFill>
                  <a:srgbClr val="7f7f7f"/>
                </a:solidFill>
                <a:latin typeface="HGS創英角ｺﾞｼｯｸUB"/>
                <a:ea typeface="HGS創英角ｺﾞｼｯｸUB"/>
              </a:rPr>
              <a:t>小さな取り組みを積み重ね、幸せな職場を創る</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雫石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3.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1.3</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1</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のアクションプランの取組が全教職員に浸透しているもの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課外活動を担う教職員の時間外勤務が多くならざるをえな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退勤時刻を意識した働き方を推進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随時業務の効率化を図るための見直し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０日　雫石高等学校長　菊池由美子</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28</a:t>
            </a:r>
            <a:r>
              <a:rPr b="0" lang="ja-JP" sz="1600" spc="-1" strike="noStrike">
                <a:solidFill>
                  <a:srgbClr val="000000"/>
                </a:solidFill>
                <a:latin typeface="Arial"/>
              </a:rPr>
              <a:t>時間以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以上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生き生きと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および学校通信「穿石」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様々な機会を捉え、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0193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暇・振替等の取得を促進し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長時間勤務等により疲労の蓄積やストレスを感じている教職員への面談を通</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して心と体の健康状態の把握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や分掌業務について、教育において真に必要な観点から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有効活用し、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54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周知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地域連携活動については、役割分担を明確にし、業務内容の適正化を図るよう関係団体</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との協議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18400">
                <a:tc gridSpan="2">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重点取組事項</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時間外の外部対応についてシステムの見直し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田友哉</cp:lastModifiedBy>
  <cp:lastPrinted>2024-07-10T02:51:04Z</cp:lastPrinted>
  <dcterms:modified xsi:type="dcterms:W3CDTF">2024-07-10T02:51:27Z</dcterms:modified>
  <cp:revision>986</cp:revision>
  <dc:subject/>
  <dc:title>スライド 1</dc:title>
</cp:coreProperties>
</file>