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940A-4B02-4916-8F85-2D24DAFEA71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3A47-A164-44C1-AE7F-C73116F9AC61}"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81C9D-1764-4DDB-8D6F-425D5ED86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07DAE-D860-4D09-A1B1-5731397B4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92C99-ECCF-477D-874C-33B8374BA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8460E-BF64-4D4E-B052-A03BEA40B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01BC3-46D7-42F2-AC7F-4D3875C6D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50539-DA2A-4164-9E31-3630ADFCB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91616-05B7-43BD-B63A-BB595AA88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1A914-DD63-45F6-915B-A6D187FDD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3EC9D-FA46-41AC-B740-4222C167C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AA08A-EC82-4E5A-85F0-6F3393E7E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5FE68-1859-431F-AEEA-CAB3371A7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ED6EE-15B1-46A1-A5EE-52407ABA4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F2A0-CB46-46FF-84C5-A29988BBB07C}"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前沢高等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前沢高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４年：</a:t>
            </a:r>
            <a:r>
              <a:rPr b="0" lang="en-US" sz="1400" spc="-1" strike="noStrike">
                <a:solidFill>
                  <a:srgbClr val="000000"/>
                </a:solidFill>
                <a:latin typeface="Arial"/>
              </a:rPr>
              <a:t>14.6</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a:t>
            </a:r>
            <a:r>
              <a:rPr b="0" lang="en-US" sz="1400" spc="-1" strike="noStrike">
                <a:solidFill>
                  <a:srgbClr val="000000"/>
                </a:solidFill>
                <a:latin typeface="Arial"/>
              </a:rPr>
              <a:t>16.1</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週末の大会引率等の振替取得が難し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７日　前沢高等学校長　佐藤文子</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教職員一人当たりの平均時間外在校等時間を</a:t>
            </a:r>
            <a:r>
              <a:rPr b="0" lang="en-US" sz="1400" spc="-1" strike="noStrike">
                <a:solidFill>
                  <a:srgbClr val="000000"/>
                </a:solidFill>
                <a:latin typeface="Arial"/>
              </a:rPr>
              <a:t>45</a:t>
            </a:r>
            <a:r>
              <a:rPr b="0" lang="ja-JP" sz="1400" spc="-1" strike="noStrike">
                <a:solidFill>
                  <a:srgbClr val="000000"/>
                </a:solidFill>
                <a:latin typeface="Arial"/>
              </a:rPr>
              <a:t>時間とすることを</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目指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年次休暇の平均取得日数を</a:t>
            </a:r>
            <a:r>
              <a:rPr b="0" lang="en-US" sz="1400" spc="-1" strike="noStrike">
                <a:solidFill>
                  <a:srgbClr val="000000"/>
                </a:solidFill>
                <a:latin typeface="Arial"/>
              </a:rPr>
              <a:t>17</a:t>
            </a:r>
            <a:r>
              <a:rPr b="0" lang="ja-JP" sz="1400" spc="-1" strike="noStrike">
                <a:solidFill>
                  <a:srgbClr val="000000"/>
                </a:solidFill>
                <a:latin typeface="Arial"/>
              </a:rPr>
              <a:t>日以上にします。</a:t>
            </a:r>
            <a:endParaRPr b="0" lang="en-US" sz="14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目指す姿</a:t>
            </a:r>
            <a:r>
              <a:rPr b="0" lang="en-US" sz="1400" spc="-1" strike="noStrike">
                <a:solidFill>
                  <a:srgbClr val="000000"/>
                </a:solidFill>
                <a:latin typeface="Arial"/>
              </a:rPr>
              <a:t>】</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質の高い教育を持続的提供のため、授業準備の時間を十分に確保</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で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一人一人が、働きがいを感じながら業務に取り組んで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が、家庭のための時間や自由時間を確保で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が、健康でいきいきと業務をおこなっている。</a:t>
            </a: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a:t>
            </a:r>
            <a:r>
              <a:rPr b="0" lang="ja-JP" sz="1600" spc="-1" strike="noStrike">
                <a:solidFill>
                  <a:srgbClr val="000000"/>
                </a:solidFill>
                <a:latin typeface="Arial"/>
              </a:rPr>
              <a:t>アクションプランを学校の</a:t>
            </a:r>
            <a:r>
              <a:rPr b="0" lang="en-US" sz="1600" spc="-1" strike="noStrike">
                <a:solidFill>
                  <a:srgbClr val="000000"/>
                </a:solidFill>
                <a:latin typeface="Arial"/>
              </a:rPr>
              <a:t>HP</a:t>
            </a:r>
            <a:r>
              <a:rPr b="0" lang="ja-JP" sz="1600" spc="-1" strike="noStrike">
                <a:solidFill>
                  <a:srgbClr val="000000"/>
                </a:solidFill>
                <a:latin typeface="Arial"/>
              </a:rPr>
              <a:t>に掲載し、地域・保護者に働き方改革の理解醸成を促進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　会議等を通じて教職員にも周知する。</a:t>
            </a:r>
            <a:endParaRPr b="0" lang="en-US" sz="16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管理職が、メンタルヘルス対策について呼びかけ等の取組を行う。</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休日の部活動従事日が月途中で３日超となった教職員に声掛けし、健康確保の観点から、計画的な</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休暇取得等を促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各業務において、ＩＣＴの積極的な活用を進める。（ペーパーレス化等）</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職員定数減による負担増加にならないよう、業務内容の精査を進める。</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働き方改革の取組について、保護者や地域の方に理解いただけるよう情報発信をする。</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課外や部活動等については、外部人材を積極的に活用する。</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ノー残業デーの実施。</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全教職員が年次休暇等の取得日数を増加させる。</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藤　文子</cp:lastModifiedBy>
  <cp:lastPrinted>2024-05-02T06:05:58Z</cp:lastPrinted>
  <dcterms:modified xsi:type="dcterms:W3CDTF">2024-05-07T04:35:33Z</dcterms:modified>
  <cp:revision>983</cp:revision>
  <dc:subject/>
  <dc:title>スライド 1</dc:title>
</cp:coreProperties>
</file>