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850D-36D6-45AA-9DB1-4228A32104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A684-BC8E-488A-858D-AF75D435F6C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5" name="PlaceHolder 1"/>
          <p:cNvSpPr>
            <a:spLocks noGrp="1"/>
          </p:cNvSpPr>
          <p:nvPr>
            <p:ph type="sldImg"/>
          </p:nvPr>
        </p:nvSpPr>
        <p:spPr>
          <a:xfrm>
            <a:off x="874800" y="744480"/>
            <a:ext cx="5057640" cy="3727440"/>
          </a:xfrm>
          <a:prstGeom prst="rect">
            <a:avLst/>
          </a:prstGeom>
          <a:ln w="0">
            <a:noFill/>
          </a:ln>
        </p:spPr>
      </p:sp>
      <p:sp>
        <p:nvSpPr>
          <p:cNvPr id="66"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BE7CD-D216-4B08-9C50-230BBE3D5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CEA7B-90A4-4BE6-99E9-D3FD0342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49876-2C4E-4F63-825C-D4499D094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8DF14-6E4D-49E5-8812-38C3BD6BB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630E-206F-49E0-BFD6-B620184E5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3275-EAFD-4178-8060-293D9A4F0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8CA4-F536-4EA3-9246-B2C65EDE7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E008B-CB43-4275-A6D7-20E04DEEF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4C8A-1B16-45E5-A286-B900CD9FB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E7A6E-9F3D-483C-9BBE-660681867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FFD78-3A79-4A79-B457-67535517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7F27-E57E-47F8-BB3D-C2760E728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ADB9-E866-4EA7-BABE-DF88C4F3D51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0"/>
            <a:ext cx="11449080" cy="10270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盛岡視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ウェルビーイングな職場づくり～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647640" y="1101600"/>
            <a:ext cx="1281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視覚支援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5.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6.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7.4</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施錠時間前に退勤するという意識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数減の状況の中で組織の見直しを図りながら業務見直し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640720" y="957564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日　盛岡視覚支援学校長　近藤健一</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正方形/長方形 3"/>
          <p:cNvSpPr/>
          <p:nvPr/>
        </p:nvSpPr>
        <p:spPr>
          <a:xfrm>
            <a:off x="14185800" y="530280"/>
            <a:ext cx="1295640" cy="544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000000"/>
                </a:solidFill>
                <a:latin typeface="Arial"/>
              </a:rPr>
              <a:t>策定例</a:t>
            </a:r>
            <a:endParaRPr b="0" lang="en-US" sz="2500" spc="-1" strike="noStrike">
              <a:solidFill>
                <a:srgbClr val="000000"/>
              </a:solidFill>
              <a:latin typeface="Arial"/>
            </a:endParaRPr>
          </a:p>
        </p:txBody>
      </p:sp>
      <p:sp>
        <p:nvSpPr>
          <p:cNvPr id="58" name="Rectangle 70"/>
          <p:cNvSpPr/>
          <p:nvPr/>
        </p:nvSpPr>
        <p:spPr>
          <a:xfrm>
            <a:off x="7213680" y="2165400"/>
            <a:ext cx="574812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働き方改革プランの目標を達成しながら、職員全員が学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評価で働きがいのある職場と答えられるよう取り組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〇研修や教材研究等の授業準備に充てる時間を確保し、視覚</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障がいに関する専門性、授業力の向上を目指します。</a:t>
            </a:r>
            <a:endParaRPr b="0" lang="en-US" sz="1600" spc="-1" strike="noStrike">
              <a:solidFill>
                <a:srgbClr val="000000"/>
              </a:solidFill>
              <a:latin typeface="Arial"/>
            </a:endParaRPr>
          </a:p>
        </p:txBody>
      </p:sp>
      <p:sp>
        <p:nvSpPr>
          <p:cNvPr id="59" name="Rectangle 70"/>
          <p:cNvSpPr/>
          <p:nvPr/>
        </p:nvSpPr>
        <p:spPr>
          <a:xfrm>
            <a:off x="7215120" y="3433680"/>
            <a:ext cx="5591160" cy="1613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幼児児童生徒へ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お互いを気遣い、心身共に健康でやり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を感じながら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が、家庭のための時間や自由時間を確保できている。</a:t>
            </a:r>
            <a:endParaRPr b="0" lang="en-US" sz="1600" spc="-1" strike="noStrike">
              <a:solidFill>
                <a:srgbClr val="000000"/>
              </a:solidFill>
              <a:latin typeface="Arial"/>
            </a:endParaRPr>
          </a:p>
        </p:txBody>
      </p:sp>
      <p:sp>
        <p:nvSpPr>
          <p:cNvPr id="60"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1" name="Rectangle 70"/>
          <p:cNvSpPr/>
          <p:nvPr/>
        </p:nvSpPr>
        <p:spPr>
          <a:xfrm>
            <a:off x="1025640" y="9015480"/>
            <a:ext cx="11795040" cy="522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学校運営協議会等の会議やホームページを通じて、地域・保護者に対してプランの内容の説明を行います。</a:t>
            </a:r>
            <a:endParaRPr b="0" lang="en-US" sz="1800" spc="-1" strike="noStrike">
              <a:solidFill>
                <a:srgbClr val="000000"/>
              </a:solidFill>
              <a:latin typeface="Arial"/>
            </a:endParaRPr>
          </a:p>
        </p:txBody>
      </p:sp>
      <p:graphicFrame>
        <p:nvGraphicFramePr>
          <p:cNvPr id="62" name=""/>
          <p:cNvGraphicFramePr/>
          <p:nvPr/>
        </p:nvGraphicFramePr>
        <p:xfrm>
          <a:off x="1022400" y="5448240"/>
          <a:ext cx="11795040" cy="368784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定時退庁や心身のリフレッシュ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衛生委員会（拡大衛生委員会）を毎月実施し健康管理について情報共有及び意識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オンラインの活用、資料の事前配付、終了時刻の明確化、進行の工夫等により、会議の効率化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職員の意識改革を目的に、週に</a:t>
                      </a:r>
                      <a:r>
                        <a:rPr b="0" lang="en-US" sz="1800" spc="-1" strike="noStrike">
                          <a:solidFill>
                            <a:srgbClr val="000000"/>
                          </a:solidFill>
                          <a:latin typeface="ＭＳ Ｐゴシック"/>
                        </a:rPr>
                        <a:t>1</a:t>
                      </a:r>
                      <a:r>
                        <a:rPr b="0" lang="ja-JP" sz="1800" spc="-1" strike="noStrike">
                          <a:solidFill>
                            <a:srgbClr val="000000"/>
                          </a:solidFill>
                          <a:latin typeface="ＭＳ Ｐゴシック"/>
                        </a:rPr>
                        <a:t>度「定時退庁日」を設定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家庭への連絡にメールを活用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業務の平準化のために引き続き分掌・組織、業務の分担の見直し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参加する研修や会議にオンライン等を活用し、移動にかかる時間や身体的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更に積極的な協働を進め、個人の負担軽減、専門性の継承を進める業務の推進をおこな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3"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村　和弘</cp:lastModifiedBy>
  <cp:lastPrinted>2024-04-10T04:27:27Z</cp:lastPrinted>
  <dcterms:modified xsi:type="dcterms:W3CDTF">2024-05-19T23:55:09Z</dcterms:modified>
  <cp:revision>989</cp:revision>
  <dc:subject/>
  <dc:title>スライド 1</dc:title>
</cp:coreProperties>
</file>