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BC62-6F20-4BF1-AFE3-08BB27FDB09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9167-3065-4E37-BB49-3FC2A3FD598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42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F0F-DECA-4831-9DA4-1C25302E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19F-B5A3-47B4-BE09-125DE1FF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0E6-76BD-4F03-898B-1BD29D4B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6DE-88FF-44D2-B305-524B660D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F82-3A42-42CE-B345-4F09B12F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A4D-79E9-49CB-86C8-55552D5D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18A-FF21-4C3A-ADA3-8C43CB6D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6C9-FF71-42E4-B0CA-E68ACEB9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484-2A57-4A5C-8B01-E53F53C6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F70-1D3C-403D-97A1-38C708F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668-A13B-4BA7-BA6E-E1EF9D4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4AE-3890-4B5C-A5B1-2DD9BB5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2A26-A326-49EA-B635-B98C9392CA84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23" descr=""/>
          <p:cNvPicPr/>
          <p:nvPr/>
        </p:nvPicPr>
        <p:blipFill>
          <a:blip r:embed="rId1"/>
          <a:stretch/>
        </p:blipFill>
        <p:spPr>
          <a:xfrm>
            <a:off x="1200240" y="85680"/>
            <a:ext cx="11558520" cy="1023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04940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宮古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　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教職員の割合（％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Ｒ４年度０％、Ｒ５年度：０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　時間外在校等時間（週休日の部活動指導従事時間を除く）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月４５時間以上の延べ数の割合 　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Ｒ４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2.7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、Ｒ５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8.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 年３６０時間以上の教職員の割合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Ｒ４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2.6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、Ｒ５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9.3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Ｒ４年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2.9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日、Ｒ５年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4.9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上記の結果から、教職員の意識は向上し働き方改革が進んで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といえるが、時間外在校等時間の値は高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569440" y="949320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岩手県立宮古高等学校長　髙　橋　　　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学校独自の目標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時間外在校等時間（週休日の部活動指導従事時間を含む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が月４５時間以上の延べ数の割合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.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％以下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度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.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％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以上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が心身ともに健康で充実感を得ながら働くことが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きる職場環境づくりの観点から、一人ひとりが働き方改革を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識し、継続的に実践し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アクション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広く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教職員に対しては、職員会議を通じて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長時間勤務の教職員と面談しながら、勤務時間の適正化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年次休暇等を活用しやすい環境整備に努め、教職員が心身ともに健康で働くことがで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る職場環境づくり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校務運営委員会等を活用しながら、業務の見直し、改善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ＩＣＴの積極的活用を図りながら、業務量の軽減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勤務時間外の業務の適正化に向け、関係団体や保護者と協議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留守番電話を有効活用しながら、教職員の勤務時間外業務の適正化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C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活用した自動採点システムを導入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玲一郎</cp:lastModifiedBy>
  <cp:lastPrinted>2024-05-17T03:15:29Z</cp:lastPrinted>
  <dcterms:modified xsi:type="dcterms:W3CDTF">2024-05-17T06:21:04Z</dcterms:modified>
  <cp:revision>998</cp:revision>
  <dc:subject/>
  <dc:title>スライド 1</dc:title>
</cp:coreProperties>
</file>