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4024440" y="0"/>
            <a:ext cx="3078000" cy="5112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47880" y="766440"/>
            <a:ext cx="5208480" cy="3838680"/>
          </a:xfrm>
          <a:prstGeom prst="rect">
            <a:avLst/>
          </a:prstGeom>
          <a:noFill/>
          <a:ln w="9360">
            <a:solidFill>
              <a:srgbClr val="000000"/>
            </a:solidFill>
            <a:miter/>
          </a:ln>
        </p:spPr>
        <p:txBody>
          <a:bodyPr lIns="99000" rIns="99000" tIns="49320" bIns="493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709200" y="4860720"/>
            <a:ext cx="5684760" cy="4606920"/>
          </a:xfrm>
          <a:prstGeom prst="rect">
            <a:avLst/>
          </a:prstGeom>
          <a:noFill/>
          <a:ln w="0">
            <a:noFill/>
          </a:ln>
        </p:spPr>
        <p:txBody>
          <a:bodyPr lIns="99000" rIns="99000" tIns="49320" bIns="493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320" bIns="493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4024440" y="9721800"/>
            <a:ext cx="3078000" cy="511200"/>
          </a:xfrm>
          <a:prstGeom prst="rect">
            <a:avLst/>
          </a:prstGeom>
          <a:noFill/>
          <a:ln w="0">
            <a:noFill/>
          </a:ln>
        </p:spPr>
        <p:txBody>
          <a:bodyPr lIns="99000" rIns="99000" tIns="49320" bIns="493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710E-C8FC-4BC9-B3BF-CD693A4BFBE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4024440" y="9721800"/>
            <a:ext cx="307800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6757-A1BE-49B9-BBEB-B7BEF57EB6A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947880" y="766800"/>
            <a:ext cx="5208480" cy="3838680"/>
          </a:xfrm>
          <a:prstGeom prst="rect">
            <a:avLst/>
          </a:prstGeom>
          <a:ln w="0">
            <a:noFill/>
          </a:ln>
        </p:spPr>
      </p:sp>
      <p:sp>
        <p:nvSpPr>
          <p:cNvPr id="65" name="PlaceHolder 2"/>
          <p:cNvSpPr>
            <a:spLocks noGrp="1"/>
          </p:cNvSpPr>
          <p:nvPr>
            <p:ph type="body"/>
          </p:nvPr>
        </p:nvSpPr>
        <p:spPr>
          <a:xfrm>
            <a:off x="709200" y="4860720"/>
            <a:ext cx="568476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975E1-9016-4E6E-B3E3-66D2054A8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A12B4-245B-4180-93DC-DA8FB1FD1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7047E-D2D1-44FA-B807-B5F1CE45F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A9E70-D098-4B37-ADE5-ED1FD6814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290BE-A79D-46D0-BBBE-712283D4B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A12C5-3569-46FA-9804-431428967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EE3E7-5649-4FC6-9541-91CCBDD97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3BA8C-0E14-4E22-95EE-7924089FC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AD02F-B3C2-46AB-B81A-9D2779DFC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33B08-BB49-46B3-AB49-515FD9565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04DDB-830B-43AB-AA49-B9F610A06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9BA05-4DC6-4AC9-BA2B-FCD84D5CE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5A135-EB57-4F92-AD96-519E4BF0C791}"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岩手県立水沢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ＭＳ Ｐゴシック"/>
              </a:rPr>
              <a:t>水高版ｳｴﾙﾋﾞｰｲﾝｸﾞの実現に向けて</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水沢高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3.1</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3.7</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業務に対する熱心な取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平日の場合、定時退庁が難し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週末の部活指導時間が多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353440" y="953136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４月２３日　岩手県立水沢高等学校長　寒河江和広</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教職員一人当たりの平均時間外在校等時間を</a:t>
            </a:r>
            <a:r>
              <a:rPr b="0" lang="en-US" sz="1400" spc="-1" strike="noStrike">
                <a:solidFill>
                  <a:srgbClr val="000000"/>
                </a:solidFill>
                <a:latin typeface="Arial"/>
              </a:rPr>
              <a:t>80</a:t>
            </a:r>
            <a:r>
              <a:rPr b="0" lang="ja-JP" sz="1400" spc="-1" strike="noStrike">
                <a:solidFill>
                  <a:srgbClr val="000000"/>
                </a:solidFill>
                <a:latin typeface="Arial"/>
              </a:rPr>
              <a:t>時間以下と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年次休暇の平均取得日数を</a:t>
            </a:r>
            <a:r>
              <a:rPr b="0" lang="en-US" sz="1400" spc="-1" strike="noStrike">
                <a:solidFill>
                  <a:srgbClr val="000000"/>
                </a:solidFill>
                <a:latin typeface="Arial"/>
              </a:rPr>
              <a:t>15</a:t>
            </a:r>
            <a:r>
              <a:rPr b="0" lang="ja-JP" sz="1400" spc="-1" strike="noStrike">
                <a:solidFill>
                  <a:srgbClr val="000000"/>
                </a:solidFill>
                <a:latin typeface="Arial"/>
              </a:rPr>
              <a:t>日以上に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〇　必要な時に休める雰囲気を醸成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〇　授業の準備に時間が取れるように、業務の平準化を目指す。</a:t>
            </a:r>
            <a:endParaRPr b="0" lang="en-US" sz="14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ワークライフバランスを意識した働き方を全教職員で意識し、仕事と私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生活を両立できていると感じられる職場とな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質の高い教育が実践でき、生徒、保護者、教職員の満足度の向上を</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目指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メンタルヘルスについて全体で取り組む職場となっている。</a:t>
            </a:r>
            <a:endParaRPr b="0" lang="en-US" sz="14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アクション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ＰＴＡの会議等を通じて、保護者に対してアクション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3078360"/>
        </p:xfrm>
        <a:graphic>
          <a:graphicData uri="http://schemas.openxmlformats.org/drawingml/2006/table">
            <a:tbl>
              <a:tblPr/>
              <a:tblGrid>
                <a:gridCol w="815760"/>
                <a:gridCol w="2016360"/>
                <a:gridCol w="8962920"/>
              </a:tblGrid>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管理職が、メンタルヘルス対策について周知、呼びかけを行う。</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時間外在校等時間が８０時間以下となるよう、毎日の勤務時間に気を配り業務改善について相談に</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応じ、必要に応じて助言を行う。</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8222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すべての業務においてＩＣＴ化を進める。（紙によるアンケートの廃止、デジタル採点の導入、保護者　</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宛て文書のペーパーレス化など）</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授業における一人一台端末の活用を促進する。（課題の提示、回収）</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部活動における休養日の完全実施に取り組む。</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本来学校が行うべき業務の明確化を行い、その業務を保護者に対して周知し理解いただく。</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週２回の定時退庁の実施。</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全ての教職員において、年次休暇等の平均取得日数が増加する。</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切田　壮</cp:lastModifiedBy>
  <cp:lastPrinted>2024-04-24T01:22:13Z</cp:lastPrinted>
  <dcterms:modified xsi:type="dcterms:W3CDTF">2024-04-24T01:22:18Z</dcterms:modified>
  <cp:revision>985</cp:revision>
  <dc:subject/>
  <dc:title>スライド 1</dc:title>
</cp:coreProperties>
</file>