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535-EA95-4E35-84A7-7ED256F539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27CD-994D-4FC3-BD76-54F64E9D258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ED3-FE56-429E-912F-82B1719F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6B1-2E07-40A8-8BAD-2903D01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500-8260-47B6-8403-C1FA186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4B1-6F2A-47BC-980D-E1E2F11B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64D-D47B-4C0C-9959-878EFDE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200-945C-47DF-ACDD-55502F8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C01-D035-45C8-A07C-2F5AAECD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C6A-07FD-4CEC-81EC-EDE337A4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0D7-EB27-4AD6-8E42-EB74501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4AA-8A6D-417A-B605-32C74BA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389-0D49-4E49-BC49-2035C2B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A8A-F231-4AD3-BE71-3C6EA70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D92-53A2-47C6-896A-76BF4C33ADF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手県立盛岡第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50"/>
                </a:solidFill>
                <a:latin typeface="HGS創英角ｺﾞｼｯｸUB"/>
                <a:ea typeface="HGS創英角ｺﾞｼｯｸUB"/>
              </a:rPr>
              <a:t>～「さわやか三高、ワーク・ライフ・バランスを意識した明るく健康的な職場づく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5840" y="1339920"/>
            <a:ext cx="566100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992160" y="4878360"/>
            <a:ext cx="11783880" cy="41436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31640" y="1030320"/>
            <a:ext cx="127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第三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915840" y="1666800"/>
            <a:ext cx="5661000" cy="3065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未満の者（延べ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（７月以降）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（年間一人当たりの平均取得状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指導のため週休日の指導時間が過多となっている教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週休日の大会が多いと引率時間のみで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に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424720" y="9593280"/>
            <a:ext cx="488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日　盛岡第三高等学校長　木村　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36044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028960"/>
            <a:ext cx="5603760" cy="1074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以内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本校勤務に満足している教職員の割合を伸ば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26280" y="3103560"/>
            <a:ext cx="5591160" cy="174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生徒達への質の高い教育を持続的に提供し得る観点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と感じながら業務に取り組ん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ゆとりを持てる時間を確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981000" y="853740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92160" y="8897760"/>
            <a:ext cx="11795040" cy="665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外部へ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や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2160" y="5302080"/>
          <a:ext cx="11795040" cy="3170520"/>
        </p:xfrm>
        <a:graphic>
          <a:graphicData uri="http://schemas.openxmlformats.org/drawingml/2006/table">
            <a:tbl>
              <a:tblPr/>
              <a:tblGrid>
                <a:gridCol w="816120"/>
                <a:gridCol w="201600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振替や検診の受診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観点から、面談を行い、振替等の取得を促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職員、管理職ともに、一人一人が業務削減に関心を持ち、積極的に提案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RH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事業において、探究活動の視点を外へ向けることで教職員の負担を減ら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TA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等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呼びかけ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おいては、計画的に行うとともに指導の負担が偏らないように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考査時の研修や会議を極力廃止し、年次取得率向上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57880" y="1751040"/>
            <a:ext cx="57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宮山　久美子</cp:lastModifiedBy>
  <cp:lastPrinted>2024-05-01T08:24:04Z</cp:lastPrinted>
  <dcterms:modified xsi:type="dcterms:W3CDTF">2024-05-01T08:24:45Z</dcterms:modified>
  <cp:revision>989</cp:revision>
  <dc:subject/>
  <dc:title>スライド 1</dc:title>
</cp:coreProperties>
</file>