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3075120" cy="511200"/>
          </a:xfrm>
          <a:prstGeom prst="rect">
            <a:avLst/>
          </a:prstGeom>
          <a:noFill/>
          <a:ln w="0">
            <a:noFill/>
          </a:ln>
        </p:spPr>
        <p:txBody>
          <a:bodyPr lIns="98640" rIns="986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8640" rIns="986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944640" y="766440"/>
            <a:ext cx="5209920" cy="3838680"/>
          </a:xfrm>
          <a:prstGeom prst="rect">
            <a:avLst/>
          </a:prstGeom>
          <a:noFill/>
          <a:ln w="9360">
            <a:solidFill>
              <a:srgbClr val="000000"/>
            </a:solidFill>
            <a:miter/>
          </a:ln>
        </p:spPr>
        <p:txBody>
          <a:bodyPr lIns="98640" rIns="98640" tIns="49320" bIns="493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707760" y="4860720"/>
            <a:ext cx="5683320" cy="4606920"/>
          </a:xfrm>
          <a:prstGeom prst="rect">
            <a:avLst/>
          </a:prstGeom>
          <a:noFill/>
          <a:ln w="0">
            <a:noFill/>
          </a:ln>
        </p:spPr>
        <p:txBody>
          <a:bodyPr lIns="98640" rIns="98640" tIns="49320" bIns="493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721800"/>
            <a:ext cx="3075120" cy="511200"/>
          </a:xfrm>
          <a:prstGeom prst="rect">
            <a:avLst/>
          </a:prstGeom>
          <a:noFill/>
          <a:ln w="0">
            <a:noFill/>
          </a:ln>
        </p:spPr>
        <p:txBody>
          <a:bodyPr lIns="98640" rIns="98640" tIns="49320" bIns="493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4021200" y="9721800"/>
            <a:ext cx="3076560" cy="511200"/>
          </a:xfrm>
          <a:prstGeom prst="rect">
            <a:avLst/>
          </a:prstGeom>
          <a:noFill/>
          <a:ln w="0">
            <a:noFill/>
          </a:ln>
        </p:spPr>
        <p:txBody>
          <a:bodyPr lIns="98640" rIns="98640" tIns="49320" bIns="493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D0011-2B7B-439F-ADC0-E5F484286CC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4021200" y="9721800"/>
            <a:ext cx="3076560" cy="511200"/>
          </a:xfrm>
          <a:prstGeom prst="rect">
            <a:avLst/>
          </a:prstGeom>
          <a:noFill/>
          <a:ln w="0">
            <a:noFill/>
          </a:ln>
        </p:spPr>
        <p:style>
          <a:lnRef idx="0"/>
          <a:fillRef idx="0"/>
          <a:effectRef idx="0"/>
          <a:fontRef idx="minor"/>
        </p:style>
        <p:txBody>
          <a:bodyPr lIns="98640" rIns="9864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66B50-932C-4321-91B2-B8205070B717}"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944640" y="766800"/>
            <a:ext cx="5209920" cy="3838680"/>
          </a:xfrm>
          <a:prstGeom prst="rect">
            <a:avLst/>
          </a:prstGeom>
          <a:ln w="0">
            <a:noFill/>
          </a:ln>
        </p:spPr>
      </p:sp>
      <p:sp>
        <p:nvSpPr>
          <p:cNvPr id="65" name="PlaceHolder 2"/>
          <p:cNvSpPr>
            <a:spLocks noGrp="1"/>
          </p:cNvSpPr>
          <p:nvPr>
            <p:ph type="body"/>
          </p:nvPr>
        </p:nvSpPr>
        <p:spPr>
          <a:xfrm>
            <a:off x="707760" y="4860720"/>
            <a:ext cx="568332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8F8184-866A-4098-9CFB-D487C3676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5B7F7-7AB0-4619-BB9E-53DD42F1A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2CB9CC-ACBE-4E19-8AA5-3752FDAAAA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B556A-7E43-4152-A869-F385916193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A7E19-8606-4485-9A2A-76798C4F3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93D62-36A6-415C-81DE-3CA65F339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125B6-E4B2-400C-82C9-F22303785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0C52D-0C5E-4307-A535-E6E9B509C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66A99-38E5-4EE0-B638-6A7B6E7B8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6F9D0-6F2B-46FA-82AC-159DEBC3B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BD98B-6199-4250-B30E-E3E9FE1E1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55457-B9BB-4709-9D4F-F889D39A66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32C94-2EC8-4F45-A226-8B325EB4A767}"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一関第二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a:t>
            </a:r>
            <a:r>
              <a:rPr b="0" i="1" lang="ja-JP" sz="2000" spc="-1" strike="noStrike">
                <a:solidFill>
                  <a:srgbClr val="7f7f7f"/>
                </a:solidFill>
                <a:latin typeface="HGS創英角ｺﾞｼｯｸUB"/>
                <a:ea typeface="HGS創英角ｺﾞｼｯｸUB"/>
              </a:rPr>
              <a:t>関二・スマイルプラン</a:t>
            </a:r>
            <a:r>
              <a:rPr b="0" lang="ja-JP" sz="2000" spc="-1" strike="noStrike">
                <a:solidFill>
                  <a:srgbClr val="7f7f7f"/>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一関二高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0</a:t>
            </a:r>
            <a:r>
              <a:rPr b="0" lang="ja-JP" sz="1400" spc="-1" strike="noStrike">
                <a:solidFill>
                  <a:srgbClr val="000000"/>
                </a:solidFill>
                <a:latin typeface="Arial"/>
              </a:rPr>
              <a:t>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14.0</a:t>
            </a:r>
            <a:r>
              <a:rPr b="0" lang="ja-JP" sz="1400" spc="-1" strike="noStrike">
                <a:solidFill>
                  <a:srgbClr val="00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総合学科教育の特徴を生かした魅力づくりに取り組んで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時間外勤務している教職員が固定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スクラップアンドビルドの視点を持って業務見直し等の対応を行っ</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900108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１０日　一関第二高等学校長　佐藤禎信</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教職員の業務の平準化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本校に勤務する先生方の職場満足度の向上を目指します。</a:t>
            </a:r>
            <a:endParaRPr b="0" lang="en-US" sz="16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こどもたちへの質の高い教育を持続的に提供し得る観点から働き方の見直しが図られ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教職員一人一人が、いきいきとやりがいをもって子どもたちに向き合うことができ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教職員が、家庭のための時間や自由時間を確保できている</a:t>
            </a:r>
            <a:r>
              <a:rPr b="0" lang="ja-JP" sz="1600" spc="-1" strike="noStrike">
                <a:solidFill>
                  <a:srgbClr val="000000"/>
                </a:solidFill>
                <a:latin typeface="Arial"/>
              </a:rPr>
              <a:t>。</a:t>
            </a:r>
            <a:endParaRPr b="0" lang="en-US" sz="16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会議等を通じてプランを教職員に周知・徹底を図り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地域・保護者に対して周知します。 </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2925720"/>
        </p:xfrm>
        <a:graphic>
          <a:graphicData uri="http://schemas.openxmlformats.org/drawingml/2006/table">
            <a:tbl>
              <a:tblPr/>
              <a:tblGrid>
                <a:gridCol w="815760"/>
                <a:gridCol w="2016360"/>
                <a:gridCol w="8962920"/>
              </a:tblGrid>
              <a:tr h="913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管理職が、年次休暇及び振替休暇の取得について積極的に呼びかけ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月の時間外在校等時間が月途中で４０時間超となった教職員に声掛けし、健康確保の観点から、必要に応じて面談を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業務・行事ついて、教育において真に必要な観点から見直し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学校</a:t>
                      </a:r>
                      <a:r>
                        <a:rPr b="0" lang="en-US" sz="1800" spc="-1" strike="noStrike">
                          <a:solidFill>
                            <a:srgbClr val="000000"/>
                          </a:solidFill>
                          <a:latin typeface="ＭＳ Ｐゴシック"/>
                        </a:rPr>
                        <a:t>web</a:t>
                      </a:r>
                      <a:r>
                        <a:rPr b="0" lang="ja-JP" sz="1800" spc="-1" strike="noStrike">
                          <a:solidFill>
                            <a:srgbClr val="000000"/>
                          </a:solidFill>
                          <a:latin typeface="ＭＳ Ｐゴシック"/>
                        </a:rPr>
                        <a:t>ページやお知らせメール等の活用により対外的な情報共有の効率化を進め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104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学校関係団体の業務について、担当者の負担軽減を図るよう関係団体と連携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部活動指導について部活動指導員の配置を確保するとともに、地域部活動を研究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職員間の情報の共有化を強化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佐藤　禎信</cp:lastModifiedBy>
  <cp:lastPrinted>2024-05-01T22:42:58Z</cp:lastPrinted>
  <dcterms:modified xsi:type="dcterms:W3CDTF">2024-05-08T00:27:35Z</dcterms:modified>
  <cp:revision>986</cp:revision>
  <dc:subject/>
  <dc:title>スライド 1</dc:title>
</cp:coreProperties>
</file>