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AC13-C1A1-4AB6-92B6-EFEE0FCEED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9D29-53C7-44AF-B9B0-8295AD7B645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77567-8EBD-40AC-B40B-8A4C2F71D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2D4B2-9617-4729-BE7B-9A46057A8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80AF8-7832-4BE4-9FAC-CFF18391F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A5A1A-6DC4-4066-8253-97765D8B9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CB24C-CA4E-4D5F-A259-56199512F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7AE0C-47E9-451E-8433-E48B9D2C0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230A6-E5E5-4FA9-83D3-2B2821199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AD782-92B6-4FF2-9817-B2D792867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44078-2164-4F57-B340-B73704ACE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EA70B-38F0-472B-9578-14B75C638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10B5-9AD6-450E-9E17-A6EB74882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A000B-2617-4AF4-9B1F-419CCF340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283C-5AC8-4628-9FFD-D4E2549C6F8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チーム盛農」で取り組む働き方改革及びワーク・ライフ・バランス</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農業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１３．３日、</a:t>
            </a:r>
            <a:r>
              <a:rPr b="0" lang="en-US" sz="1400" spc="-1" strike="noStrike">
                <a:solidFill>
                  <a:srgbClr val="000000"/>
                </a:solidFill>
                <a:latin typeface="Arial"/>
              </a:rPr>
              <a:t>R</a:t>
            </a:r>
            <a:r>
              <a:rPr b="0" lang="ja-JP" sz="1400" spc="-1" strike="noStrike">
                <a:solidFill>
                  <a:srgbClr val="000000"/>
                </a:solidFill>
                <a:latin typeface="Arial"/>
              </a:rPr>
              <a:t>４年度：１４．３日、</a:t>
            </a:r>
            <a:r>
              <a:rPr b="0" lang="en-US" sz="1400" spc="-1" strike="noStrike">
                <a:solidFill>
                  <a:srgbClr val="000000"/>
                </a:solidFill>
                <a:latin typeface="Arial"/>
              </a:rPr>
              <a:t>R</a:t>
            </a:r>
            <a:r>
              <a:rPr b="0" lang="ja-JP" sz="1400" spc="-1" strike="noStrike">
                <a:solidFill>
                  <a:srgbClr val="000000"/>
                </a:solidFill>
                <a:latin typeface="Arial"/>
              </a:rPr>
              <a:t>５年度：１３．５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ja-JP" sz="1400" spc="-1" strike="noStrike">
                <a:solidFill>
                  <a:srgbClr val="000000"/>
                </a:solidFill>
                <a:latin typeface="ＭＳ Ｐゴシック"/>
              </a:rPr>
              <a:t>指導管理票交付者</a:t>
            </a:r>
            <a:r>
              <a:rPr b="0" lang="en-US" sz="1400" spc="-1" strike="noStrike">
                <a:solidFill>
                  <a:srgbClr val="000000"/>
                </a:solidFill>
                <a:latin typeface="Arial"/>
              </a:rPr>
              <a:t>R</a:t>
            </a:r>
            <a:r>
              <a:rPr b="0" lang="ja-JP" sz="1400" spc="-1" strike="noStrike">
                <a:solidFill>
                  <a:srgbClr val="000000"/>
                </a:solidFill>
                <a:latin typeface="Arial"/>
              </a:rPr>
              <a:t>３年度：３４名、</a:t>
            </a:r>
            <a:r>
              <a:rPr b="0" lang="en-US" sz="1400" spc="-1" strike="noStrike">
                <a:solidFill>
                  <a:srgbClr val="000000"/>
                </a:solidFill>
                <a:latin typeface="Arial"/>
              </a:rPr>
              <a:t>R</a:t>
            </a:r>
            <a:r>
              <a:rPr b="0" lang="ja-JP" sz="1400" spc="-1" strike="noStrike">
                <a:solidFill>
                  <a:srgbClr val="000000"/>
                </a:solidFill>
                <a:latin typeface="Arial"/>
              </a:rPr>
              <a:t>４年度：３１名、</a:t>
            </a:r>
            <a:r>
              <a:rPr b="0" lang="en-US" sz="1400" spc="-1" strike="noStrike">
                <a:solidFill>
                  <a:srgbClr val="000000"/>
                </a:solidFill>
                <a:latin typeface="Arial"/>
              </a:rPr>
              <a:t>R</a:t>
            </a:r>
            <a:r>
              <a:rPr b="0" lang="ja-JP" sz="1400" spc="-1" strike="noStrike">
                <a:solidFill>
                  <a:srgbClr val="000000"/>
                </a:solidFill>
                <a:latin typeface="Arial"/>
              </a:rPr>
              <a:t>５年度：３３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各自で時間外勤務状況の把握は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２５日　岩手県立盛岡農業高等学校長　菊池　郁聡</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３０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以上に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〇　ノー残業デー（毎週月曜日）を確実に実施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活力に満ちて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様々な会議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による教職員面談を実施し、教職員の健康状態の観察・把握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部活動休養日を設定し、教職員の健康保持を推進し、教職員の休養を推奨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日常の業務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種文書の簡素化、ペーパーレス化により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推進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参加の校外行事等について、学校の実情を踏まえて精選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夏季休業中の学校閉庁日を５日とし、教職員のウェルビーイングを確保・向上させ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田友哉</cp:lastModifiedBy>
  <cp:lastPrinted>2024-07-11T06:41:37Z</cp:lastPrinted>
  <dcterms:modified xsi:type="dcterms:W3CDTF">2024-07-11T06:41:59Z</dcterms:modified>
  <cp:revision>994</cp:revision>
  <dc:subject/>
  <dc:title>スライド 1</dc:title>
</cp:coreProperties>
</file>