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6B6F-3840-4F4D-97E9-F3CA2CDC859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C77C-6FDF-4D66-9DB6-03F394CA97B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556-60A8-4564-B524-C839F273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DBD-656E-4E54-88FE-9CE35505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D18-B277-4D0A-BC5B-21B2CAF3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8F7-A42F-4192-8A18-F85BB2C8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049-1EC0-4500-8B8A-353352BC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3A5-5898-4358-AFE8-2872CD4F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BEF-04A4-4838-8951-ECC23C94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EB9-6FB1-47C6-A449-09FFB819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88D-7F02-42E3-8925-C28CE006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26A-8CFB-4F45-B49F-D2FCD3D3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468-DFC7-4873-8591-72E4D646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838-B8BC-47C3-847E-8A29E8AA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3078-0382-4844-8BC1-9F23CD3AFAF3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岩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魅力ある職場と健康的な生活をめざして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岩泉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か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ゼ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9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.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本校で推進する「早く帰る日」の取組がまだ浸透し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特定の部活動顧問に負担が集中しがちであ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面談等によって業務の進捗状況や負担等を把握し、業務内容の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理や振分等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８日　岩泉高等学校長　岩渕　雅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平均時間外在校等時間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と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授業準備にしっかりと時間を確保し、質の高い教育を持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に提供し得る観点から働き方の見直しが図られ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一人が、活力を感じながら業務に取り組んで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の内容を、職員会議等を通じて教職員に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地域回覧板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総会等を通じ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１時間単位の年次休暇取得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が月途中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時間超となった教職員に声掛けし、健康確保の観点から、管理職による面談や業務推進に係る助言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長期休業中の課外授業について、実施内容の精選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部活動指導を複数顧問によって交代で行い、他業務の遂行に要する時間を確保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教員の本来業務以外のものについては、積極的に地域・保護者等へ協力を要請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個々の役割分担を常に見直し、柔軟な発想によって適正化および合理化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会議時間の短縮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岩渕　雅明</cp:lastModifiedBy>
  <cp:lastPrinted>2024-05-07T03:44:36Z</cp:lastPrinted>
  <dcterms:modified xsi:type="dcterms:W3CDTF">2024-05-08T02:00:53Z</dcterms:modified>
  <cp:revision>1005</cp:revision>
  <dc:subject/>
  <dc:title>スライド 1</dc:title>
</cp:coreProperties>
</file>