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8F8-6EF3-4134-AB00-26BEF8AE3A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16F-8C19-41B0-AAEF-F7A7866FE5F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6D6-2903-4768-99A3-95E9699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1BA-1832-4ED3-A342-5057364B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3FE-3601-422A-889A-AEF92983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E45-2659-4CBF-9C35-D30522C1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DA1-41AF-4BD1-AA8A-F974ABD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A1D-F327-4E4A-834E-64688F81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8ED-5DB0-446B-82EA-B941641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E3A-3186-4D88-B468-3376513B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09F-4428-4808-A48A-63AA2DF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D1F-8C83-4D94-8E56-BDC754D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673-337B-4937-8168-13972FA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F7C-307E-4D28-B3B9-C5EFD80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175-C52C-4AD3-9759-9FEA0773AEB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10800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791400"/>
            <a:ext cx="11738160" cy="985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業務内容の見直しを図り、業務の総量を縮減するよう心がけ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８０時間以上の勤務者をゼロを維持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１０日以上が実現できるように、管理職が呼びかける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404040"/>
            <a:ext cx="1174896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令和６年度重点取組事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338120"/>
            <a:ext cx="5545080" cy="3384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89000" y="408780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95320" y="100188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689120"/>
            <a:ext cx="5545080" cy="2311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時間外在校等時間は適正範囲内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年次休暇の取得状況は良好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.06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）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極端に少ない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職員の人数が少なく、一人あたりの業務量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7840" y="4459320"/>
            <a:ext cx="4024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6960" y="44593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9104400" y="950436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大槌高等学校長　志田　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312920"/>
            <a:ext cx="5535720" cy="3636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655640"/>
            <a:ext cx="5535720" cy="23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今年度も時間外在校等時間について留意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すべての職員で業務を分担し、全員が年次休暇の平均取得日数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以上に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指す姿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できる職場環境を整え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180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0920" y="44593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３）業務の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089680" y="4840200"/>
            <a:ext cx="396684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平日１日、週末１日に設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する。また、振替の取得促進を進め、各顧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問の負担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6240" y="4840200"/>
            <a:ext cx="374472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89000" y="4846680"/>
            <a:ext cx="3990960" cy="14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員間の良好な関係維持を図るとともに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心理的安全性の確保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77840" y="807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108080" y="8486640"/>
            <a:ext cx="11737800" cy="986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プランを学校ＨＰに掲載し、会議等を通じて教職員にも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ＰＴＡ会報や町の広報誌を通して、保護者や地域の方々にプランの内容を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伊藤　晃</cp:lastModifiedBy>
  <cp:lastPrinted>2024-05-14T08:07:46Z</cp:lastPrinted>
  <dcterms:modified xsi:type="dcterms:W3CDTF">2024-05-14T08:14:28Z</dcterms:modified>
  <cp:revision>965</cp:revision>
  <dc:subject/>
  <dc:title>スライド 1</dc:title>
</cp:coreProperties>
</file>