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ECE0-BBBA-4362-9B6F-D107DE28CE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72E4-C65E-4734-8976-46C9FC20125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A6CE6-84A1-4DCF-BE01-1B4691518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03B54-338E-4587-9D5E-009E9C8AA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BB75A-8766-4FBE-B085-F6902E417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3D7D6-3EDC-420B-8BEB-F4B112BA2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6D5D5-9CCD-4E66-8815-0BD181E15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1A865-9812-41F3-A1D2-FEB5ABF53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86883-93C6-41C0-AA4C-3BE214039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BC029-F025-4E0A-ABDE-6185D5C04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37464-E968-490A-9F00-1E7CCCE91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88A54-A285-4519-B03A-7BA560832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697F7-5735-4F68-A8B2-091AE51A4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73A74-391F-4687-96ED-4B93C34F0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6503-980B-4322-BA4D-EAC5E1761299}"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大船渡東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職員間が互いに認め合う気風を醸成し、業務改善へ～</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船渡東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7</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で推進する年次取得へ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２日　大船渡東高等学校長　宇夫方  聰</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45</a:t>
            </a:r>
            <a:r>
              <a:rPr b="0" lang="ja-JP" sz="1600" spc="-1" strike="noStrike">
                <a:solidFill>
                  <a:srgbClr val="000000"/>
                </a:solidFill>
                <a:latin typeface="Arial"/>
              </a:rPr>
              <a:t>時間以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8</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計画的に年次休暇、特別休暇等を取得できる環境があ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充実感を感じながら業務に取り組ん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一人に業務が集中しないように業務を分散する気風があ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HP</a:t>
            </a:r>
            <a:r>
              <a:rPr b="0" lang="ja-JP" sz="1800" spc="-1" strike="noStrike">
                <a:solidFill>
                  <a:srgbClr val="000000"/>
                </a:solidFill>
                <a:latin typeface="Arial"/>
              </a:rPr>
              <a:t>、ＰＴＡ、学校運営協議会委員を通じて、地域・保護者に対してプランの周知を行います。</a:t>
            </a:r>
            <a:endParaRPr b="0" lang="en-US" sz="1800" spc="-1" strike="noStrike">
              <a:solidFill>
                <a:srgbClr val="000000"/>
              </a:solidFill>
              <a:latin typeface="Arial"/>
            </a:endParaRPr>
          </a:p>
        </p:txBody>
      </p:sp>
      <p:graphicFrame>
        <p:nvGraphicFramePr>
          <p:cNvPr id="61" name=""/>
          <p:cNvGraphicFramePr/>
          <p:nvPr/>
        </p:nvGraphicFramePr>
        <p:xfrm>
          <a:off x="1015920" y="4915080"/>
          <a:ext cx="11795040" cy="3443040"/>
        </p:xfrm>
        <a:graphic>
          <a:graphicData uri="http://schemas.openxmlformats.org/drawingml/2006/table">
            <a:tbl>
              <a:tblPr/>
              <a:tblGrid>
                <a:gridCol w="816120"/>
                <a:gridCol w="201600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４５時間超となった教職員に声掛けし、健康確保の観</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　点から、早い退庁を促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会議の開催について、教育において真に必要な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会議資料や連絡は紙での配付を廃止しフォルダ閲覧やメールでの配付・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11890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ＰＴＡや学校運営</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 </a:t>
                      </a:r>
                      <a:r>
                        <a:rPr b="0" lang="ja-JP" sz="1800" spc="-1" strike="noStrike">
                          <a:solidFill>
                            <a:srgbClr val="000000"/>
                          </a:solidFill>
                          <a:latin typeface="ＭＳ Ｐゴシック"/>
                        </a:rPr>
                        <a:t>協議会委員と協力して進めていき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は、複数顧問の配置により、交代で指導に当たることができる</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環境を構築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会議時間の短縮、会議の削減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秋田　美紀男</cp:lastModifiedBy>
  <cp:lastPrinted>2024-05-13T09:34:17Z</cp:lastPrinted>
  <dcterms:modified xsi:type="dcterms:W3CDTF">2024-05-14T02:13:00Z</dcterms:modified>
  <cp:revision>983</cp:revision>
  <dc:subject/>
  <dc:title>スライド 1</dc:title>
</cp:coreProperties>
</file>