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455f51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13A4-21DB-4693-A11E-BB689789B5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0827-1958-4423-B43C-4E96911B4F9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5B6-799F-4D5E-A9A7-C22CF5D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1C3-0B18-44CC-A01E-6F4D124D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56D-470F-4B56-A42A-3EB42D2A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7B1-B50F-4537-9CCA-E174030F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9EC-2FFE-4044-A6B7-0ABE684A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C39-C807-4E8A-B23C-17F8787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D3B-94BE-43AC-B423-AE63E86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F5E-962C-4F4D-9A47-08252524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E32-7498-4060-A0F9-3A78682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F10-09A4-4F9E-A9FA-E39D2AD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26F-85DC-4E10-B121-1ADCAAFC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AFB-A865-4DB5-8C67-B91BEC0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A947-A30B-46CE-995F-558A97D6518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グループ化 2" descr=""/>
          <p:cNvPicPr/>
          <p:nvPr/>
        </p:nvPicPr>
        <p:blipFill>
          <a:blip r:embed="rId1"/>
          <a:stretch/>
        </p:blipFill>
        <p:spPr>
          <a:xfrm>
            <a:off x="743040" y="8339040"/>
            <a:ext cx="12260160" cy="120672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2"/>
          <p:cNvSpPr/>
          <p:nvPr/>
        </p:nvSpPr>
        <p:spPr>
          <a:xfrm>
            <a:off x="539640" y="1176480"/>
            <a:ext cx="126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前沢明峰支援学校では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グループ化 4"/>
          <p:cNvGrpSpPr/>
          <p:nvPr/>
        </p:nvGrpSpPr>
        <p:grpSpPr>
          <a:xfrm>
            <a:off x="838080" y="1565280"/>
            <a:ext cx="12088800" cy="2827440"/>
            <a:chOff x="838080" y="1565280"/>
            <a:chExt cx="12088800" cy="2827440"/>
          </a:xfrm>
        </p:grpSpPr>
        <p:sp>
          <p:nvSpPr>
            <p:cNvPr id="52" name="Rectangle 70"/>
            <p:cNvSpPr/>
            <p:nvPr/>
          </p:nvSpPr>
          <p:spPr>
            <a:xfrm>
              <a:off x="838080" y="1565280"/>
              <a:ext cx="6292800" cy="387360"/>
            </a:xfrm>
            <a:prstGeom prst="rect">
              <a:avLst/>
            </a:prstGeom>
            <a:solidFill>
              <a:srgbClr val="08a5ef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１　現　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0"/>
            <p:cNvSpPr/>
            <p:nvPr/>
          </p:nvSpPr>
          <p:spPr>
            <a:xfrm>
              <a:off x="840960" y="1931760"/>
              <a:ext cx="6292800" cy="246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定量的現状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４月の超過勤務が平均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　　　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13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4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→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22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5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５％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6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１月当たりの超過勤務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　　　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7.8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4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.5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5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定性的現状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教職員アンケート「私は多忙化の解消や健康管理の取り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みをしている」に「そう思う」と回答した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17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3)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20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4)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２５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0"/>
            <p:cNvSpPr/>
            <p:nvPr/>
          </p:nvSpPr>
          <p:spPr>
            <a:xfrm>
              <a:off x="7561080" y="1568160"/>
              <a:ext cx="5365800" cy="363240"/>
            </a:xfrm>
            <a:prstGeom prst="rect">
              <a:avLst/>
            </a:prstGeom>
            <a:solidFill>
              <a:srgbClr val="08a5ef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２　目標・目指す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0"/>
            <p:cNvSpPr/>
            <p:nvPr/>
          </p:nvSpPr>
          <p:spPr>
            <a:xfrm>
              <a:off x="7561080" y="1931760"/>
              <a:ext cx="5365800" cy="246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学校独自の目標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１月当たりの超過勤務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を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６％以下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す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目指す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教職員が、児童生徒の指導について考え、授業の準備を行う時間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十分に確保でき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管理職が日頃から教職員とコミュニケーションをとり、健康や業務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ついて相談できるよう気を配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日々の業務で「おかげさま、お互いさま、ありがとう」の心でお互い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気遣う明峰のお手伝い文化を促進す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右矢印 1"/>
            <p:cNvSpPr/>
            <p:nvPr/>
          </p:nvSpPr>
          <p:spPr>
            <a:xfrm>
              <a:off x="7172280" y="2401920"/>
              <a:ext cx="360360" cy="1233360"/>
            </a:xfrm>
            <a:prstGeom prst="rightArrow">
              <a:avLst>
                <a:gd name="adj1" fmla="val 67139"/>
                <a:gd name="adj2" fmla="val 50000"/>
              </a:avLst>
            </a:prstGeom>
            <a:solidFill>
              <a:srgbClr val="97dbfb"/>
            </a:solidFill>
            <a:ln w="19080">
              <a:solidFill>
                <a:srgbClr val="066e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454027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723160" y="9534600"/>
            <a:ext cx="42102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日　前沢明峰支援学校長　田淵　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吹き出し: 角を丸めた四角形 2"/>
          <p:cNvSpPr/>
          <p:nvPr/>
        </p:nvSpPr>
        <p:spPr>
          <a:xfrm>
            <a:off x="5616720" y="2014560"/>
            <a:ext cx="1441440" cy="876240"/>
          </a:xfrm>
          <a:prstGeom prst="wedgeRoundRectCallout">
            <a:avLst>
              <a:gd name="adj1" fmla="val -56379"/>
              <a:gd name="adj2" fmla="val 61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施錠時間の呼びかけにより、終業時間が意識されてき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吹き出し: 角を丸めた四角形 5"/>
          <p:cNvSpPr/>
          <p:nvPr/>
        </p:nvSpPr>
        <p:spPr>
          <a:xfrm>
            <a:off x="5616720" y="3133800"/>
            <a:ext cx="1441440" cy="1085760"/>
          </a:xfrm>
          <a:prstGeom prst="wedgeRoundRectCallout">
            <a:avLst>
              <a:gd name="adj1" fmla="val -56851"/>
              <a:gd name="adj2" fmla="val 577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４分の１教職員が多忙化解消・健康管理に取り組んでいることが示され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809640" y="4521240"/>
            <a:ext cx="12107880" cy="409680"/>
          </a:xfrm>
          <a:prstGeom prst="rect">
            <a:avLst/>
          </a:prstGeom>
          <a:solidFill>
            <a:srgbClr val="31937b"/>
          </a:solidFill>
          <a:ln w="9360">
            <a:solidFill>
              <a:srgbClr val="dff1d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（２を推進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5200" y="4929120"/>
          <a:ext cx="12080880" cy="3359160"/>
        </p:xfrm>
        <a:graphic>
          <a:graphicData uri="http://schemas.openxmlformats.org/drawingml/2006/table">
            <a:tbl>
              <a:tblPr/>
              <a:tblGrid>
                <a:gridCol w="604800"/>
                <a:gridCol w="1512720"/>
                <a:gridCol w="9963360"/>
              </a:tblGrid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１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職員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康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学校医（産業医）のアドバイスをいただきながら、全職員の健康維持に関する助言を共有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管理職が、定時退庁に向け積極的に取り組み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２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におけ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業務改善の推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ワークシェアリングを実施することにより、業務の効率化を進め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ペーパーレス化を更に進め、書類等の整理や処理をこまめに行い、効率的な職場の環境を作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「前例」を見直す意識をもち、計画的に業務を進め合理化や改善を図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３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業務の明確化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適正化の推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会議の時間をあらかじめ設定します。資料の事前配布、議題の精選に努め、会議の効率化を図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業務内容に優先順位をつけ、時間内で無理なく進めるように 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884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令和６年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取組事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月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茶論（サロン）デイを開催し、教職員の円滑なコミュニケーションを促進し活気ある職場環境をつく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月に２回の定時退庁日（ノー残業デー）を設け、ワークライフバランスに配慮した職場環境の実現を進め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菅原　裕子</cp:lastModifiedBy>
  <cp:lastPrinted>2024-05-13T05:26:55Z</cp:lastPrinted>
  <dcterms:modified xsi:type="dcterms:W3CDTF">2024-05-14T09:24:07Z</dcterms:modified>
  <cp:revision>1012</cp:revision>
  <dc:subject/>
  <dc:title>スライド 1</dc:title>
</cp:coreProperties>
</file>