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244-5D12-44CC-AE3B-DD1818798D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1B38-8FB8-483E-A9A7-83F36D98106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A64-F69E-4AC8-9467-7814159F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DB8-8D9C-4E20-9C54-058795B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ADC-428D-41A8-80B3-F8B05828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923-2BDC-40C5-88FD-9732DBDA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BF2-89CB-4EB5-AFA7-3103827E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F0D-A4FF-4D83-8CBD-A9607BF3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AB6-1CCC-4932-BD93-DB3202C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864-B1C9-43CF-913E-43650D7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DF3-9856-412F-AFE3-D226F082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84B-F335-4A99-9232-2EBFE009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3DE-7D05-4EB1-8CD8-095D4A45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15F-366B-4EE3-AF69-F61CADE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2B1E-ED76-46FD-A3E8-9400CBFBAAB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黒沢尻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「持続可能な働き方目標（ＳＷＳＧｓ）の設定と実践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468360" y="1117440"/>
            <a:ext cx="127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黒沢尻北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年度～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年度：１４．５日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年度：１４．４日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年度：１４．６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ＩＣＴ機器の利活用が進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仕事量の削減、いわゆる「スクラップ」は容易では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教職員のワークショップの実施などを通じて、業務改善の取組を進め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　黒沢尻北高等学校長　金濱千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を３８時間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５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一人一人が、やりがいを感じながら業務に前向きに取り組むことで、質の高い教育を持続的に提供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のウェルビーイングを確保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管理職が、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勤務時間外在校状況により、該当教職員に声掛けし、健康確保の観点から面談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業務改善のための話し合いを持ち、職員の発案による業務改善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ＩＣＴ機器の積極的な活用により、調査や成績処理等業務の効率化を図り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行事の見直し等で業務負担の集中を軽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部活動については、外部人材の活用により、教員の負担を軽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令和６年度から行事の見直し等の負担軽減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高橋　直樹</cp:lastModifiedBy>
  <cp:lastPrinted>2024-05-16T02:11:47Z</cp:lastPrinted>
  <dcterms:modified xsi:type="dcterms:W3CDTF">2024-05-16T02:16:50Z</dcterms:modified>
  <cp:revision>981</cp:revision>
  <dc:subject/>
  <dc:title>スライド 1</dc:title>
</cp:coreProperties>
</file>