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1A51-B949-4109-8820-C5065628B5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2489-BB39-414B-BCE6-1A936452F50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AA132-D13F-4346-8C71-A7B306D7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44A4-1E4B-4FD5-9749-3E5B4E49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04065-A316-47B3-A780-6BF4A354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2CAA6-0A4F-4E3C-86C8-D3297D02C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7FA0-9305-4881-9036-863154EA0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28D56-7A90-4922-A0AC-01C901CF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559B-9C55-44B2-853E-7A597C1EC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64735-D0BE-454D-BFCA-EF13495C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CFDF5-0A05-42C4-A927-2F918D89F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1914-4E59-4B5C-B09C-115DC9867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F062-83D0-4D21-842C-2940FF68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0EBE-E2DC-4FA3-8F1C-49824036B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4F3B-A77D-4B60-932F-95649E8B5DD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みたけ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　仲良く　たくましく～</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みたけ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5.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5.2</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盛岡以北に</a:t>
            </a:r>
            <a:r>
              <a:rPr b="0" lang="en-US" sz="1400" spc="-1" strike="noStrike">
                <a:solidFill>
                  <a:srgbClr val="000000"/>
                </a:solidFill>
                <a:latin typeface="Arial"/>
              </a:rPr>
              <a:t>6</a:t>
            </a:r>
            <a:r>
              <a:rPr b="0" lang="ja-JP" sz="1400" spc="-1" strike="noStrike">
                <a:solidFill>
                  <a:srgbClr val="000000"/>
                </a:solidFill>
                <a:latin typeface="Arial"/>
              </a:rPr>
              <a:t>校舎が点在しており、他校舎間での情報共有を行う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意識が教職員に周知されているが、連携の難しさと業務の複雑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が負担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効率的な遂行の視点を持ち、各校舎間の連携がスムー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になるよう業務改善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令和６年６月１日　盛岡みたけ支援学校長　村上　嘉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r>
              <a:rPr b="0" lang="ja-JP" sz="1400" spc="-1" strike="noStrike">
                <a:solidFill>
                  <a:srgbClr val="000000"/>
                </a:solidFill>
                <a:latin typeface="Arial"/>
              </a:rPr>
              <a:t>　～県プラン</a:t>
            </a:r>
            <a:r>
              <a:rPr b="0" lang="en-US" sz="1400" spc="-1" strike="noStrike">
                <a:solidFill>
                  <a:srgbClr val="000000"/>
                </a:solidFill>
                <a:latin typeface="Arial"/>
              </a:rPr>
              <a:t>2024~2026</a:t>
            </a:r>
            <a:r>
              <a:rPr b="0" lang="ja-JP" sz="1400" spc="-1" strike="noStrike">
                <a:solidFill>
                  <a:srgbClr val="000000"/>
                </a:solidFill>
                <a:latin typeface="Arial"/>
              </a:rPr>
              <a:t>の目標達成を前提と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教職員全員で、「明るく　仲良く　たくましく」働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本校に勤務する教職員の専門性を高め、資質を向上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一人一人が教育にやりがいを感じ、児童生徒に向き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ワークライフ・バランスを意識しタイムマネジメント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目を配り、声掛けや面談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同士が情報共有し専門性を高め、互いに学び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9488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職員会議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ホームページに掲載して、地域・保護者に周知します。</a:t>
            </a:r>
            <a:endParaRPr b="0" lang="en-US" sz="1400" spc="-1" strike="noStrike">
              <a:solidFill>
                <a:srgbClr val="000000"/>
              </a:solidFill>
              <a:latin typeface="Arial"/>
            </a:endParaRPr>
          </a:p>
        </p:txBody>
      </p:sp>
      <p:graphicFrame>
        <p:nvGraphicFramePr>
          <p:cNvPr id="61" name=""/>
          <p:cNvGraphicFramePr/>
          <p:nvPr/>
        </p:nvGraphicFramePr>
        <p:xfrm>
          <a:off x="1022400" y="5448240"/>
          <a:ext cx="11795040" cy="304812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時間外在校等時間の縮減を確実に実施し、ワークライフバランスの改善ができるよう教職員の健康を確保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閉庁日の設定、年次休暇や子育てと仕事の両立支援の制度を活用する等、各種休暇の取得を促進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健康相談事業等、教職員の状況に応じ、共済保健事業についての活用を促進し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スクラップアンドビルドについて、随時検討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の取組状況を定期的に振り返る場（衛生委員会等）を設定し、随時、確認と検討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他校舎間で学校フォルダ及びデスクネッツ等を活用した情報共有と、</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を活用した効率的な業務推進を図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計画的に業務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間のコミュニケーションを図り、互いの考えや業務への取り組み方について、相互理解に努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参加の地域行事等について、学校の実情を踏まえて精選等を行い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て計画的に業務を進め、効率化を実感する。</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嘉郎</cp:lastModifiedBy>
  <cp:lastPrinted>2024-05-17T02:27:46Z</cp:lastPrinted>
  <dcterms:modified xsi:type="dcterms:W3CDTF">2024-05-17T02:40:36Z</dcterms:modified>
  <cp:revision>985</cp:revision>
  <dc:subject/>
  <dc:title>スライド 1</dc:title>
</cp:coreProperties>
</file>