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2680"/>
            <a:ext cx="5051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336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6901-8CA1-44E3-AA2E-9AF97D34914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5537-0708-423B-8C1E-C0CD2263995D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3000" y="743040"/>
            <a:ext cx="505152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9BE-A72F-45E6-BB30-4A4F4FAA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6FA-1C84-4202-9016-8573C3DF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DDB-9D98-4B79-AC94-84B17DAD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FC20-80C0-4633-8961-7DDF127B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E4D3-36D0-40E5-9760-3C451AAF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088-148B-40DA-9B36-297EB737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F06-304D-4D04-A6C0-251E1F72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5C2-20AB-4CCB-BDDA-136DD255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B7A9-22F9-4BD5-899D-8F8A23B0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117-4F1A-47AF-A539-ADECDD9D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72E-8148-4588-8EC3-941900AE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2F39-B80B-4AE9-A5BB-63229F5F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4010-7A2B-4C16-83A9-E20EE5EA9296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一関清明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明るく働きやすい職場づくり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576360" y="1101600"/>
            <a:ext cx="126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一関清明支援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前プランの期間を通し、月８０時間超の職員ゼ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超の職員は毎年その前年度から半減。年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超の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員も年ごとに減少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本校の特徴による課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四障がい種に対応し、多様な児童生徒が在籍しているため、職員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間の打合せや研修、授業準備等に時間が必要な状況があ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２校舎３分教室の連携を図るため、職員間の連絡調整が欠かせず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日々の業務が増え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施錠時間を意識した業務推進が行われ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9361440" y="9524880"/>
            <a:ext cx="34560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●日　一関清明支援学校長　外舘　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1239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時間外在校等時間が月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間超の職員、年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間超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職員を前年度から減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「教職員が意思疎通を図りながら働きやすい職場環境の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備に努めている」教職員の割合が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9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パーセント以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433680"/>
            <a:ext cx="5591160" cy="1427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児童生徒が楽しく学ぶ学校環境づくりを実現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やりがいをもち、有用感を感じながら働く職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お互いにコミュニケーションを取り、助け合える職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管理職が教職員に目を配り、教職員が安心して働ける職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職員会議で周知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学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し周知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257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は職員の勤務時間外状況を把握し、面談等を通し、職員の健康管理に努め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時間外在校等時間が月の途中で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5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時間超となった職員に声掛けし、業務の状況を確認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したり、面談をしたり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、職員ともに引き続き校内業務の見直し、改善に努め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デスクネッツ回議やオンライン会議を推奨、推進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関係団体に係る教職員の業務内容の検討を進め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地域の特別支援教育推進に係る業務について、関係機関との協議を進め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毎月の衛生委員会・職員会議で、前の月の学部・分教室ごとのタイムカード集計結果を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表し、勤務時間への意識をより高められるように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安久都　靖</cp:lastModifiedBy>
  <cp:lastPrinted>2024-05-01T04:34:58Z</cp:lastPrinted>
  <dcterms:modified xsi:type="dcterms:W3CDTF">2024-05-01T06:09:12Z</dcterms:modified>
  <cp:revision>987</cp:revision>
  <dc:subject/>
  <dc:title>スライド 1</dc:title>
</cp:coreProperties>
</file>