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6760" y="744120"/>
            <a:ext cx="5064480" cy="373068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724280"/>
            <a:ext cx="5489280" cy="44769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6760"/>
            <a:ext cx="2970360" cy="4971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CD8C-973F-47A5-8A4C-157EF93F4B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447120"/>
            <a:ext cx="2971800" cy="4971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16B1-BD17-4AF6-BD98-5B87781521D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6760" y="744480"/>
            <a:ext cx="5064480" cy="3730680"/>
          </a:xfrm>
          <a:prstGeom prst="rect">
            <a:avLst/>
          </a:prstGeom>
          <a:ln w="0">
            <a:noFill/>
          </a:ln>
        </p:spPr>
      </p:sp>
      <p:sp>
        <p:nvSpPr>
          <p:cNvPr id="65" name="PlaceHolder 2"/>
          <p:cNvSpPr>
            <a:spLocks noGrp="1"/>
          </p:cNvSpPr>
          <p:nvPr>
            <p:ph type="body"/>
          </p:nvPr>
        </p:nvSpPr>
        <p:spPr>
          <a:xfrm>
            <a:off x="684360" y="4724280"/>
            <a:ext cx="5489280" cy="44769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769DA-138B-4921-BD76-6DB76D1E3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4866-6226-4E7C-BA06-F2E11255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1B58D-FC3E-4B20-BBE7-7CF603148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F9886-BE41-42E1-A4ED-FC87DD6A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4E13D-4087-4335-92C2-91F09A4F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B4D7-A5EC-4EAA-BE62-D37745AED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CA43-F99F-4A70-BA53-A85DF04D4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8C3E-E6D7-4527-9157-D6018075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42BED-7600-47D6-82DB-DF1873F78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9F6B-C40A-4FFB-9986-FA9AE8AC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8F53-D596-42C8-8FC7-F62913139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BE60-AF0C-4FC1-84B7-D112BEE5A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39CB-24AE-4403-A5AD-31CE57DD4E0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6397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南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1436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5920" y="493704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152360" y="973080"/>
            <a:ext cx="119127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花巻南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644480"/>
            <a:ext cx="5479920" cy="3149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5</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ＩＣＴ等を活用し、効果的で効率的な業務の実現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勤務が長時間化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99400" y="953280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6</a:t>
            </a:r>
            <a:r>
              <a:rPr b="0" lang="ja-JP" sz="1100" spc="-1" strike="noStrike">
                <a:solidFill>
                  <a:srgbClr val="000000"/>
                </a:solidFill>
                <a:latin typeface="Arial"/>
              </a:rPr>
              <a:t>日　花巻南高等学校長　横坂　貴</a:t>
            </a:r>
            <a:endParaRPr b="0" lang="en-US" sz="1100" spc="-1" strike="noStrike">
              <a:solidFill>
                <a:srgbClr val="000000"/>
              </a:solidFill>
              <a:latin typeface="Arial"/>
            </a:endParaRPr>
          </a:p>
        </p:txBody>
      </p:sp>
      <p:sp>
        <p:nvSpPr>
          <p:cNvPr id="55" name="Rectangle 70"/>
          <p:cNvSpPr/>
          <p:nvPr/>
        </p:nvSpPr>
        <p:spPr>
          <a:xfrm>
            <a:off x="7191360" y="130176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9000" y="2031840"/>
            <a:ext cx="5603760" cy="1108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09000" y="3139920"/>
            <a:ext cx="5591160" cy="165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やりがい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t>
            </a:r>
            <a:r>
              <a:rPr b="0" lang="ja-JP" sz="1800" spc="-1" strike="noStrike">
                <a:solidFill>
                  <a:srgbClr val="000000"/>
                </a:solidFill>
                <a:latin typeface="Arial"/>
              </a:rPr>
              <a:t>Ａ、同窓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356080"/>
          <a:ext cx="11795040" cy="31705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等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大会や遠征等が続き、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を超えることが見込まれる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は健康確保の観点から、大会後の計画的な休養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採点ソフトを導入するなど、業務の効率化を進め、負担軽減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通知については紙での配付を減らし、メール等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同窓生に理解いただき、</a:t>
                      </a:r>
                      <a:r>
                        <a:rPr b="0" lang="en-US" sz="1800" spc="-1" strike="noStrike">
                          <a:solidFill>
                            <a:srgbClr val="000000"/>
                          </a:solidFill>
                          <a:latin typeface="ＭＳ Ｐゴシック"/>
                        </a:rPr>
                        <a:t>PT</a:t>
                      </a:r>
                      <a:r>
                        <a:rPr b="0" lang="ja-JP" sz="1800" spc="-1" strike="noStrike">
                          <a:solidFill>
                            <a:srgbClr val="000000"/>
                          </a:solidFill>
                          <a:latin typeface="ＭＳ Ｐゴシック"/>
                        </a:rPr>
                        <a:t>Ａや同窓会等の業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本県の部活動休養日及び活動時間の基準を遵守し、部活動指導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団体との連携による業務の軽減及び効率化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35920" y="1719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坂　貴</cp:lastModifiedBy>
  <cp:lastPrinted>2024-05-16T04:44:01Z</cp:lastPrinted>
  <dcterms:modified xsi:type="dcterms:W3CDTF">2024-05-16T06:27:41Z</dcterms:modified>
  <cp:revision>988</cp:revision>
  <dc:subject/>
  <dc:title>スライド 1</dc:title>
</cp:coreProperties>
</file>