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909-CAB4-4BC2-BEB6-F17FF482BDE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1CE5-7240-471D-9160-1422D0E2AC6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23C-0FDA-459D-A5A4-194AD667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996-AF02-43BE-9381-468DA42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217-FD5F-455D-B4D9-84EFA06D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001-A721-4743-BAE1-498F0986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C05-DCE5-449C-93C2-CEAAB268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AC6-9E3D-49A8-9287-1B66B072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AE6-5224-4C85-B371-AE8C429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DBF-B3BA-4179-BC7D-4E274EF4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617-A565-471B-90B1-44A4F02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C02-939E-45CD-BC77-FFE2B191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EFB-D22F-4F90-AD3B-514956D9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A01-F463-4701-8F26-02A5F38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238-DFB4-4E0D-852A-10EAA5C8276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　勤務時間外勤務１００時間を超える教職員　→　０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 ・　健康診断における有所見者の受診率　→　１００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 ・　週休日等の振替取得率　→　８０％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業務負担の片寄りが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教職員の月平均勤務時間外勤務１００時間を超え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  職員の割合は少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長期時間勤務等による保健指導対象者が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2867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花巻北高等学校長　須川和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一人一人が、やりがいを感じながら業務に取り組んでいる職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 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教職員が情報共有しながら遠慮せずに休暇を取りやすい職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職務を複数で担当することで職務の平準化を図るとともに、職員同士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協力し合いながら職務にあたることがあたり前の職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全国の好事例を参考にしてＩＣＴを積極的に活用する職場環境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留守番電話の導入や欠席連絡のデジタ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化により時間外対応について改善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管理職がＩＣＴを活用して、業務改善につ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て積極的に提案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の業務を明確化し平準化を図り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ＰＴＡ関係業務について、前例踏襲によらない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見直しを図りながら適正化を図るよう協議を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本校が担当する校外の職務について、ＩＣＴ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有効活用し負担軽減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スクールカウンセラーや県教委、総合教育セ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ター等の校外人材を有効活用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働き方改革プランの部活動休養日の取組を確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実施し、教職員の健康を確保します。（年間通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算で週２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学校閉庁日を確実に設け徹底することで教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健康を確保します。（年間１０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管理職が、休暇取得について積極的に声掛け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ます。（振替休日の確実な申請促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助川　剛栄</cp:lastModifiedBy>
  <cp:lastPrinted>2021-06-03T01:32:43Z</cp:lastPrinted>
  <dcterms:modified xsi:type="dcterms:W3CDTF">2022-05-31T05:23:57Z</dcterms:modified>
  <cp:revision>952</cp:revision>
  <dc:subject/>
  <dc:title>スライド 1</dc:title>
</cp:coreProperties>
</file>