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64E6-100A-48BC-9061-F3CF778B942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E273-93C4-442C-BBB1-C9C5D020A18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CF1-4321-442E-B746-F540CD47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270-D7C2-4C21-8185-29660FAB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C32-364E-40B6-992C-CE4A6C83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968-3164-45BC-AA32-0461FE50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9A4-7041-4302-85D4-4CA4B807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968-E621-400B-998A-3A842D19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E3B-A7EC-4881-AB94-317663C2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46E-ED93-419E-B331-D5EF385A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8AF-485A-4899-BEEA-C1D37850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ADA-899D-4EE9-91C6-44B425C3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84EB-DC8D-4BFF-B1B1-47C17193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9A9-DF25-4546-B93C-4CDBFE10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BB51-3BD5-4829-AEFA-6B975CA0EB61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花巻農業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生徒の幸福は教職員全体の幸福から</a:t>
            </a:r>
            <a:r>
              <a:rPr b="0" lang="en-US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Ⅱ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65240" y="6929280"/>
            <a:ext cx="7118280" cy="10954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月に１回以上、計画的な年次休暇を取得する教職員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時間外在校等時間月平均４５時間超職員→　　３％（１人また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人）以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学校評価「花農に勤務できて良かった」→肯定的回答が８５％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54080" y="6564240"/>
            <a:ext cx="712944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647640" y="1101600"/>
            <a:ext cx="1260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花巻農業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4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年次休暇を取得する職員が少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月当たりの時間外在校等時間が月平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８時間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は教職員全体の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年平均３．２ヶ月（Ｒ３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年度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績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部活動繁忙期と特定の職員に時間外勤務８０時間以上が集中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遅くても校舎の施錠時刻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9: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までに退勤するという意識が浸透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外部の専門的なスタッフを活用して、教職員の負担を軽減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795320"/>
            <a:ext cx="553572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自己研鑽の時間を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充実感や安心感を感じながら、教育活動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生徒一人一人と向き合う時間が確保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教職員の業務や健康面において助言や支援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5111640" y="4376880"/>
            <a:ext cx="3963960" cy="21762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を取得しやすい環境づくりに向け、定期考査期間の研修会や会議の実施につ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適切なＩＣＴ活用について積極的に提案し、業務の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校務事務について管理職が必要に応じて助言や支援を行い、教職員の負担軽減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間で意見を出しながら業務の効率化に取り組み、教職員の負担軽減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9067680" y="4392720"/>
            <a:ext cx="3745080" cy="30146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校務分掌の割当について、業務量の適正化を図るよう関係主任との協議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においては、一人の教職員に過度の負担が掛からないよう、顧問間で交代で休める環境づくり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状況により休める場合には、１時間単位でも年次休暇の取得を励行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本校の「学校の部活動に係る活動方針」に基いた部活動を展開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地域と一体となったコミュニティスクールの取組につ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正方形/長方形 11"/>
          <p:cNvSpPr/>
          <p:nvPr/>
        </p:nvSpPr>
        <p:spPr>
          <a:xfrm>
            <a:off x="1109520" y="8080200"/>
            <a:ext cx="1173816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087560" y="4392720"/>
            <a:ext cx="4024080" cy="21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在校時間の縮減の取組を確実に実施し、教職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休暇取得について積極的に声掛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長時間勤務者に対しては管理職による面談を実施し、教職員の心と体の健康状態の把握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少しでも健康状態に変化が認められた場合は、体調を優先し、医療機関を受診するよう指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" name="正方形/長方形 2"/>
          <p:cNvSpPr/>
          <p:nvPr/>
        </p:nvSpPr>
        <p:spPr>
          <a:xfrm>
            <a:off x="8462880" y="7650000"/>
            <a:ext cx="49532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１日　花巻農業高等学校長　小船光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大木　由里</cp:lastModifiedBy>
  <cp:lastPrinted>2022-06-02T03:40:32Z</cp:lastPrinted>
  <dcterms:modified xsi:type="dcterms:W3CDTF">2022-06-02T03:40:34Z</dcterms:modified>
  <cp:revision>951</cp:revision>
  <dc:subject/>
  <dc:title>スライド 1</dc:title>
</cp:coreProperties>
</file>