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AA1-60A3-4A5B-ABDE-EAD6368E15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397-78F6-4E7B-9F4A-6C4B051207C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201-F537-4FD0-BD0D-F83D37DE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E27-C189-45BD-AE6F-98F54DD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B60-0C86-4797-A0D8-B8DB1CCE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D7C-0193-42D4-869D-CE20B2ED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646-98CE-4125-89F1-62A12F27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B7F-C5F3-4844-A8CB-B314A55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404-BD43-4001-A47C-4E63248B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106-598C-41E8-B6AC-27D6057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C92-A2A8-4BD4-A526-64D7EED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420-CD5C-440B-BEEA-1D6A43CA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F5D-EC03-44B9-B1CF-C050A80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D98-5D66-47B5-9154-3E4716D1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D0B-D1D2-4D21-935A-1A7AA62AE19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３年度　杜陵高等学校本校 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熱意 誠意 創意 で明るく健康的な職場作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１ヶ月の全体の平均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とする。また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をゼロ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職員の学校評価アンケートで「職員が自由に発言し、連携協力しながら課題解決に取り組み、活気が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る。」「授業の内容や指導方法が工夫され、充実した信頼できるものである。」の回答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点満点中３点以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上の平均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夏季休暇の取得→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杜陵高等学校本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制の１・２部と３部、通信制が併存しており、多様な働き方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また、若鷹寮の舎務があり、月数回の宿泊の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多様な生徒一人一人にきめ細やかな教育を行っているため、教職員の精神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な負担感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 令和２年度、時間外在校等時間の月平均８０時間を越えた教員は、本校で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年間０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３年５月　　日　杜陵高等学校長　髙橋 正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職務に取り組む一方で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本校の果たすべき役割を自覚し、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出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良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会議の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職務について積極的に提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安全な校務や教材のデータの共有化を推進することに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や年次の業務を教職員間で偏りがないよう配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常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り検証しながら実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生徒を指導する態勢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舎務については、生徒の健康管理等責任は家庭に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有することを確認の上、寮母さんと連携して寮生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快適に学校生活を送ることができるよう指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み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健康診断の結果を把握した上で、配慮の必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場合は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職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室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菊池　治</cp:lastModifiedBy>
  <cp:lastPrinted>2021-06-04T03:51:11Z</cp:lastPrinted>
  <dcterms:modified xsi:type="dcterms:W3CDTF">2021-06-04T03:51:57Z</dcterms:modified>
  <cp:revision>964</cp:revision>
  <dc:subject/>
  <dc:title>スライド 1</dc:title>
</cp:coreProperties>
</file>