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421-27BA-42F6-B50A-BAA957944D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76FA-84D4-4889-B8AF-1B5D7F5C1A2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B74-B861-4A91-9906-AE38F242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6B8-0AA7-4A37-905A-69857C9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C60-CCD7-4A2E-9C1B-1533550F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F5C-9EB5-461C-A25E-3490999A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010-617D-443A-BE21-7B3B1CD4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9F0-B0F3-432F-BC7C-7ADB4C65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311-20D2-4F4A-B8ED-64F80B59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211-F7D2-4737-B5BB-F595C455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E2E-BAC1-48EF-A168-B937677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CD1-94D3-418B-BDCB-6497B08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3AD-E14F-456F-A644-CD3D646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210-1C56-4EF9-9776-398A523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EE51-B0FD-47A8-AF11-CC2FC5EFD87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99160" y="-2211840"/>
            <a:ext cx="792360" cy="11695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1695320"/>
              <a:gd name="textAreaBottom" fmla="*/ 11695680 h 116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68280" y="34920"/>
            <a:ext cx="11449080" cy="105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第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白梅教職員生き生きプランＲ４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3160" y="6681960"/>
            <a:ext cx="801540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月８０時間以上の教職員の年間割合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％以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　　　　　 ②月１００時間以上の教職員の人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０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休暇の取得促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一人当たりの年次有給休暇の年間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②一人当たりの夏季休暇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ノー残業デーへの取組の推進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自月１回以上の実施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32680"/>
            <a:ext cx="800892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06640" y="1498680"/>
            <a:ext cx="5545080" cy="3380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114560" y="376092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073160" y="113040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二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103400" y="1862280"/>
            <a:ext cx="5545080" cy="1581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月間平均時間外勤務時間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５．８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年次有給休暇取得７日未満の割合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９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夏季休暇取得４日未満の割合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０．９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期健康診断における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以下の割合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２．６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98720" y="41274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26040" y="41274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69360" y="7404120"/>
            <a:ext cx="495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３日　盛岡第二高等学校長　鈴木広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98680"/>
            <a:ext cx="5535720" cy="363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836720"/>
            <a:ext cx="5535720" cy="1630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役割分担が適正になされ、協働体制が確立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授業の準備や教育環境の整備に十分な時間が確保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・ライフ・バランスが図られ、健康で生き生きと業務に従事し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助け合う学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32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3520" y="4118040"/>
            <a:ext cx="3735720" cy="4190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6960" y="4491000"/>
            <a:ext cx="3963960" cy="1655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実施の徹底と学校閉庁日の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と各種学校行事の内容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正副担任及び正副顧問間での業務分担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精選及び簡素化と会議準備の軽減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4160" y="4506840"/>
            <a:ext cx="3745080" cy="16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高教研、高文連、高体連の事務局業務の軽減に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関係団体との協議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の負担軽減の取組に関する県教委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地域と一体になった検討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同窓会やＰＴＡに関する業務の軽減や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3160" y="8099280"/>
            <a:ext cx="11655360" cy="194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05840" y="859932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29360" y="812160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113600" y="9356760"/>
            <a:ext cx="560376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46868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有給休暇や特別休暇の積極的な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土日等の部活動指導に対する振替取得率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メンタルヘルスセミナーへの積極的参加と研修の共有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ノー残業デーへの組織的取組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1-06-03T23:41:00Z</cp:lastPrinted>
  <dcterms:modified xsi:type="dcterms:W3CDTF">2022-05-20T04:32:02Z</dcterms:modified>
  <cp:revision>960</cp:revision>
  <dc:subject/>
  <dc:title>スライド 1</dc:title>
</cp:coreProperties>
</file>