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B9C-96B9-4C69-A904-B99DCF0A65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5D6-AD4D-4E44-987C-0A8C0BB7498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F4C-5395-45B1-85AA-55E1E170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791-49D7-4E10-A5BB-6526A8A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859-A8FA-47B1-97A4-261AB369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07E-3F03-4662-A21E-C77E4BDF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1EE-1667-4400-9D3A-91B905F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26E-A133-48A9-B98B-4D05CD50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81B-A455-4450-874B-FBC4C23E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C0D-6602-4C52-8750-29FA527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CAB-D6B6-4C5B-A352-63E2455A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53E-50BF-4123-9DEB-7363BBF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294-CCEC-4D4D-8219-C3A05D40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F98-8B77-42ED-AC51-AE45A36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BE6-A280-4E4D-BBB5-77D2F9E8191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仕事にメリハリ（児童生徒について話し合う時間、各々の業務に向かう時間）をつけることを意識し、お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いに限られた時間を有効に使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業務の見直しで多忙間の縮減、年次有給休暇を有効に取得して、ワークライフバランスを確保し、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がいきいきと活気のある職場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月に２回の定時退庁日（ノー残業デイ）を意識し業務を進めます。また、週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度、個々に定時退庁日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申告し警備終了時間には業務を終了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5040" y="1805040"/>
            <a:ext cx="573552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私は多忙化の解消や健康管理の取り組みをしている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のアンケートの推移①「そう思う」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②「だいたいそう思う」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①と②を合計すると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意識して取り組み前年度よ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程増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４月の超過勤務が月平均４５時間以上の教職員が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コロナ対応等により不規則、例外的な業務が一人一人の負担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業務内容、時期により時間外勤務をおこなう職員が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児童生徒の指導について考え、授業の準備を行う時間を十分に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一人一人が、いきいきと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日頃から、教職員とコミュニケーションをとり健康や業務について相談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る体制に気を配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前例」を見直す意識を持ち、計画的に業務を進め合理化や改善を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々の業務、コロナ対応等「おかげさま、お互いさま、ありがとう」の心でお互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気遣う明峰のお手伝い文化を促進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5075280" y="4379760"/>
            <a:ext cx="39639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内容に優先順位をつけ時間内で無理なく進める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ワークシェアを実施することにより、業務の効率化を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ペーパーレス化を更に進め、書類等の整理や処理を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めに行い効率的な職場の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定時退庁に向け積極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全職員が前例にとらわれず、業務削減の意識を持ち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改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会議の終わり時間をあらかじめ設定します。資料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事前配布、議題の精選につとめ会議の効率化を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は７時間４５分であることを意識し、退勤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間に向けて時間、業務、様々な資源の効率化を図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　（こまめに節約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おかげさま、お互いさま、ありがとう」の気持ちで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互いに手伝う文化のさらなる定着を図ります（こま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気遣う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働き方改革プランの業務改善の取組を確実に実施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医（産業医）のアドバイスをいただきながら、全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健康維持に関する助言を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子育て、介護、家事、地域の行事への参加等、職員相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プライベートでの負担を理解し、協力し合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月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茶論（サロン）デイを開催し、教職員の円滑なコ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ュニケーション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2"/>
          <p:cNvSpPr/>
          <p:nvPr/>
        </p:nvSpPr>
        <p:spPr>
          <a:xfrm>
            <a:off x="7967520" y="75405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前沢明峰支援学校長　中野真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中村　和弘</cp:lastModifiedBy>
  <cp:lastPrinted>2021-05-11T05:05:06Z</cp:lastPrinted>
  <dcterms:modified xsi:type="dcterms:W3CDTF">2022-05-31T05:51:34Z</dcterms:modified>
  <cp:revision>939</cp:revision>
  <dc:subject/>
  <dc:title>スライド 1</dc:title>
</cp:coreProperties>
</file>