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529A-5782-4E56-9BD4-0E4AF14282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AB28-B12D-44B2-BF08-1FD89378936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2E3-8830-4786-B056-91C1FA4C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CBF-5ABD-4863-ADB4-3783197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BAD-5E25-41CC-9691-402476EE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F9B-4F42-4DFA-B915-A6DE62B4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4C8-0E06-4A50-B20D-89A63F87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719-B295-441E-BDB5-EE7F4788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E9A-C296-4C88-886C-F29E3832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803-A3C0-4078-88A1-18ADBDCB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878-386D-463C-A68B-7837738C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6C8-5396-43F4-9C70-301D3D6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01F-3654-4754-8541-EB24A4C6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4A8-6C71-4B3D-825B-AA9C3423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D06-4EA6-4BAB-944B-38B291B8F6C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前沢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目指すところは働きがいのある持続可能な職場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４５時間を越える職員割合を１６％以内とする（昨年１８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職員の時間外勤務時間の年平均時間を３０時間以内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の年次休暇取得平均日数を昨年より平均１日分増やす（１４日→１５日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の縮減にとどまらない、働きがいを感じる教職員が増えるように、意見を集めながら進めてい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前沢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、教職員の時間外勤務時間の平均が３２時間を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月４５時間を越える職員の割合が１８％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一部職員は時間外勤務時間の全体平均を大きく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遠距離通勤者がいて、時間外勤務時間だけで負担の状況を判断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場合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１１日　前沢高等学校長　坂井廣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働き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突然休暇を申請しても周りの職員が業務をカバーできる態勢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業務に関連して意見、アイデアを表明しやすい職場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組織がチームとしてのまとまりがあり、進むべき方向性について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共通した認識があ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改善を常に意識し、スクラップアンドビルトの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え方で臨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意味ない「前例踏襲」はや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「効率」という観点を追求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評議員や外部の方の意見を取り入れて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の適正化を図るよう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関わることで、地域の協力を仰げる可能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ついて模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勤務状況は常に注視し、健康を害すること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メンタルヘルスについても注視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適切なところで声か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坂井　廣幸</cp:lastModifiedBy>
  <cp:lastPrinted>2022-05-15T23:44:43Z</cp:lastPrinted>
  <dcterms:modified xsi:type="dcterms:W3CDTF">2022-05-15T23:44:47Z</dcterms:modified>
  <cp:revision>946</cp:revision>
  <dc:subject/>
  <dc:title>スライド 1</dc:title>
</cp:coreProperties>
</file>