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6EA9-C2D1-4854-B59B-DD78BE671DA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8621-E7F5-4E5C-8E55-4A1F591286E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E0A-2263-4AD7-B052-CEDFEF3C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290-AEEA-4BF0-BAB0-5D5D34D3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01B-2C93-4240-B875-7E77FF60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85A-EAA7-4841-B46B-84FC6FA0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6AE-A921-42BB-8FDA-1294C428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EBA-F5E0-491B-8B32-346F36C5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4F0-270A-4FEF-8F5D-E33333A3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E32-A881-43D7-B465-9E61B62D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DE4-B8DA-4E29-9349-ABF22E70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526-ABB8-4C27-9034-A2530E28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2C3-82CE-438F-98F6-2FCF318D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7A9-70BF-4343-B4A9-8F80F180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1223-7707-4ACD-B7D3-2415BB2C6FC1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岩手県立気仙光陵支援学校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「明るく楽しく元気よく」を実現する気仙光陵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、月４５時間を超えるケース→１０回以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、年３６０時間を超える教職員→３名以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学校評価の「働き方改革」に関する項目について、「達成されている」と回答した教職員→９０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気仙光陵支援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水・金曜日のノー残業デーを意識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時間が「月４５時間以上」のケースが２０回みられた。（令和３年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時間が年３６０時間を超えた職員が５名（全体の約７％）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（令和３年度）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業務の偏りによる負担感や業務の精選の必要性を感じ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気仙光陵支援学校長　石川　則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健康で生き生きとした生活を送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児童生徒と向き合う時間、授業準備の時間を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業務の偏りを軽減し、教職員間の協力体制が構築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は、多忙化の現状等について把握し、業務の効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率化や精選について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運営協議会において、学校の現状についてお知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らせし、改善に向けてのご意見をいただき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時間外在校等時間の縮減に向けての取組を実施し、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石川　則子</cp:lastModifiedBy>
  <cp:lastPrinted>2022-05-27T10:08:56Z</cp:lastPrinted>
  <dcterms:modified xsi:type="dcterms:W3CDTF">2022-05-27T10:11:04Z</dcterms:modified>
  <cp:revision>945</cp:revision>
  <dc:subject/>
  <dc:title>スライド 1</dc:title>
</cp:coreProperties>
</file>