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0B6E-DE85-4D2E-80D0-98BFDAAA928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EDC5-FA8A-4B7F-B1A8-821407BA7CE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525FD-D323-4AC8-990F-D7CAD1D46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D66F5-C3EE-4372-8D50-143700B7D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9B3FA-0BF4-4D56-AE6F-A430C1D2A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010A6-E863-4BBF-A2DC-FF239FEF3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DD77A-2B51-4106-824D-71D27BB01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6BA49-98A4-48F9-85A8-665236766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FA35-A2A6-4BBE-8138-86BADDD5A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93D98-7CDF-4AFD-9C28-7A732B4C4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C305F-8A2C-4455-AE63-F846B42B2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3B860-9C96-49D1-9245-A3584A2F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7D666-064B-43A6-B13B-A4F898309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6D3EE-FC23-4D7D-8C32-022F8908F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0E0D-DF70-487B-A06D-3407BF1CC7D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聴覚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チーム盛聴」：目配り、気配り、細やかな連携で着実な推進～</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ＭＳ Ｐゴシック"/>
              </a:rPr>
              <a:t>・職員の毎月の時間外在校等時間の縮減を図る（一人あたり　５０時間以下）。→</a:t>
            </a:r>
            <a:r>
              <a:rPr b="0" lang="en-US" sz="1200" spc="-1" strike="noStrike">
                <a:solidFill>
                  <a:srgbClr val="ff0000"/>
                </a:solidFill>
                <a:latin typeface="ＭＳ Ｐゴシック"/>
              </a:rPr>
              <a:t>100</a:t>
            </a:r>
            <a:r>
              <a:rPr b="0" lang="ja-JP" sz="1200" spc="-1" strike="noStrike">
                <a:solidFill>
                  <a:srgbClr val="ff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ＭＳ Ｐゴシック"/>
              </a:rPr>
              <a:t>・勤務時間を超える会議→０回</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ＭＳ Ｐゴシック"/>
              </a:rPr>
              <a:t>・「盛聴フライデー（定時退庁日）」の実施→</a:t>
            </a:r>
            <a:r>
              <a:rPr b="0" lang="en-US" sz="1200" spc="-1" strike="noStrike">
                <a:solidFill>
                  <a:srgbClr val="ff0000"/>
                </a:solidFill>
                <a:latin typeface="ＭＳ Ｐゴシック"/>
              </a:rPr>
              <a:t>100</a:t>
            </a:r>
            <a:r>
              <a:rPr b="0" lang="ja-JP" sz="1200" spc="-1" strike="noStrike">
                <a:solidFill>
                  <a:srgbClr val="ff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ＭＳ Ｐゴシック"/>
              </a:rPr>
              <a:t>・手話表現を交えた挨拶の励行→毎朝会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聴覚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100" spc="-1" strike="noStrike">
                <a:solidFill>
                  <a:srgbClr val="000000"/>
                </a:solidFill>
                <a:latin typeface="Arial"/>
              </a:rPr>
              <a:t>１）子どもたちや保護者との対話を大切にしており、良好な職場の雰囲気といえ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２）各学部間、各校務部・寄宿舎間の、一層の連携が求められ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３）目標・期日を見据えた、より計画的な業務の推進が求められ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４）長時間勤務の職員は固定化されており、質・量両面の業務の見直しが求められる。</a:t>
            </a:r>
            <a:endParaRPr b="0" lang="en-US" sz="11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２７日　盛岡聴覚支援学校長　森山　学</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5156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１）教職員一人一人が、やりがいを感じながら業務に取り組んで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２）教職員が互いに情報交換を密にし、連携しあいながら業務にあたっ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３）教職員が明確な目標設定のもと、充実感を持って業務を推進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４）業務の偏在・停滞が認められる際には、協力し分担しあってチームとして解決する。</a:t>
            </a:r>
            <a:endParaRPr b="0" lang="en-US" sz="11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会議のスリム化を図ります。（実施回数・時間短縮・簡潔な資料・会議終了時間の明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日頃から気軽に相談しあえる雰囲気づくりを心がけ、お互いを尊重し支えあいながら、職員一人一人が充実感を味わえる職場づくり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関係機関との連携協力のもと、教職員が子どもたちの教育活動に専念できる職場づくり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地域の文化資源を活用し、より効率的に子どもたちが広く、深く、様々な体験経験を積むことができるように工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朝会時、全員が手話表現をしながら挨拶を交わし、職員全体で意欲的に聴覚支援教育に取り組む姿勢を確認しあって毎日の業務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時間外在校等勤務時間や業務量等の物理的な負担の軽　　減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精神的な負担感の軽減対応のためにも「勤務状況確認シートに係る面談の他にも、随時の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本人からの相談はもちろん、同僚が抱える困り感等についても相談しやすい職場環境を作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毎週金曜日を定時退庁日に設定し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山　芳克</cp:lastModifiedBy>
  <cp:lastPrinted>2021-05-11T05:05:06Z</cp:lastPrinted>
  <dcterms:modified xsi:type="dcterms:W3CDTF">2022-05-29T22:48:31Z</dcterms:modified>
  <cp:revision>959</cp:revision>
  <dc:subject/>
  <dc:title>スライド 1</dc:title>
</cp:coreProperties>
</file>