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2098-9A84-411C-96B3-D33839B44A0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C656-F95B-4F01-9B84-5DE5948B4C9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02D-53F7-44B9-B1E3-81FBE4EB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C77-DF47-4E42-A458-44182D1A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197-135F-4796-A4E2-A107E344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9B0-9506-4E54-9191-C771A361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61D-C91C-4E03-AF70-C6530456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8B0-AE8B-44D9-B642-684CA87D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E7E-FD0F-41DA-9487-268926B4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8F70-CDA7-4D6F-BE4A-FDAF817A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098-E139-4B1B-9231-9E32F706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684-5B6A-425C-BF7F-FF5799A2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283-83DB-4381-AFE5-71E6C05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2E4-56C4-4111-99DF-0810DD01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8B6D-D875-4CC4-B89D-E312CABF9F76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山田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lang="en-US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(</a:t>
            </a:r>
            <a:r>
              <a:rPr b="0" lang="ja-JP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や</a:t>
            </a:r>
            <a:r>
              <a:rPr b="0" lang="en-US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)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山高の　</a:t>
            </a:r>
            <a:r>
              <a:rPr b="0" lang="en-US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(</a:t>
            </a:r>
            <a:r>
              <a:rPr b="0" lang="ja-JP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ま</a:t>
            </a:r>
            <a:r>
              <a:rPr b="0" lang="en-US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)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邁進助ける　</a:t>
            </a:r>
            <a:r>
              <a:rPr b="0" lang="en-US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(</a:t>
            </a:r>
            <a:r>
              <a:rPr b="0" lang="ja-JP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だ</a:t>
            </a:r>
            <a:r>
              <a:rPr b="0" lang="en-US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)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第一歩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％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0</a:t>
            </a: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％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週休日の部活動を除く時間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5</a:t>
            </a: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％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以上　定時退勤　を行う教職員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「授業や授業準備に集中できている」等の肯定的実感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7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以上　　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県教委による調査の結果とし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データはすべて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3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年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山田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等時間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下段は週休日の部活動を除く時間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.9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0.9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.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.7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9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.2)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週休日及び休日の部活動指導　月平均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時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年次休暇の取得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.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前年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.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日単位で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日以上取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週休日の振替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.8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前年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0.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「ＮＯ延長デー」取組回数は一人当たり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月平均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.9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回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定数減少に伴い、業務の削減又は負担の平準化が課題。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０日　山田高等学校長　晴山　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・　教職員一人一人が、やりがいを感じながらいきいきと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・　教職員が生徒と向き合う時間が確保され、必要十分な教育を提供すること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　　できている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・　管理職が日頃から教職員の職務状況を把握し、必要に応じてサポートできる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　　体制が確保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　・　ワーク・ライフ・バランスが保たれ、時間的・精神的にゆとりをもって日々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　　送ることが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400640"/>
            <a:ext cx="3964320" cy="1687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見直しによる</a:t>
            </a: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業務削減（スクラップ）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業務交換・移管（トレ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　ド）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を進めることにより、負担の平準化を図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毎週</a:t>
            </a: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水曜日は「ＮＯ延長デー」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。計画的に業務を進め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説明項目の精選など、</a:t>
            </a: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会議時間の短縮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を図り、教員が生徒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向き合える時間等を作り出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校務分掌組織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部活動や学校行事の在り方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について、今年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も検討を継続します。　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77400" y="4392720"/>
            <a:ext cx="373536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ＰＴＡや同窓会の事務局業務について、学校及び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員が担う業務の適正化を図るよう関係団体との協議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コミュニティー・スクールを導入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、地域と一体とな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た学校づくり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長時間勤務者の要因分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取組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確実に実施し、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年次や振替の取得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ついて、管理職が積極的に声掛け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メンタルヘルス相談やサポート事業等の積極的活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推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晴山　俊</cp:lastModifiedBy>
  <cp:lastPrinted>2022-05-30T03:57:36Z</cp:lastPrinted>
  <dcterms:modified xsi:type="dcterms:W3CDTF">2022-05-30T03:59:50Z</dcterms:modified>
  <cp:revision>994</cp:revision>
  <dc:subject/>
  <dc:title>スライド 1</dc:title>
</cp:coreProperties>
</file>