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9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0360" cy="49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46280"/>
            <a:ext cx="505800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5320"/>
            <a:ext cx="2970360" cy="49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5320"/>
            <a:ext cx="2970360" cy="49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B49A-13CA-408C-8BB6-FA72A91345E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944568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2DA4-469F-423F-AEC3-EC1EA3F68B2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0000" y="746280"/>
            <a:ext cx="505800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6B6-15E4-4B35-80E3-50782513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F63-98F2-4EA7-8765-3DBE4519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5CB-83F9-4E77-A918-7097166A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99B-835B-43C3-941F-E516DD08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885-FCE6-4C07-9F7E-48EA05B6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E2E-1F25-4B8D-B40F-B8D6AA46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21A2-5ED1-4F39-BD6C-13B0C801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B80-1B35-4D55-89BA-3C7B7C21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F56-3D72-402B-A435-34BEE041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A7B-F342-46C0-ADC9-13867412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D9A-B2E7-4F69-9E08-60AF6896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9CB-F3EB-4CFC-8515-288B179F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3991-1F83-464A-8875-32ECBACDA7C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宮古北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206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職場の雰囲気がよく、働きやすいと感じて教育活動を行う教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時間外在校等時間の勤務を行う教職員→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の時間外在校等時間勤務する教職員→令和３年度比で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割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以上定時退庁する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年間の有給休暇５日以上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単位）と夏期休暇５日を取得している教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824040" y="1103400"/>
            <a:ext cx="1244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宮古北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206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３年度における職員の時間外勤務時間は少ない傾向に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職員の割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職員の割合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職員数が少ないため、赴任して初めて業務を担当するケース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業務に専門性が求められる分野の担当の負担が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部活動方針に則り、適切に休養日及び活動時間を設定し、実施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０日　宮古北高等学校長　佐藤　禎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206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一人一人が、創造性を持って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、教職員の勤務状況を把握し、適切な支援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組織的に業務が行わ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いきいきとやりがいをもって、生徒に向き合うことが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協議により業務・行事の適切なスクラップ＆ビルド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留守番電話機能の活用により、職員の時間外勤務を軽減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保護者メールや学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ページの活用により対外的な情報共有の効率化を推進します。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J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促進と意識改革を目的に、週に１度職員朝会時に職員によ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J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発表会を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生徒指導や教育相談について、積極的に外部との連携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コミュニティ・スクール導入の検討を進め、対外行事等への参加の精選など、持続可能な連携方法について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例年実施している行事、会議について、その目的を改めて確認し、内容の検討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年次休暇及び振替等の取得を奨励し、ライフとワークの両方の充実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頃から、休暇を取得しやすい職場環境の醸成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について配慮できるように、日常の会話を大切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藤　禎信</cp:lastModifiedBy>
  <cp:lastPrinted>2022-05-30T00:46:57Z</cp:lastPrinted>
  <dcterms:modified xsi:type="dcterms:W3CDTF">2022-05-30T00:50:23Z</dcterms:modified>
  <cp:revision>952</cp:revision>
  <dc:subject/>
  <dc:title>スライド 1</dc:title>
</cp:coreProperties>
</file>