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5920"/>
            <a:ext cx="5057640" cy="37256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80760" y="4721400"/>
            <a:ext cx="5445000" cy="447192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948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062E-EE7B-488B-866B-71AA308AA6F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0E8C-CE66-4D96-9A40-8D8AE8C2543B}"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74800" y="746280"/>
            <a:ext cx="5057640" cy="3725640"/>
          </a:xfrm>
          <a:prstGeom prst="rect">
            <a:avLst/>
          </a:prstGeom>
          <a:ln w="0">
            <a:noFill/>
          </a:ln>
        </p:spPr>
      </p:sp>
      <p:sp>
        <p:nvSpPr>
          <p:cNvPr id="7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0ACF2-1A23-4647-980C-3599FF635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E132A-5285-4350-9415-DEC5FA22C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72625-B583-436C-AE1E-473C64757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DBE44-BD56-41D4-88B9-AD4C14C98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E5F14-4D52-4FF7-A460-D25A0A2A9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3B2F1-A652-4565-B31C-68381D03D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A257F-FD56-4B81-B929-934933EB1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974A8-B671-4983-8FFB-04E356B94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6D63E-14F2-45CB-97FD-0DB362619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C7A46-6EA5-445B-9EE0-709301AC3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F8407-3528-4C76-A672-E4F9316A1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4AC42-5855-40E8-8116-7D34A10E90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25C8A-4559-4689-9CAC-7104CD0FD3EE}"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沼宮内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lang="ja-JP" sz="2000" spc="-1" strike="noStrike">
                <a:solidFill>
                  <a:srgbClr val="7f7f7f"/>
                </a:solidFill>
                <a:latin typeface="HGS創英角ｺﾞｼｯｸUB"/>
                <a:ea typeface="HGS創英角ｺﾞｼｯｸUB"/>
              </a:rPr>
              <a:t>働きがいを感じ、ワークライフバランスがとれている職場の実現</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在校等時間（週休日の部活動従事時間を除く）が月</a:t>
            </a:r>
            <a:r>
              <a:rPr b="0" lang="en-US" sz="1200" spc="-1" strike="noStrike">
                <a:solidFill>
                  <a:srgbClr val="000000"/>
                </a:solidFill>
                <a:latin typeface="ＭＳ Ｐゴシック"/>
              </a:rPr>
              <a:t>45</a:t>
            </a:r>
            <a:r>
              <a:rPr b="0" lang="ja-JP" sz="1200" spc="-1" strike="noStrike">
                <a:solidFill>
                  <a:srgbClr val="000000"/>
                </a:solidFill>
                <a:latin typeface="ＭＳ Ｐゴシック"/>
              </a:rPr>
              <a:t>時間を超える教職員→ゼロ</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勤務が月</a:t>
            </a:r>
            <a:r>
              <a:rPr b="0" lang="en-US" sz="1200" spc="-1" strike="noStrike">
                <a:solidFill>
                  <a:srgbClr val="000000"/>
                </a:solidFill>
                <a:latin typeface="ＭＳ Ｐゴシック"/>
              </a:rPr>
              <a:t>60</a:t>
            </a:r>
            <a:r>
              <a:rPr b="0" lang="ja-JP" sz="1200" spc="-1" strike="noStrike">
                <a:solidFill>
                  <a:srgbClr val="000000"/>
                </a:solidFill>
                <a:latin typeface="ＭＳ Ｐゴシック"/>
              </a:rPr>
              <a:t>時間を超える教職員→できるだけ当該の月に、</a:t>
            </a:r>
            <a:r>
              <a:rPr b="0" lang="en-US" sz="1200" spc="-1" strike="noStrike">
                <a:solidFill>
                  <a:srgbClr val="000000"/>
                </a:solidFill>
                <a:latin typeface="ＭＳ Ｐゴシック"/>
              </a:rPr>
              <a:t>60</a:t>
            </a:r>
            <a:r>
              <a:rPr b="0" lang="ja-JP" sz="1200" spc="-1" strike="noStrike">
                <a:solidFill>
                  <a:srgbClr val="000000"/>
                </a:solidFill>
                <a:latin typeface="ＭＳ Ｐゴシック"/>
              </a:rPr>
              <a:t>時間を超過した時間以上の振替あるいは年次休暇を取得し、休養に努め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１日単位の年次休暇を５日以上取得する教職員→</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沼宮内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時間外勤務の月平均時間は１７時間程度で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大会や学校行事などで、一部教職員に業務が 集中している時期が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年次休暇は、比較的取得しやすい環境にある。（他の教職員の理解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業務の見直しや改善についての取組・改善していると回答した教職員は</a:t>
            </a:r>
            <a:r>
              <a:rPr b="0" lang="en-US" sz="1200" spc="-1" strike="noStrike">
                <a:solidFill>
                  <a:srgbClr val="000000"/>
                </a:solidFill>
                <a:latin typeface="Arial"/>
              </a:rPr>
              <a:t>100</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数が少ないため、教職員の業務内容が多岐にわた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１９日　沼宮内高等学校長　菊池　省治</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8172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本校の生徒１人ひとりがいきいきと学校生活を送り成長するために、教職員が心身ともに健康な状態で生徒に向き合うことができ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業務に関しての合意形成のプロセスを明確にし、教職員が一体となって遂行することで、多忙感を解消するとともに達成感が得られ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個々の教職員が適切なワークライフバランスを維持することにより、業務を推進し生徒に向き合う活力にあふれる心身の状態を保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や同僚に気軽に相談や提案ができるような職場環境である。</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長時間勤務の解消に向け、正確な勤務実態の把握に努めて問題点を明らかにし、解消の方策を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は校内分掌の適切な配置を行い、各主任と緊密に連携し、業務分担を適切に行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全体及び分掌内で情報共有や合意形成を丁寧に行い、一致して業務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本来の業務に専念できるよう、</a:t>
            </a:r>
            <a:r>
              <a:rPr b="0" lang="en-US" sz="1200" spc="-1" strike="noStrike">
                <a:solidFill>
                  <a:srgbClr val="000000"/>
                </a:solidFill>
                <a:latin typeface="Arial"/>
              </a:rPr>
              <a:t>PTA</a:t>
            </a:r>
            <a:r>
              <a:rPr b="0" lang="ja-JP" sz="1200" spc="-1" strike="noStrike">
                <a:solidFill>
                  <a:srgbClr val="000000"/>
                </a:solidFill>
                <a:latin typeface="Arial"/>
              </a:rPr>
              <a:t>や連携先（役場）等との協議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指導員の配置の積極的な活用を進めて顧問の負担軽減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375680" y="8535960"/>
          <a:ext cx="5329080" cy="68112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心身の不調を感じた場合は、軽微な段階で適切な対応を取ることを常日頃から推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振替や年次休暇等を活用できる環境を整備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各種検診やサポート事業を周知し、活用を勧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各個人の健康確保・自己管理が、他の教職員の負担増の防止や生徒指導の充実につながり、最終的に学校運営の成否に関わるという意識を持ち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葉　浩</cp:lastModifiedBy>
  <cp:lastPrinted>2022-05-18T09:15:52Z</cp:lastPrinted>
  <dcterms:modified xsi:type="dcterms:W3CDTF">2022-05-18T09:22:15Z</dcterms:modified>
  <cp:revision>951</cp:revision>
  <dc:subject/>
  <dc:title>スライド 1</dc:title>
</cp:coreProperties>
</file>