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960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0400" y="739440"/>
            <a:ext cx="502128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010A-80CD-4BA2-92EC-DD9083DF78C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5942-8A87-4ACE-BE49-0F5AF8C13473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60400" y="739800"/>
            <a:ext cx="5021280" cy="37018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DB94-BC52-4BD7-99DC-80F4FB5D6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8F9F-41F2-4AAE-B9BE-0BDD2B5C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2B7F-FB6B-4C44-8C0C-3784992DA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F956-F17F-4866-98DB-92EC61362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3ABB-69CA-4291-AD33-C3BA5421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09D4-3CAD-4590-93C0-8D53FF42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D84A-97C1-4797-9DF6-3EEA3CC1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CC38-AB9D-4FEE-89E3-431DE7E1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0695-BD8C-4113-B678-61D5F11F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0A30-C5C0-41FD-8498-BC90D41E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F434-6833-4419-8E79-1883FE45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AAA8-F168-41BF-8DE8-44DF0186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7F55-189C-40D7-945C-D0C1004DE780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83320" y="-2192040"/>
            <a:ext cx="720720" cy="11728440"/>
          </a:xfrm>
          <a:custGeom>
            <a:avLst/>
            <a:gdLst>
              <a:gd name="textAreaLeft" fmla="*/ 0 w 720720"/>
              <a:gd name="textAreaRight" fmla="*/ 721080 w 72072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08080"/>
            <a:ext cx="11449080" cy="822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遠野緑峰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～チーム緑峰プロジェクト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665760"/>
            <a:ext cx="7118640" cy="11368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 ・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１００時間以上の時間外在校等時間の勤務を行う教職員　→　０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 ・年３６０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の時間外在校等時間勤務を行う教職員　→　令和３年度比８０％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 ・部活動休養日を週２回もしくは年間１００日以上確保している教職員　→　１００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年間の有給休暇５日以上（１日単位）と夏季休暇５日を取得している職員　→　９０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 ・徐々にワーク・ライフバランスが保てるようになってきたと感じる教職員　→　９０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（令和３年度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905040" y="1101600"/>
            <a:ext cx="11912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遠野緑峰高校では、「岩手県教職員働き方改革プラン（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4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わかる授業・魅力ある授業の実践に全職員で取り組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農場管理のため、休日や学校閉庁日にも日直業務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時間外在校等時間の年平均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.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である。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.8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時間外在校等時間が４５時間以上の教職員は４名延べ９月である。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2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５名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べ９月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時間外在校等時間が年３６０時間超の教職員は４名である。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2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１０名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時間外在校等時間が月１００時間以上の教職員はいな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424720" y="7604280"/>
            <a:ext cx="4248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４年５月２０日　岩手県立遠野緑峰高等学校　校長　　髙橋　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4446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一人一人が、やりがいと充実感を持って教育活動を行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充実した地域連携により、地域と共にある学校として評価され、地域住民から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援さ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全職員での協働体制が確立しており、ワーク・ライフバランスがと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休みたい時に、遠慮なく休暇を取れる風通しの良い雰囲気が職場にある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管理職が日頃から、働きやすい職場作りに向けて声がけを行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643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・　副担任２人制を実施し、教育活動の協働体制を推進しま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・　受付文書の一部削減により、業務の簡略化を推進しま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・　業務・行事の適切なスクラップ＆ビルドに向けて、教職員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声に耳を傾け、検討、実施に向けて柔軟に対応しま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・　教育活動におけるＩＣＴ化を推進し、ペーパーレス化等、業務の効率化を進めま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・　留守番電話導入による電話対応時間の縮減を推進しま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電話対応時間７時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30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分～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7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時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30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分（留守番電話対応時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7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時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30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分～翌日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7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時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30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分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67680" y="4392720"/>
            <a:ext cx="3745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遠野市教育委員会等関係機関と連携して業務の明確化・適正化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学校運営協議会制度を活用し、地域とビジョンを共有し、協働して業務にあた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TA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総会の開催時間の変更等、働き方改革に向けた取組について、保護者に理解いただけるよう協議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0"/>
          <p:cNvSpPr/>
          <p:nvPr/>
        </p:nvSpPr>
        <p:spPr>
          <a:xfrm>
            <a:off x="1079640" y="4392720"/>
            <a:ext cx="4024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日々の教育活動を、明るく、笑顔で実践できるように、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教職員が健康増進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働きやすい職場を目指して、お互い声を掛け合い、心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力を合わせ、助け合って、教育活動を推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日頃から、休暇を取得しやすい風通しの良い職場環境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確立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、教職員の健康について配慮できるように、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常のコミュニケーションを大切に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7777080" y="8591400"/>
          <a:ext cx="4392720" cy="614520"/>
        </p:xfrm>
        <a:graphic>
          <a:graphicData uri="http://schemas.openxmlformats.org/drawingml/2006/table">
            <a:tbl>
              <a:tblPr/>
              <a:tblGrid>
                <a:gridCol w="951120"/>
                <a:gridCol w="1790640"/>
                <a:gridCol w="16509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0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髙橋　堅</cp:lastModifiedBy>
  <cp:lastPrinted>2022-05-22T23:08:08Z</cp:lastPrinted>
  <dcterms:modified xsi:type="dcterms:W3CDTF">2022-05-22T23:23:15Z</dcterms:modified>
  <cp:revision>972</cp:revision>
  <dc:subject/>
  <dc:title>スライド 1</dc:title>
</cp:coreProperties>
</file>