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BEE8-B67E-499C-B385-C7215D6D35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B93C-D80C-4499-8A0F-C54A07EDF07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0440"/>
          </a:xfrm>
          <a:prstGeom prst="rect">
            <a:avLst/>
          </a:prstGeom>
          <a:ln w="0">
            <a:noFill/>
          </a:ln>
        </p:spPr>
      </p:sp>
      <p:sp>
        <p:nvSpPr>
          <p:cNvPr id="7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BC73A-368A-4A23-9DB8-9F77B2A69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4DDE-E506-4C71-89E7-5B3DFB3A1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23CE1-EB3D-46CA-95D6-862106264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61E6A-3444-4C86-9364-E862152CF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13E88-7A52-4014-B425-93E60CD56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565D2-ABC4-4F4A-AA7D-112F7C18A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9F538-D99D-48E1-84DF-23D13CCD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97380-A5DE-4091-9BCA-E508D4803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710CF-24DC-41EF-A091-DD477581A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0B688-871E-47FD-8C4B-5A1CD00EE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89EC-2E2F-420F-845A-602CF4A57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F754-5911-4A69-99B6-1CAE93EB9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8AAF-ADE9-47F7-B7AA-BA83FE702AD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800" spc="-1" strike="noStrike">
                <a:solidFill>
                  <a:srgbClr val="000000"/>
                </a:solidFill>
                <a:latin typeface="HGS創英角ｺﾞｼｯｸUB"/>
                <a:ea typeface="HGS創英角ｺﾞｼｯｸUB"/>
              </a:rPr>
              <a:t>令和４年度　宮古高等学校教職員 働き方改革アクションプラン</a:t>
            </a:r>
            <a:endParaRPr b="0" lang="en-US" sz="28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教職員を対象とした学校評価アンケートで「教職員が誇りや情熱、同一使命感をもち業務に取り組んでいる」とする回答→　９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a:t>
            </a:r>
            <a:r>
              <a:rPr b="0" lang="en-US" sz="1200" spc="-1" strike="noStrike">
                <a:solidFill>
                  <a:srgbClr val="000000"/>
                </a:solidFill>
                <a:latin typeface="ＭＳ Ｐゴシック"/>
              </a:rPr>
              <a:t>1</a:t>
            </a:r>
            <a:r>
              <a:rPr b="0" lang="ja-JP" sz="1200" spc="-1" strike="noStrike">
                <a:solidFill>
                  <a:srgbClr val="000000"/>
                </a:solidFill>
                <a:latin typeface="ＭＳ Ｐゴシック"/>
              </a:rPr>
              <a:t>年間の平均で、月当たりの時間外勤務１００時間以上の教員→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a:t>
            </a:r>
            <a:r>
              <a:rPr b="0" lang="en-US" sz="1200" spc="-1" strike="noStrike">
                <a:solidFill>
                  <a:srgbClr val="000000"/>
                </a:solidFill>
                <a:latin typeface="ＭＳ Ｐゴシック"/>
              </a:rPr>
              <a:t>1</a:t>
            </a:r>
            <a:r>
              <a:rPr b="0" lang="ja-JP" sz="1200" spc="-1" strike="noStrike">
                <a:solidFill>
                  <a:srgbClr val="000000"/>
                </a:solidFill>
                <a:latin typeface="ＭＳ Ｐゴシック"/>
              </a:rPr>
              <a:t>年間の平均で、月当たりの時間外勤務４５時間以上の教員　→　１６人</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宮古高等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6" name="Rectangle 70"/>
          <p:cNvSpPr/>
          <p:nvPr/>
        </p:nvSpPr>
        <p:spPr>
          <a:xfrm>
            <a:off x="1079640" y="1806480"/>
            <a:ext cx="5545080" cy="1803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昨年度一年間の平均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当たりの時間外勤務１００時間以上の職員：　０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当たりの時間外勤務４５時間以上の職員：　２３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を対象とした学校評価アンケートで「教職員が誇りや情熱、同一使命感を持ち業務に取り組んでいる」とする回答：　９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を効率的に行うことに努めており、「岩手県における部活動の在り方に関する方針」に基づき、週１日以上の休養日を確保し、休養日の年間累計が１００日以上となるよう計画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令和４年５月３０日　宮古高等学校長　鈴木　裕</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常に真理を探究しようとする意欲のある生徒の育成に向け、教職員が誇りや情熱、同一使命感を持ち業務を行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ワーク・ライフ・バランスを含むタイムマネジメント等の意識改革を進め、教職員が心身ともに健康で充実して働くことが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等を構成員とする既存の組織（校務運営委員会等）を活用して、業務の見直し、改善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の質を確保しつつ日課表の見直しを図り、放課後に落ち着いて業務に当たる時間的ゆとり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施設設備や備品等の管理・整理・改善により業務のスリム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を導入したことで、外部連絡の受信時間を明確化して、職員の業務の適正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外の業務について、保護者の理解を得た上で適正化を図るよ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を行っている教職員と管理職が面談をしながら、勤務時間の適正化に取り組みます。特に、時間外勤務時間の多い教職員との日常的な対話に力を入れて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等を活用しやすい環境整備に努め、教職員が心身ともに健康で働くことができる職場づくり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鈴木　裕</cp:lastModifiedBy>
  <cp:lastPrinted>2022-05-31T04:36:59Z</cp:lastPrinted>
  <dcterms:modified xsi:type="dcterms:W3CDTF">2022-05-31T04:46:48Z</dcterms:modified>
  <cp:revision>954</cp:revision>
  <dc:subject/>
  <dc:title>スライド 1</dc:title>
</cp:coreProperties>
</file>