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3000" y="744120"/>
            <a:ext cx="505152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2D39-0140-4B70-9651-7E0E851E76B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79E2-4382-4180-8EC2-982533721348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73000" y="744480"/>
            <a:ext cx="5051520" cy="37213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C2D3-BAC1-454D-B85A-649AF8638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8373-62B9-4428-82A2-1CD57DF8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2EDA-371C-4EB7-B4C3-1D36EB4B0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AB37-C94C-4A19-B067-FEA0B0914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E0B0-ADDE-44E7-94A8-0E0E11FA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CE79-B19E-4673-9E43-40AA657A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C6C6-AB2B-46E2-B27D-1388F879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2F19-E657-44A4-A20C-BCEC6BF2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62A7-2D4A-4FFA-B743-66DBC9F9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B1C4-27CD-4FAD-A985-9AED8A77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7FAE-63C6-406A-A33A-890C41B5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B3A3-5E82-46DB-9017-98D6D11D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411D-1EF2-496C-BDB3-A09C3B78D30B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４年度　杜陵高等学校奥州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熱意 誠意 創意 で明るく健康的な職場作り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90440" y="6665760"/>
            <a:ext cx="7118640" cy="12607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時間外在校等時間は１日２時間以内とし、１ヶ月全体の平均を４５時間以内とする。また、年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超える教職員をゼロ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年次休暇の計画的取得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夏季休暇の取得→１００％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259680"/>
            <a:ext cx="7129440" cy="40608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79640" y="366408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905040" y="1101600"/>
            <a:ext cx="119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杜陵高等学校定時制では、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1806480"/>
            <a:ext cx="5545080" cy="1657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定時制と通信制の校舎が別になっており、会議や行事、事務手続き等効率的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業務を行うことができな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多様な生徒一人一人にきめ細やかな教育を行っているため、教職員の精神的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な負担感が大き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令和３年度、時間外在校等時間の月平均８０時間を越える教員は年間０名で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あっ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79640" y="403236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08400" y="403236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8064360" y="7604280"/>
            <a:ext cx="495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４年５月３１日　杜陵高等学校長　髙橋 正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7272360" y="1795320"/>
            <a:ext cx="5535720" cy="1667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それぞれのライフワークバランスを意識して職務に取り組む一方で、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本校の果たすべき役割を自覚し、自らの責務を果た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の目配り、気配りの行き届いた教育によって、生徒個々の能力を引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出し、生徒が明るく学校生活を楽しんで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管理職が教職員の勤務状況を把握して、個に応じて適切に対応することで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良好な職場環境を築い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72720" y="403236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5108400" y="4392720"/>
            <a:ext cx="396432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日常的にこまめな情報交換を行い、定例職員会議など、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会議が効率よく行われるよう時間短縮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各教職員が、軽減・廃止できる業務について、積極的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提案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安全な校務や教材のデータの共有化を推進すること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より、業務の効率化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9067680" y="4392720"/>
            <a:ext cx="3745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定時制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と通信制に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所属する教職員が協力する業務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独立する業務とを明確にして負担軽減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SC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や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SSW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、児童相談所、福祉施設など外部と連携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して生徒を指導する態勢を構築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PTA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や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FTA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、同窓会等の事務局業務について、学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 及び教職員が担う業務の適正化を図るよう、関係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 体との協議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0"/>
          <p:cNvSpPr/>
          <p:nvPr/>
        </p:nvSpPr>
        <p:spPr>
          <a:xfrm>
            <a:off x="1079640" y="4392720"/>
            <a:ext cx="4024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働き方改革プランの時間外在校等時間縮減の取組みを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確実に実施し、教職員の健康を確保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が、教職員の健康診断の結果や普段の健康状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を把握し、配慮の必要な場合は積極的に対処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職員相互の理解と心遣いに基づいた風通しのよい教職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員の文化を醸成し、メンタルヘルスを心掛け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正方形/長方形 11"/>
          <p:cNvSpPr/>
          <p:nvPr/>
        </p:nvSpPr>
        <p:spPr>
          <a:xfrm>
            <a:off x="1090440" y="8105760"/>
            <a:ext cx="1173816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正方形/長方形 12"/>
          <p:cNvSpPr/>
          <p:nvPr/>
        </p:nvSpPr>
        <p:spPr>
          <a:xfrm>
            <a:off x="7107120" y="8121600"/>
            <a:ext cx="561528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7920000" y="8553600"/>
          <a:ext cx="4433760" cy="684000"/>
        </p:xfrm>
        <a:graphic>
          <a:graphicData uri="http://schemas.openxmlformats.org/drawingml/2006/table">
            <a:tbl>
              <a:tblPr/>
              <a:tblGrid>
                <a:gridCol w="960480"/>
                <a:gridCol w="1808280"/>
                <a:gridCol w="166500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0" name="正方形/長方形 8"/>
          <p:cNvSpPr/>
          <p:nvPr/>
        </p:nvSpPr>
        <p:spPr>
          <a:xfrm>
            <a:off x="7107120" y="9247320"/>
            <a:ext cx="567864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橋本　ゆかり</cp:lastModifiedBy>
  <cp:lastPrinted>2022-05-24T08:28:11Z</cp:lastPrinted>
  <dcterms:modified xsi:type="dcterms:W3CDTF">2022-05-25T01:29:23Z</dcterms:modified>
  <cp:revision>971</cp:revision>
  <dc:subject/>
  <dc:title>スライド 1</dc:title>
</cp:coreProperties>
</file>