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BC0F-538C-44A2-804B-D076D77D798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7CE-1703-4C9A-828B-76A9D698688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7B-FB8D-423F-92D8-A3CCE1E8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099-495A-4830-B031-18A3A25F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FDD-989C-4CA0-AFF1-8BD56E3C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781-AD9F-4A3C-BD65-12AE745D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2D2-0FE5-47B8-84EE-BCFC982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0DF-46B9-4260-BF3C-2A8D5BF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A7B-97B0-4574-8FE2-B8CB3CD5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73CF-3BC7-45CF-87BB-CE2E6C3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B8D-69F2-4C89-99CC-9AD85F8B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DAF-BA28-4C03-BE8A-455036BA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4E3-F36C-4B7E-9F3C-B8B7214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B6C-73E0-4F37-9AAA-CD8C5A9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99B-4F81-41B2-B28C-CD3E1606AF1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８０時間以上の勤務者をゼロ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評価アンケート・職員対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教職員の適性・能力に応じた校務分掌がなされている」⇒肯定的評価７５％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１０日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教諭の人数が少なく、講師の割合が高い。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人数が減り、教員一人あたりの業務量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５日　大槌高等学校長　継枝　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しながら、目標に向かいいきいき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に取り組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土日休日に設定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また、振替の取得促進を進め、各顧問の負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2138400"/>
                <a:gridCol w="19764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場環境を整え、職員間の良好な関係維持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図るとともに、働きやすい雰囲気の醸成に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竿代　愛也</cp:lastModifiedBy>
  <cp:lastPrinted>2022-05-24T03:31:28Z</cp:lastPrinted>
  <dcterms:modified xsi:type="dcterms:W3CDTF">2022-05-24T23:55:29Z</dcterms:modified>
  <cp:revision>957</cp:revision>
  <dc:subject/>
  <dc:title>スライド 1</dc:title>
</cp:coreProperties>
</file>