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0590-DB23-4919-9A00-990B24AE29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548B-DD0C-4C8C-A3F1-7FF6B205BA4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EF34-06E2-4902-86D9-05475FB92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21FD1-88CA-45A1-A9E5-9B1464CF8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CB2A7-031C-4A02-8830-B24144A1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9E1A9-AE82-41D2-AB40-C168275D7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2A0C-6706-4D2A-9340-E17BABF8B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713A7-2D95-4704-A6B8-676838E8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B5105-2ACC-401E-8158-59FF17B86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ABE58-73DB-4C8E-8D04-F4CBBEF5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13A5-5B80-4E35-AB9B-CDFF6B5B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DB1F-B163-4AE2-BB07-E98CC50F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07E8-F952-4ABB-ADE9-7CA1A338C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5A36-4E4B-47CA-BA31-A89D85998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9326-A1FE-4CED-95B3-7D6AC6AD28D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水沢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時間外勤務に該当する教職員→３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の定時退勤を行う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生徒一人一人の伸長を期して真摯に向き合い指導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は、週１日以上の休養日設定が徹底されているが、平日の場合が多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他業務により定時に退庁できない場合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や学校行事、進学や生徒指導等の業務によって多忙感が増幅した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十分な教材研究が出来ない場合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コロナ対応について、平日のみならず土日・休日の業務が著しく増えている。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４月</a:t>
            </a:r>
            <a:r>
              <a:rPr b="0" lang="en-US" sz="1100" spc="-1" strike="noStrike">
                <a:solidFill>
                  <a:srgbClr val="000000"/>
                </a:solidFill>
                <a:latin typeface="ＭＳ Ｐゴシック"/>
              </a:rPr>
              <a:t>18</a:t>
            </a:r>
            <a:r>
              <a:rPr b="0" lang="ja-JP" sz="1100" spc="-1" strike="noStrike">
                <a:solidFill>
                  <a:srgbClr val="000000"/>
                </a:solidFill>
                <a:latin typeface="Arial"/>
              </a:rPr>
              <a:t>日　岩手県立水沢高等学校長　菅野誠二</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多様な生徒と向き合う十分な時間を確保しながら、健康で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生きと業務に携わ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勤務時間を意識した働き方を進め、長時間勤務を縮減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授業準備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メリハリのある勤務形態となるよう喚起を行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や各分掌から、業務の平準化について積極的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提案し、個人に過重な負荷がかから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重複業務の削減や行事の精選等について検討し、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グループウェアの活用や職員会議のペーパーレス化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ＩＣＴを活用した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における外部からの電話について留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番電話対応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の「部活動に係る活動方針」に沿った活動を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践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や地域と一体となって、生徒指導・学習指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進路指導・安全指導等の取組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自らの時間外勤務時間を正確に把握し、超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縮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と体の健康保持のため積極的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声掛けをし、健康状態の把握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お盆の時期、及び年末年始に設定します。</a:t>
            </a: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8"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正方形/長方形 12"/>
          <p:cNvSpPr/>
          <p:nvPr/>
        </p:nvSpPr>
        <p:spPr>
          <a:xfrm>
            <a:off x="7089840" y="808524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鎖　伸也</cp:lastModifiedBy>
  <cp:lastPrinted>2021-06-29T01:28:57Z</cp:lastPrinted>
  <dcterms:modified xsi:type="dcterms:W3CDTF">2022-05-18T01:46:26Z</dcterms:modified>
  <cp:revision>943</cp:revision>
  <dc:subject/>
  <dc:title>スライド 1</dc:title>
</cp:coreProperties>
</file>