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189-8586-42B7-974B-B5CA4B40CE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50D6-E23A-4938-91FA-DB702D24A9A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21B-8D19-4C07-B49D-583CC33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8B7-AF22-42F3-AA6F-2710A3E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972-BDCF-4F83-A741-22120B02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89F-C13D-4A90-8461-A433D00B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8F8-8AFA-4B40-A685-ADA920B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955-195E-46EB-A131-59057027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EEE-8767-43A6-B239-03401C5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793-A512-4F77-BEBA-63C4F08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094-DFF3-4280-89F7-264432A7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790-AC9B-40A2-8D99-C3CBB73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FC0-BAEE-40A2-9783-5F07BD0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291-C647-4B50-A684-CCB5549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6CC-86DE-477E-8949-3922AF2A404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１ヶ月の時間外在校等時間が４５時間以上の教職員（延べ）の割合→１０％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年３６０時間以上の教職員の割合→４０％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各自が定時退勤日又はプラス３０分退勤日の設定→週１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積極的な休暇取得→月１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東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710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ヶ月の時間外在校等時間が４５時間以上あった教職員（延べ）は１３．２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間の時間外在校等時間が、３６０時間以上の教職員は全体の４４．８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退庁や部活動の休業が十分に取れない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教職員に時間外勤務８０時間以上となる場合が見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岩手県立久慈東高等学校長　佐々木　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風通しのよい職場と感じ、教員としての使命感や達成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を実感し、生き生きと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各自の勤務時間を意識しながら働き、長時間勤務の縮減に取り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休憩・休息の時間を十分に確保し、年次休暇を適宜取得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に対し、日頃からコミュニケーションをと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情報の共有と分掌間の連携協力を図り、業務の効率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進めます。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を図り、勤務時間外の会議や打合せ等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わないよう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各主任との面談等により、業務の状況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把握し、業務の効率化や軽減に向けて助言を行います。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分掌業務の見直しを進め、ＩＣＴを積極的に活用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た業務の推進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外の外部からの電話について、留守番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話による対応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本校における働き方改革の取り組みについ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理解と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90440" y="810576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自己の時間外勤務を把握し、積極的に時間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勤務の縮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状態の把握に努め、休暇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ついても積極的に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を夏季休業及び年末年始に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松　了</cp:lastModifiedBy>
  <cp:lastPrinted>2022-06-01T04:23:59Z</cp:lastPrinted>
  <dcterms:modified xsi:type="dcterms:W3CDTF">2022-06-01T04:24:03Z</dcterms:modified>
  <cp:revision>968</cp:revision>
  <dc:subject/>
  <dc:title>スライド 1</dc:title>
</cp:coreProperties>
</file>