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4120"/>
            <a:ext cx="5058000" cy="37292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D132-11C4-41C2-AB47-0FA158992A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DB1F-5FB6-4B08-A0FB-D9ADFD461BF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900000" y="744480"/>
            <a:ext cx="5058000" cy="3729240"/>
          </a:xfrm>
          <a:prstGeom prst="rect">
            <a:avLst/>
          </a:prstGeom>
          <a:ln w="0">
            <a:noFill/>
          </a:ln>
        </p:spPr>
      </p:sp>
      <p:sp>
        <p:nvSpPr>
          <p:cNvPr id="7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5F537-4300-4485-94CD-DC6E367FE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AC2B3-9546-480F-9C0D-47EC73F1E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05E23-B333-4CA5-B586-D3E3B890B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C1FCE-FC21-45B6-B473-0E4789E57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35402-975F-410F-82D7-5D4DD9371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3B61-A3FF-4D29-B66E-27ADF8B1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4C0F-16F5-4775-B041-40ADCC77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B2B3B-4E25-4C75-9FD2-DE3CE4423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44A01-B62D-4591-B5CF-623CA5F16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F83C-F553-42D1-B12D-EFE4EF2F8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DC77-9310-461E-8231-B7213BDD9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17E9-411B-4E0B-9F53-32BA4B162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E18A-8A26-4675-9F57-09CA05BB79F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正方形/長方形 11"/>
          <p:cNvSpPr/>
          <p:nvPr/>
        </p:nvSpPr>
        <p:spPr>
          <a:xfrm>
            <a:off x="1079640" y="8058240"/>
            <a:ext cx="11737800" cy="184608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49" name="ホームベース 4"/>
          <p:cNvSpPr/>
          <p:nvPr/>
        </p:nvSpPr>
        <p:spPr>
          <a:xfrm rot="16200000">
            <a:off x="6588000" y="-2268720"/>
            <a:ext cx="792360" cy="11809440"/>
          </a:xfrm>
          <a:custGeom>
            <a:avLst/>
            <a:gdLst>
              <a:gd name="textAreaLeft" fmla="*/ 0 w 792360"/>
              <a:gd name="textAreaRight" fmla="*/ 792720 w 792360"/>
              <a:gd name="textAreaTop" fmla="*/ 0 h 11809440"/>
              <a:gd name="textAreaBottom" fmla="*/ 11809800 h 11809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Text Box 23"/>
          <p:cNvSpPr/>
          <p:nvPr/>
        </p:nvSpPr>
        <p:spPr>
          <a:xfrm>
            <a:off x="1224000" y="27000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雫石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風通しの良い職場を目指して。　チーム雫高「やれば、できる」～</a:t>
            </a:r>
            <a:endParaRPr b="0" lang="en-US" sz="2000" spc="-1" strike="noStrike">
              <a:solidFill>
                <a:srgbClr val="000000"/>
              </a:solidFill>
              <a:latin typeface="Arial"/>
            </a:endParaRPr>
          </a:p>
        </p:txBody>
      </p:sp>
      <p:sp>
        <p:nvSpPr>
          <p:cNvPr id="51"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2"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時間外在校等時間、月４５時間超（年間</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超）を令和２年度実績の８割減　（</a:t>
            </a:r>
            <a:r>
              <a:rPr b="0" lang="ja-JP" sz="1200" spc="-1" strike="noStrike">
                <a:solidFill>
                  <a:srgbClr val="ff0000"/>
                </a:solidFill>
                <a:latin typeface="ＭＳ Ｐゴシック"/>
              </a:rPr>
              <a:t>月</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時間超はゼロ</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１日単位の年次有給休暇を年間５日以上取得した教職員の割合　→</a:t>
            </a:r>
            <a:r>
              <a:rPr b="0" lang="ja-JP" sz="1200" spc="-1" strike="noStrike">
                <a:solidFill>
                  <a:srgbClr val="ff0000"/>
                </a:solidFill>
                <a:latin typeface="ＭＳ Ｐゴシック"/>
              </a:rPr>
              <a:t>　１００％</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年次有給休暇を取得した教職員の割合　→　</a:t>
            </a:r>
            <a:r>
              <a:rPr b="0" lang="ja-JP" sz="1200" spc="-1" strike="noStrike">
                <a:solidFill>
                  <a:srgbClr val="ff0000"/>
                </a:solidFill>
                <a:latin typeface="ＭＳ Ｐゴシック"/>
              </a:rPr>
              <a:t>　８０％</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業務負担の軽減を実感できた職員の割合　→　</a:t>
            </a:r>
            <a:r>
              <a:rPr b="0" lang="ja-JP" sz="1200" spc="-1" strike="noStrike">
                <a:solidFill>
                  <a:srgbClr val="ff0000"/>
                </a:solidFill>
                <a:latin typeface="ＭＳ Ｐゴシック"/>
              </a:rPr>
              <a:t>　８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4"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1079640" y="3664080"/>
            <a:ext cx="11809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6" name="テキスト ボックス 2"/>
          <p:cNvSpPr/>
          <p:nvPr/>
        </p:nvSpPr>
        <p:spPr>
          <a:xfrm>
            <a:off x="905040" y="1101600"/>
            <a:ext cx="1219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雫石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7"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級減に伴う定数減により、個々が担当する分掌業務が多岐にわたっ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雫石町を含めた外部機関との連携による新規事業及び事業継続に伴い、業務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複雑化・多様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校の魅力化を発信するために、新規事業の採択及び事業継続に伴い、各分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業務量が年々増加傾向にあり、教職員間の負担感が増しており、心の余裕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的な余裕がなく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9" name="Rectangle 70"/>
          <p:cNvSpPr/>
          <p:nvPr/>
        </p:nvSpPr>
        <p:spPr>
          <a:xfrm>
            <a:off x="5141880" y="4032360"/>
            <a:ext cx="396396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0" name="正方形/長方形 2"/>
          <p:cNvSpPr/>
          <p:nvPr/>
        </p:nvSpPr>
        <p:spPr>
          <a:xfrm>
            <a:off x="8462880" y="7658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５日　岩手県立雫石高等学校長　佐々木　佳史</a:t>
            </a:r>
            <a:endParaRPr b="0" lang="en-US" sz="1100" spc="-1" strike="noStrike">
              <a:solidFill>
                <a:srgbClr val="000000"/>
              </a:solidFill>
              <a:latin typeface="Arial"/>
            </a:endParaRPr>
          </a:p>
        </p:txBody>
      </p:sp>
      <p:sp>
        <p:nvSpPr>
          <p:cNvPr id="61"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総勤務時間を意識し、健康でやりがいを感じながら業務に取り</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組んでいる職場である。また、教職員が気軽に相談しやすく、気兼ねなく年次有給</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暇や振替等を取りやすい職場である。（</a:t>
            </a:r>
            <a:r>
              <a:rPr b="0" lang="ja-JP" sz="1200" spc="-1" strike="noStrike">
                <a:solidFill>
                  <a:srgbClr val="ff0000"/>
                </a:solidFill>
                <a:latin typeface="Arial"/>
              </a:rPr>
              <a:t>風通しがよい職場</a:t>
            </a:r>
            <a:r>
              <a:rPr b="0" lang="ja-JP" sz="1200" spc="-1" strike="noStrike">
                <a:solidFill>
                  <a:srgbClr val="000000"/>
                </a:solidFill>
                <a:latin typeface="Arial"/>
              </a:rPr>
              <a:t>）</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勤務時間外は、家庭生活を充実させる時間、あるいは自己啓発の時間として活用</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r>
              <a:rPr b="0" lang="ja-JP" sz="1200" spc="-1" strike="noStrike">
                <a:solidFill>
                  <a:srgbClr val="ff0000"/>
                </a:solidFill>
                <a:latin typeface="Arial"/>
              </a:rPr>
              <a:t>自己啓発を推進する職場</a:t>
            </a:r>
            <a:r>
              <a:rPr b="0" lang="ja-JP" sz="1200" spc="-1" strike="noStrike">
                <a:solidFill>
                  <a:srgbClr val="000000"/>
                </a:solidFill>
                <a:latin typeface="Arial"/>
              </a:rPr>
              <a:t>）</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を超える職員がいない。（</a:t>
            </a:r>
            <a:r>
              <a:rPr b="0" lang="en-US" sz="1200" spc="-1" strike="noStrike">
                <a:solidFill>
                  <a:srgbClr val="ff0000"/>
                </a:solidFill>
                <a:latin typeface="Arial"/>
              </a:rPr>
              <a:t>100</a:t>
            </a:r>
            <a:r>
              <a:rPr b="0" lang="ja-JP" sz="1200" spc="-1" strike="noStrike">
                <a:solidFill>
                  <a:srgbClr val="ff0000"/>
                </a:solidFill>
                <a:latin typeface="Arial"/>
              </a:rPr>
              <a:t>オーバーゼロの職場</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3"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4" name="Rectangle 70"/>
          <p:cNvSpPr/>
          <p:nvPr/>
        </p:nvSpPr>
        <p:spPr>
          <a:xfrm>
            <a:off x="9139320" y="4032360"/>
            <a:ext cx="37497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5" name="Rectangle 70"/>
          <p:cNvSpPr/>
          <p:nvPr/>
        </p:nvSpPr>
        <p:spPr>
          <a:xfrm>
            <a:off x="5141880" y="4392720"/>
            <a:ext cx="396396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Ｉ</a:t>
            </a:r>
            <a:r>
              <a:rPr b="0" lang="en-US" sz="1200" spc="-1" strike="noStrike">
                <a:solidFill>
                  <a:srgbClr val="000000"/>
                </a:solidFill>
                <a:latin typeface="Arial"/>
              </a:rPr>
              <a:t>C</a:t>
            </a:r>
            <a:r>
              <a:rPr b="0" lang="ja-JP" sz="1200" spc="-1" strike="noStrike">
                <a:solidFill>
                  <a:srgbClr val="000000"/>
                </a:solidFill>
                <a:latin typeface="Arial"/>
              </a:rPr>
              <a:t>Ｔ機器の積極的な活用を図り、業務の効率化を進めま　</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また、業務遂行においては、精選を旨として、積極的</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スクラップ＆ビルドを徹底します。</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終退庁時刻</a:t>
            </a:r>
            <a:r>
              <a:rPr b="0" lang="en-US" sz="1200" spc="-1" strike="noStrike">
                <a:solidFill>
                  <a:srgbClr val="000000"/>
                </a:solidFill>
                <a:latin typeface="Arial"/>
              </a:rPr>
              <a:t>19</a:t>
            </a:r>
            <a:r>
              <a:rPr b="0" lang="ja-JP" sz="1200" spc="-1" strike="noStrike">
                <a:solidFill>
                  <a:srgbClr val="000000"/>
                </a:solidFill>
                <a:latin typeface="Arial"/>
              </a:rPr>
              <a:t>時として、勤務時間を意識した業務の遂</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を図ります。</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の簡素化や各校務分掌内の業務の見直しに取り組</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914400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との連携による業務について、役割分担を明確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かつ業務内容の適正化を図るよう関係団体との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整と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お互いの業務を理解しながら、悩み事や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み事など、何でも気軽に「声を掛ける」、「声をあげ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作り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タイムカードの活用により客観的に勤務時間を把握し、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を意識した働き方を推進するとともに、勤務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適正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時間外勤務の状況を適切に把握すると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との面談等を通して心身の健康状態の把握に努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時に退庁をする日として、「ライトダウンの日」を、毎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日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正方形/長方形 12"/>
          <p:cNvSpPr/>
          <p:nvPr/>
        </p:nvSpPr>
        <p:spPr>
          <a:xfrm>
            <a:off x="6986520" y="8097840"/>
            <a:ext cx="5678640" cy="4636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graphicFrame>
        <p:nvGraphicFramePr>
          <p:cNvPr id="69" name=""/>
          <p:cNvGraphicFramePr/>
          <p:nvPr/>
        </p:nvGraphicFramePr>
        <p:xfrm>
          <a:off x="7704000" y="8578800"/>
          <a:ext cx="4434120" cy="68436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 name="正方形/長方形 8"/>
          <p:cNvSpPr/>
          <p:nvPr/>
        </p:nvSpPr>
        <p:spPr>
          <a:xfrm>
            <a:off x="7081920" y="9277200"/>
            <a:ext cx="5678280" cy="5781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佳史</cp:lastModifiedBy>
  <cp:lastPrinted>2022-06-02T22:58:51Z</cp:lastPrinted>
  <dcterms:modified xsi:type="dcterms:W3CDTF">2022-06-02T23:29:12Z</dcterms:modified>
  <cp:revision>954</cp:revision>
  <dc:subject/>
  <dc:title>スライド 1</dc:title>
</cp:coreProperties>
</file>