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4120"/>
            <a:ext cx="505152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B5BF-4363-4E00-A44B-0B389D19D05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3F91-6BBA-495C-9F7F-C2F8646EEE00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73000" y="744480"/>
            <a:ext cx="5051520" cy="37213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37CB-8D8E-4400-ADEB-ED587CBF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E409-99AE-4205-9968-51726D04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2AEE-DB95-4D14-B119-56E51EAD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EAB2-EB98-40DC-8DF8-13F7F3199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8805-F513-4FAB-B485-7323F1E2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3F89-C241-4913-A51A-4FC721BD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33DB-911A-4BE3-A8E1-0A449762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9475-4668-406D-A04E-307180C5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87B5-34BB-4803-80DF-59E68E87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E1D4-B6FF-40F1-B590-796232FD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B335-6E47-4B27-BB24-0EEEAB31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AAA8-D159-4499-97BE-D4D0B357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D8B8-9DC0-4B87-8E30-58D0A833AE6C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36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久慈高等学校長内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勤務したい・勤務して良かった学校を目指します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11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心身の故障による休職者→０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時間外在校時間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下の教職員→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週に２回以上定時退庁を行う教職員　→　早期に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月に２回以上年次休暇を取得する教職員　→　１００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久慈高等学校長内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定時制ではあるが、全日制高校と同様の学校行事を行っているため、各行事を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担当する教員など、一部の教職員に業務が集中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発達障害、精神疾患等、支援の必要な生徒が多く在籍しているため、生徒指導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学級担任に多大な負担がかか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再任用、講師が多く、次年度の校務分掌に影響するおそれ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部活動は平日１時間程度であり、多くの生徒がアルバイト就労しているため、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休日・休日のほとんどを休養日と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加重負担となるような時間外労働はほとんど無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日　久慈高等学校長　中　野　達　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7370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一人一人が、学校の役割を理解し、誇りとやりがいを持って職務に従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管理職が日頃から、休暇を取得しやすい環境づくりを行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組むことにより、職員の負担を軽減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、生徒と接する時間が十分に確保でき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職員が個人や家庭で過ごす時間を十分に確保でき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負担軽減に向け、校務全般見直しおよび定時退庁の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組について検討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活用し、ペーパレス化による業務の負担軽減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の外部委託を検討することにより、教職員の負担軽減と業務の効率化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学校業務について、業務の適正化を図るよう関係団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体との協議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地域と一体となって学校業務・教育活動の支援・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援について検討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令和３年度から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375680" y="8535960"/>
          <a:ext cx="5329080" cy="681120"/>
        </p:xfrm>
        <a:graphic>
          <a:graphicData uri="http://schemas.openxmlformats.org/drawingml/2006/table">
            <a:tbl>
              <a:tblPr/>
              <a:tblGrid>
                <a:gridCol w="1214280"/>
                <a:gridCol w="1371600"/>
                <a:gridCol w="1371600"/>
                <a:gridCol w="137160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2021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５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働き方改革プランの「教職員の負担軽減」の取組を確実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に実施し、教職員の健康を確保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教職員の勤務時間を把握し、メンタルケアの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実やライフ・ワークバランスを実現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、休暇取得促進について積極的に声掛けをし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教職員の心身の疲労を回復させる時間を確保し、良好な健康状態を維持できるよう、ストレスや悩みを管理職や同僚に相談しやすい職場を作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長谷川　和之</cp:lastModifiedBy>
  <cp:lastPrinted>2022-05-23T02:45:49Z</cp:lastPrinted>
  <dcterms:modified xsi:type="dcterms:W3CDTF">2022-05-23T02:45:55Z</dcterms:modified>
  <cp:revision>946</cp:revision>
  <dc:subject/>
  <dc:title>スライド 1</dc:title>
</cp:coreProperties>
</file>