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A26-FC8C-4669-94B9-5A3DD1DA56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19B-E605-407A-9343-F631967781B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40F-5F1A-47A0-9AAA-F80F8CCD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8BA-6C4D-478C-B315-FF00692D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23B-D8B8-4F7E-8338-E990CECA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989-7847-4E99-A8D4-4ACA444A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0B6-ACB2-4396-9CA4-B63E007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DB0-8745-43AD-A7A3-FE7ACFEA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70A-4B59-49C0-AB74-E50ABDDB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81E-038A-49C6-983F-701924FB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1D5-25B3-4A0F-8FA1-FBE2A97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DE9-CD06-40C1-B07A-4369E207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CA2-B6B2-4B13-B450-69ADF7B4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780-FD45-4793-ABD4-2DFE4E3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1D76-11D4-4E98-887B-879210863BB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協働により、ワーク・ライフ・バランスのとれた職場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員を、令和２年度実績の８割減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連続取得を奨励し、１年間の年次休暇取得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に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を進め、各分掌等の１業務以上を削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久慈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教員の月平均時間外勤務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１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年次休暇取得率は、時間に換算し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健康管理区分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教職員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級担任・分掌・部顧問等の業務分担に偏りが見られるとともに、進路指導や資格取得指導が一部の教員に偏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久慈工業高等学校長　藤原徳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仕事にやりがいを感じるとともに、「チーム久慈工業」として、教職員が協働し、支え合いながら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がとれ、家庭やプライベートの時間が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日頃から、教職員に対し面談を行い、業務に対する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学校全体の業務量の軽減、負担感の緩和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優先順位を考えながら、効率的に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チーム久慈工業として教職員の協働体制を構築し、担任３人制、複数部顧問制により業務の平準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的遂行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しを進め、形骸化した業務・効果の薄い業務を削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部顧問間の連携を強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会議と職員朝会について、所要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の将来を担うものづくり人材を育成するため、 「三つの方針（スクール・ポリシー）策定」及び「いわて高校魅力化・ふるさと創生推進事業」における地域の自治体や関係機関との連携・協働をより深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コミュニティ・スクール」の導入に向けて、地域とともにある学校づくり推進フォーラムにおける取組事例の発表等を参考にし、「高校魅力化推進コンソーシアム」からの移行も踏まえて、主体的に準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する面談を行うとともに、必要に応じて業務の在り方を検討・改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シートを活用するなどして、教職員の状況を把握し、サポー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やメンタルヘルス相談等の積極的利用を推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・特別休暇等の積極的な取得を推奨します。また、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503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徳久</cp:lastModifiedBy>
  <cp:lastPrinted>2021-06-29T07:07:26Z</cp:lastPrinted>
  <dcterms:modified xsi:type="dcterms:W3CDTF">2022-05-30T05:02:19Z</dcterms:modified>
  <cp:revision>1011</cp:revision>
  <dc:subject/>
  <dc:title>スライド 1</dc:title>
</cp:coreProperties>
</file>