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068C-6742-47CE-A699-E63A0A678E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040-40A8-4B20-B304-B223CE8E130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54E-63DF-487F-9CD3-5CB0C1F1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E67-F7CA-43BF-A267-EF0AF8C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69E-7164-403D-86CC-C3439F4F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5E8-2AE1-4C31-85DD-8DFB83C7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9EC-571A-44C2-96A2-90C77EC1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B42-3A48-40AD-8676-1E15757A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E26-D859-4B9E-A98D-F100528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4C90-264E-4B69-90AC-14B248A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1F8-3EA9-4ED0-8389-44C5EC1B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C46-E278-46BE-AEA4-D67658B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802-7FA8-4EB4-B7BD-E95A5014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53E-A384-4F49-961C-D267135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4E4-8E33-49A8-9E28-BBEE4B23840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 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694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の延べ人数→３人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数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平均取得日数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705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6092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において、時間外在校等時間（週休日の部活動指導従事時間を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く）が月４５時間を超える教職員数は延べ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また、年間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は２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において、年次休暇の平均取得日数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が少ないため、一人あたりの担当業務の種類が多くなり、多忙感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な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６日　花泉高等学校長　　嶋　　　　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心身の健康に不安を抱くことなく、業務に集中できる環境で、やり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いを感じながら生徒に向き合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仕事と生活を充実させて、希望のもてる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仕事量が偏ることなく平準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日頃から教職員の働きやすい環境づく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教職員の改善要望等を真摯に受け止め、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ることから積極的に改善す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仕事量について、特定の教職員に多くの仕事が偏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がないよう、一人一人の平準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曜日を原則として学校閉庁日とします。また、盆や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末年始も学校閉庁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水曜日を「Ｎｏ残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業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D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ｙ」とし、定時退庁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より効率的・効果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部活動の実施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2720" y="4392720"/>
            <a:ext cx="37447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やＰＴＡ、同窓会等との連携・協力を図りなが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過度に様々な業務を負担しないよう改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職員の健康状態等の把握に努めるととも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必要に応じて産業医の保健指導やメンタルヘルス相談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有効活用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取得を推進し、心身のリフレッシュ促進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3272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玲一郎</cp:lastModifiedBy>
  <cp:lastPrinted>2022-05-11T23:23:20Z</cp:lastPrinted>
  <dcterms:modified xsi:type="dcterms:W3CDTF">2022-05-12T00:59:25Z</dcterms:modified>
  <cp:revision>980</cp:revision>
  <dc:subject/>
  <dc:title>スライド 1</dc:title>
</cp:coreProperties>
</file>