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F95-8DE3-4796-86C6-96BE07F173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5C0A-8F5C-4620-B391-8B03CDE577A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4D0-89BA-4AED-A82B-7B06DEE2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E0A0-50C5-4F6B-A914-3C163381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F8D-8CAD-4342-938B-4A64832A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1A3-0F2D-4A4E-9C81-2D124746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3A2-78C0-4D14-9853-A381506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9D9-758A-4D97-87D4-40350433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271-B1EC-444E-BCCF-31FFE507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686-71CA-4F0D-967C-2951DF4E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782-C4E8-4980-A5FC-AC7357CF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148-6F6D-4C2A-A9D3-A536FC1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DFF-E4D6-4CDF-8B0E-368C0D32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DE3-4BB0-4EFD-902C-D15B1FF4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4D3-DFC3-4A4C-AAAA-9046FF705A2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勤務時間外業務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令和３年度実績（月・年間）から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の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４年５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　盛岡峰南高等支援学校長　川﨑広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順位を見極めながら、長時間勤務の軽減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勤務時間の縮減と、多忙感の低減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声掛けをするなど、メンタルヘルスを含めた健康状態の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7848720"/>
            <a:ext cx="11737800" cy="2016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388360"/>
          <a:ext cx="4434120" cy="68436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791532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4400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藤原　淳一</cp:lastModifiedBy>
  <cp:lastPrinted>2021-06-09T00:22:49Z</cp:lastPrinted>
  <dcterms:modified xsi:type="dcterms:W3CDTF">2022-05-29T22:43:20Z</dcterms:modified>
  <cp:revision>958</cp:revision>
  <dc:subject/>
  <dc:title>スライド 1</dc:title>
</cp:coreProperties>
</file>