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3000" y="744120"/>
            <a:ext cx="5051520" cy="37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8BADF-08CD-4771-869F-031A5DD843AB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CC77D-518A-4266-941C-8EFD1A6C5A30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873000" y="744480"/>
            <a:ext cx="5051520" cy="372132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C704-5FF0-490B-8A1B-3D50F050C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9091-3ABD-4685-A535-F05C10563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B458-2326-490B-A101-AA5364CA1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0FE3-FE17-4421-92EE-59A458FCC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93BE-5424-4435-B48C-9418FB163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BF35-FE2A-4CB5-AF59-20B4C52D4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481F-8D48-4AC1-8F4A-230400F07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A66E-10BC-40B1-BBF4-337C95F03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6DD0-A434-4F20-841D-DE9ED4BCD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C559-654C-42E6-9FB6-BF75167D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D461-2577-4099-8DAA-44AD1C515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819E-0610-41E9-9445-79CF393A7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31E46-7FD4-4B55-AABC-9CDB1F27E727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3"/>
          <p:cNvSpPr/>
          <p:nvPr/>
        </p:nvSpPr>
        <p:spPr>
          <a:xfrm>
            <a:off x="1249200" y="200160"/>
            <a:ext cx="11449080" cy="80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４年度　高田高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</a:t>
            </a:r>
            <a:r>
              <a:rPr b="0" i="1" lang="en-US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15</a:t>
            </a:r>
            <a:r>
              <a:rPr b="0" i="1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分以上早く帰るために</a:t>
            </a: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0"/>
          <p:cNvSpPr/>
          <p:nvPr/>
        </p:nvSpPr>
        <p:spPr>
          <a:xfrm>
            <a:off x="911160" y="3960720"/>
            <a:ext cx="5884920" cy="16560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教職員一人一人が、やりがいを感じながらゆとりをもって業務に取り組んで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管理職が日頃から、教職員とのコミュニケーションを密にとり、風通しの良い明るい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  場作りに努め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教職員が、生徒一人一人と接する時間を十分に確保でき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学習指導の充実のため、数多くの研修の機会があ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6918480" y="7162920"/>
            <a:ext cx="5954400" cy="16221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月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時間以上の時間外在校等時間の教職員→０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月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時間以上の時間外在校等時間の教職員→令和２年度実績の８割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年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時間以上の時間外在校等時間の教職員→令和２年度実績の８割減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月に１回以上年次休暇を取得する教職員→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80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0"/>
          <p:cNvSpPr/>
          <p:nvPr/>
        </p:nvSpPr>
        <p:spPr>
          <a:xfrm>
            <a:off x="9848880" y="2255760"/>
            <a:ext cx="3024000" cy="428148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 教職員個々に毎月の時間外在校等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をまとめたものを配付し、縮減への意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付けを図るとともに、時間外在校等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が長い教職員には管理職が積極的に声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がけを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 特定の職員に業務が集中しないよう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 チームで取り組む体制作りに努めます。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 人間ドック等、健康診断受診について積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極的に情報提供と声掛けをし、受診しや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すい雰囲気作りを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 月に１回以上、休暇を取得するよう積極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的に教職員を促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 盆、年末年始の学校閉庁日を適切に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定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 カウンセラー来校日には、教員もカウ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セリングを受けられるように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6908760" y="6759720"/>
            <a:ext cx="5985000" cy="35856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４　目　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0"/>
          <p:cNvSpPr/>
          <p:nvPr/>
        </p:nvSpPr>
        <p:spPr>
          <a:xfrm>
            <a:off x="895320" y="1432080"/>
            <a:ext cx="5889600" cy="37440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１　現　状（３年度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0"/>
          <p:cNvSpPr/>
          <p:nvPr/>
        </p:nvSpPr>
        <p:spPr>
          <a:xfrm>
            <a:off x="909720" y="3600360"/>
            <a:ext cx="5889600" cy="36036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２　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0"/>
          <p:cNvSpPr/>
          <p:nvPr/>
        </p:nvSpPr>
        <p:spPr>
          <a:xfrm>
            <a:off x="6973920" y="1432080"/>
            <a:ext cx="5929200" cy="79200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３　取組内容（３年度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テキスト ボックス 2"/>
          <p:cNvSpPr/>
          <p:nvPr/>
        </p:nvSpPr>
        <p:spPr>
          <a:xfrm>
            <a:off x="1108080" y="1092240"/>
            <a:ext cx="1170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高田高校では、「岩手県教職員働き方改革プラン」に基づき、以下の取組により、「学校における働き方改革」を推進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890640" y="1806480"/>
            <a:ext cx="5894280" cy="17208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教職員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名のうち、時間外在校等時間が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以上の者が年間を通し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  の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名であった。また、週休日の部活動従事時間を含めた数値で、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を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えた者はの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7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名、１ヶ月平均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.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名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.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％）、年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を超えた者は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3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名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 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6.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％）であった。長時間勤務の大きな要因は、部活動の練習、大会・遠征等の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日勤務であ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同時にいくつもの業務を抱えてしまう職員が多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健康管理区分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職員が、定期健康診断を受診した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4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名中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名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8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％）にのぼ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0"/>
          <p:cNvSpPr/>
          <p:nvPr/>
        </p:nvSpPr>
        <p:spPr>
          <a:xfrm>
            <a:off x="6948360" y="2236680"/>
            <a:ext cx="2881440" cy="43005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 退勤時間までに業務を終了させるよう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 　常に見通しを持って業務に当た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 「学校の部活動に係る活動方針」に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づき、効率的な指導に取組み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 管理職が、教職員の負担軽減策に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 いて積極的に提案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 会議資料の事前配付、様式の統一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 等により会議時間を短縮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 分掌組織や部活動の見直しを図り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 業務の効率化に取り組み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 校務におけるＯＪＴを推進し、教職員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成長できる学校を目指し、業務の偏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をなく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 学校行事等のスリム化を図り、ゆと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   ある学校運営を行い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横巻き 4"/>
          <p:cNvSpPr/>
          <p:nvPr/>
        </p:nvSpPr>
        <p:spPr>
          <a:xfrm>
            <a:off x="836640" y="5330880"/>
            <a:ext cx="5905440" cy="4537080"/>
          </a:xfrm>
          <a:prstGeom prst="horizontalScroll">
            <a:avLst>
              <a:gd name="adj" fmla="val 8000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800" spc="-1" strike="noStrike">
                <a:solidFill>
                  <a:srgbClr val="003300"/>
                </a:solidFill>
                <a:latin typeface="HGP創英角ｺﾞｼｯｸUB"/>
                <a:ea typeface="HGP創英角ｺﾞｼｯｸUB"/>
              </a:rPr>
              <a:t>　「岩手県教職員働き方改革プラン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（２０２１～２０２３）</a:t>
            </a:r>
            <a:r>
              <a:rPr b="0" lang="ja-JP" sz="1200" spc="-1" strike="noStrike">
                <a:solidFill>
                  <a:srgbClr val="003300"/>
                </a:solidFill>
                <a:latin typeface="HGP創英角ｺﾞｼｯｸUB"/>
                <a:ea typeface="HGP創英角ｺﾞｼｯｸUB"/>
              </a:rPr>
              <a:t>」 （抜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策定趣旨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働き方改革の実現により、岩手の未来を担う大切な子どもたちに、質の高い教育の持続的提供につなげ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期間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令和３年度～令和５年度までの３カ年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目標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目標１　県立学校の教員の時間外在校等時間の縮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時間外在校等時間が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時間以上の者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1" lang="ja-JP" sz="1200" spc="-1" strike="noStrike" u="sng">
                <a:solidFill>
                  <a:srgbClr val="000000"/>
                </a:solidFill>
                <a:uFillTx/>
                <a:latin typeface="Arial"/>
              </a:rPr>
              <a:t>令和３年度からゼロ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時間外在校等時間（週休日の部活動指導従事時間を除く。）が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超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超の者を下記のとおり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段階的に縮減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　目標２　業務への充実感や、健康面での安心感の向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　　　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令和５年度において、アンケート調査に基づく肯定的実感が令和３年度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実施結果から向上することを目指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0"/>
          <p:cNvSpPr/>
          <p:nvPr/>
        </p:nvSpPr>
        <p:spPr>
          <a:xfrm>
            <a:off x="6961320" y="1806480"/>
            <a:ext cx="2881080" cy="40968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１</a:t>
            </a: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)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教職員の負担軽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0"/>
          <p:cNvSpPr/>
          <p:nvPr/>
        </p:nvSpPr>
        <p:spPr>
          <a:xfrm>
            <a:off x="9871200" y="1806480"/>
            <a:ext cx="3024000" cy="43020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２</a:t>
            </a: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)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教職員の健康確保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584360" y="7905600"/>
          <a:ext cx="4680000" cy="984240"/>
        </p:xfrm>
        <a:graphic>
          <a:graphicData uri="http://schemas.openxmlformats.org/drawingml/2006/table">
            <a:tbl>
              <a:tblPr/>
              <a:tblGrid>
                <a:gridCol w="922320"/>
                <a:gridCol w="1289160"/>
                <a:gridCol w="1388880"/>
                <a:gridCol w="1079640"/>
              </a:tblGrid>
              <a:tr h="15264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在校等時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取組期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Ｒ３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(2021)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Ｒ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4(2022)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Ｒ５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(2023)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45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２年度実績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５割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２年度実績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８割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ゼ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　　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01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360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4" name="正方形/長方形 2"/>
          <p:cNvSpPr/>
          <p:nvPr/>
        </p:nvSpPr>
        <p:spPr>
          <a:xfrm>
            <a:off x="6918480" y="9144000"/>
            <a:ext cx="5538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令和４年５月１７日　　　　　　岩手県立高田高等学校長　坂本　美知治　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佐々木　直人</cp:lastModifiedBy>
  <cp:lastPrinted>2022-05-13T04:17:18Z</cp:lastPrinted>
  <dcterms:modified xsi:type="dcterms:W3CDTF">2022-05-18T01:37:28Z</dcterms:modified>
  <cp:revision>982</cp:revision>
  <dc:subject/>
  <dc:title>スライド 1</dc:title>
</cp:coreProperties>
</file>