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D16-E106-4A54-BDCB-6162514E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259-AA56-4A5C-9DF7-E872983D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0FD-B859-4B88-A157-C2193B62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46A-65A7-4A3B-93C5-003F8B29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6B2-1FFB-48CA-928E-C0AE77F3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5D4-0AE1-4269-BE71-179C2ACC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3C8-8877-4C08-A182-6D4BB764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C98-A2CE-49FC-B6C4-D4C61CD7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569-8E78-4DEF-9E61-96FF5C5A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789-5668-4482-8747-78B47DEF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A47-E9B7-4868-9E1D-DE456A0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0E3-35A3-44FC-8911-A3B47149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7413-B3C9-4106-94F5-0CCF02BF6DE0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2120" y="191880"/>
            <a:ext cx="12479400" cy="87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txBody>
          <a:bodyPr lIns="152280" rIns="152280" tIns="18360" bIns="18360" anchor="ctr">
            <a:no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buNone/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令和４年度　大船渡高等学校教職員 働き方改革アクションプラン</a:t>
            </a:r>
            <a:br>
              <a:rPr sz="2600"/>
            </a:br>
            <a:br>
              <a:rPr sz="2600"/>
            </a:br>
            <a:r>
              <a:rPr b="0" lang="ja-JP" sz="2400" spc="-1" strike="noStrike">
                <a:solidFill>
                  <a:srgbClr val="6600cc"/>
                </a:solidFill>
                <a:latin typeface="HGS創英角ｺﾞｼｯｸUB"/>
                <a:ea typeface="HGS創英角ｺﾞｼｯｸUB"/>
              </a:rPr>
              <a:t>～　先生の元気は生徒の元気　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6"/>
          <p:cNvSpPr/>
          <p:nvPr/>
        </p:nvSpPr>
        <p:spPr>
          <a:xfrm>
            <a:off x="565200" y="1114560"/>
            <a:ext cx="12658680" cy="29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大船渡高等学校では、「岩手県教職員働き方改革プラン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0"/>
          <p:cNvSpPr/>
          <p:nvPr/>
        </p:nvSpPr>
        <p:spPr>
          <a:xfrm>
            <a:off x="601560" y="1425600"/>
            <a:ext cx="5889600" cy="3747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　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0"/>
          <p:cNvSpPr/>
          <p:nvPr/>
        </p:nvSpPr>
        <p:spPr>
          <a:xfrm>
            <a:off x="7157880" y="1450800"/>
            <a:ext cx="588996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0"/>
          <p:cNvSpPr/>
          <p:nvPr/>
        </p:nvSpPr>
        <p:spPr>
          <a:xfrm>
            <a:off x="593640" y="4108320"/>
            <a:ext cx="12507840" cy="3844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0"/>
          <p:cNvSpPr/>
          <p:nvPr/>
        </p:nvSpPr>
        <p:spPr>
          <a:xfrm>
            <a:off x="587520" y="4476600"/>
            <a:ext cx="4617720" cy="40968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0"/>
          <p:cNvSpPr/>
          <p:nvPr/>
        </p:nvSpPr>
        <p:spPr>
          <a:xfrm>
            <a:off x="5197320" y="4473720"/>
            <a:ext cx="5040360" cy="40932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0"/>
          <p:cNvSpPr/>
          <p:nvPr/>
        </p:nvSpPr>
        <p:spPr>
          <a:xfrm>
            <a:off x="10233000" y="4476600"/>
            <a:ext cx="2868480" cy="59400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３）　学校及び教員が担う業務の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明確化・適正化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0"/>
          <p:cNvSpPr/>
          <p:nvPr/>
        </p:nvSpPr>
        <p:spPr>
          <a:xfrm>
            <a:off x="593640" y="4884840"/>
            <a:ext cx="4591080" cy="14396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　衛生委員会を活用した労働安全衛生体制を整備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イ　産業医による保健指導及びメンタルヘルス相談の活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を促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ウ　各種休暇や特割、振替休日等の取得を促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エ　教職員の働き方や時間外勤務縮減への意識改革を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ります。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5197320" y="4897440"/>
            <a:ext cx="5023080" cy="1212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　学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級規模に適した部活動のあり方（適正な部活動数・顧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問配置等）の検討を継続して行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イ　学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級規模に適した教育課程、学校行事等の見直し及び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業務の合理化に引き続き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ウ　管理職は、適正な労働環境及び支援体制の構築に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34440" y="5075280"/>
            <a:ext cx="2868840" cy="1035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学校評議員会や学校保健委員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等において、業務に係る意見・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言を求める機会を設定します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コネクタ 2"/>
          <p:cNvSpPr/>
          <p:nvPr/>
        </p:nvSpPr>
        <p:spPr>
          <a:xfrm flipH="1">
            <a:off x="601560" y="3409920"/>
            <a:ext cx="6229440" cy="6969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線コネクタ 9"/>
          <p:cNvSpPr/>
          <p:nvPr/>
        </p:nvSpPr>
        <p:spPr>
          <a:xfrm>
            <a:off x="6821640" y="3409920"/>
            <a:ext cx="6329160" cy="6825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614520" y="1800360"/>
            <a:ext cx="5895720" cy="2030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時間外勤務時間は、コロナからの復調の兆しもあり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準時間超過の職員数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２年度と比べて微増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職員は、年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延べ人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の職員は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職員は、年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延べ人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職員は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３）週休日も課外指導・部活動指導に従事している教員が多い。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４）部活動休養日は徹底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５）留守番電話の設置により、勤務時間外の電話対応は減少（緊急除く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55000" y="1825560"/>
            <a:ext cx="5892840" cy="15778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コロナからの復調が益々想定される中で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１）教員一人ひとりがやりがいを感じて、業務に取り組んで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２）生徒と向き合う時間（面談指導等）が確保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３）適正な労働時間が保たれ、健康の保持・増進が図ら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４）ワーク・ライフ・バランスを意識した働き方がな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1"/>
          <p:cNvSpPr/>
          <p:nvPr/>
        </p:nvSpPr>
        <p:spPr>
          <a:xfrm>
            <a:off x="6615000" y="1801800"/>
            <a:ext cx="489240" cy="1646280"/>
          </a:xfrm>
          <a:prstGeom prst="rightArrow">
            <a:avLst>
              <a:gd name="adj1" fmla="val 50000"/>
              <a:gd name="adj2" fmla="val 467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1"/>
          <p:cNvSpPr/>
          <p:nvPr/>
        </p:nvSpPr>
        <p:spPr>
          <a:xfrm>
            <a:off x="579600" y="6470640"/>
            <a:ext cx="6035400" cy="3370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　</a:t>
            </a:r>
            <a:r>
              <a:rPr b="0" lang="ja-JP" sz="1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　　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　　　　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2"/>
          <p:cNvSpPr/>
          <p:nvPr/>
        </p:nvSpPr>
        <p:spPr>
          <a:xfrm>
            <a:off x="738360" y="8024760"/>
            <a:ext cx="561636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00160" y="8464680"/>
          <a:ext cx="5329080" cy="68076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404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正方形/長方形 8"/>
          <p:cNvSpPr/>
          <p:nvPr/>
        </p:nvSpPr>
        <p:spPr>
          <a:xfrm>
            <a:off x="673200" y="915984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6843600" y="6551640"/>
            <a:ext cx="6289920" cy="3906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　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6843600" y="6942240"/>
            <a:ext cx="6288120" cy="208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１）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時間外在校等時間</a:t>
            </a: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縮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　時間外在校等時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以上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職員　➡　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ゼロ</a:t>
            </a:r>
            <a:r>
              <a:rPr b="1" lang="ja-JP" sz="1800" spc="-1" strike="noStrike">
                <a:solidFill>
                  <a:srgbClr val="ff0000"/>
                </a:solidFill>
                <a:latin typeface="AR Pゴシック体S"/>
                <a:ea typeface="AR Pゴシック体S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イ　時間外在校時間（週休日の部活動時間除く）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超　、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超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職員 　➡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R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３年度実績５割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）業務への充実感や健康面での安心感の向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健康で生き生きと働いていると感じている職員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➡　</a:t>
            </a:r>
            <a:r>
              <a:rPr b="1" lang="en-US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90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2"/>
          <p:cNvSpPr/>
          <p:nvPr/>
        </p:nvSpPr>
        <p:spPr>
          <a:xfrm>
            <a:off x="7704000" y="9136080"/>
            <a:ext cx="4953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令和４年５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　大船渡高等学校長　熊谷　賢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熊谷　賢児</cp:lastModifiedBy>
  <cp:lastPrinted>2022-05-30T06:09:20Z</cp:lastPrinted>
  <dcterms:modified xsi:type="dcterms:W3CDTF">2022-05-30T06:10:40Z</dcterms:modified>
  <cp:revision>1038</cp:revision>
  <dc:subject/>
  <dc:title>スライド 1</dc:title>
</cp:coreProperties>
</file>