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560B-1553-4501-B7F6-4106932EA3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349-C328-4270-AE3B-572AEA01303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D2E-4DF9-47FF-8520-CADC45D3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776-744C-49FB-A490-941FECE6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8D2-3AA3-4D23-ADB4-5AE55E37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A96-0870-4D6A-91D9-2007EAFF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A58-2524-4696-99DE-D451DFC3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B7B-3ED3-4F58-ADF1-40A74D99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29B-A97C-4925-8784-110C87E6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C9E-FE34-4F0C-9CBE-036F42D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575-246D-47F0-84B0-6C209B3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602-D170-43ED-AD1B-F90ABA4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0A2-6421-48D3-8CA6-051ECB3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068-31D2-475C-B1C7-DBA82122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D2D-6B82-4672-8713-8485E354F20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業務の共有ファイル化　　　　　　　　　　　　　　　　　　　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最低週１回の定時退庁又は校舎施錠時間前の退勤　 →　年間平均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教職員　　　　     →　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時間外等在校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の教職員　　　　　　  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→　令和３年度比５０％削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（週休日の部活動指導従事時間を除く）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Ｒ３のべ６人→Ｒ４のべ３人→Ｒ５のべ０人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種市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今年度（令和４年度）から導入する業務「通級による指導」及び本格実施する「遠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隔授業」、外部対応の多い海洋開発科など、業務が増え多忙となる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新学習指導要領の実施により科目数が増えた教科の教員や、専門外の教科・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のみを担当する教員の負担が増加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員業務等支援職員の配置により、会計業務等の負担は軽減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等の改善・工夫点　・職員朝会を廃止　・全クラス副担任２人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４日　種市高等学校長　村上智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ひとりが心身に余裕を持ち、やり甲斐を感じながら業務を行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、教材研究や面談など、生徒に向き合う時間を十分に確保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全体が、ひとつの「組織」として「協働」の意識を持って業務を行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持続可能な教育職を目指して、国や県の目標を達成しつつ、健康な職場環境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92720"/>
            <a:ext cx="396432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内容の見直しをさらに進め、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文書やデータを共用し、業務の円滑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運動部の統廃合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開催は必要最小限とし、進行にも必要以上に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間をかけ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小さな業務でもお互いに声を掛け、協力しあう職場の雰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囲気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7680" y="4392720"/>
            <a:ext cx="374508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私費会計について、教員業務等支援職員の協力の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と、教職員の負担軽減の取組を継続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ＰＴＡ、同窓会等の事務局業務について、各団体と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議し見直し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コミュニティ・スクールとして、学校と地域とが一体となっ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た学校づくりを推進し、教職員の負担を軽減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魅力化協働パートナーと連携を強化し、協働した取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最低でも週１回の定時退庁又は校舎施錠時間前の退勤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に対して積極的に休暇取得を呼び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け、休暇を取りやすい職場環境を整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定期健康診断結果や勤務時間外状況調査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果等に基づいて教職員と面談し、関係機関等の積極的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用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「学校の部活動に係る活動方針」を遵守した活動を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1090440" y="326880"/>
            <a:ext cx="11727000" cy="62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4400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種市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智芳</cp:lastModifiedBy>
  <cp:lastPrinted>2022-05-12T00:20:47Z</cp:lastPrinted>
  <dcterms:modified xsi:type="dcterms:W3CDTF">2022-05-24T04:01:39Z</dcterms:modified>
  <cp:revision>947</cp:revision>
  <dc:subject/>
  <dc:title>スライド 1</dc:title>
</cp:coreProperties>
</file>