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093F-1301-416D-B94D-58D60503A7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47A7-DBE7-464B-AF85-3A550E6D697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900000" y="746280"/>
            <a:ext cx="5058000" cy="3727440"/>
          </a:xfrm>
          <a:prstGeom prst="rect">
            <a:avLst/>
          </a:prstGeom>
          <a:ln w="0">
            <a:noFill/>
          </a:ln>
        </p:spPr>
      </p:sp>
      <p:sp>
        <p:nvSpPr>
          <p:cNvPr id="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C1871-20C3-49CD-B9DD-3C0D6E30A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DF3CA-E7D0-4B7A-817F-3E4D988F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D4C3F-523F-4108-A04E-49324DB21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3D92F-FA86-4D01-BFC2-FE6B93BD6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98128-14C8-4607-B823-AA157B5CC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FABC-5656-4050-9056-63D001BCC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8C7F6-C80D-48EE-8B63-CE62A1599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8C5F-5F88-42A1-8786-F6E3701C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FE10E-7B9C-4AD7-A839-DFE5DA65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F95C-8EE9-4500-88BE-B4F3A1692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5461-EEB8-4C8B-907D-63F436631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AE58-6595-4620-B2D7-17013C240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4546-5BAA-473F-9E6F-35E8BC07068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55680" y="219240"/>
            <a:ext cx="11449080" cy="7110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花北青雲高等学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　月１００時間以上の教職員　→　</a:t>
            </a:r>
            <a:r>
              <a:rPr b="0" lang="en-US" sz="1200" spc="-1" strike="noStrike">
                <a:solidFill>
                  <a:srgbClr val="000000"/>
                </a:solidFill>
                <a:latin typeface="ＭＳ Ｐゴシック"/>
              </a:rPr>
              <a:t>0</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週に１回以上定時退庁を行う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日（８ｈ）以上の休暇取得する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週休日又は休日に休養日を設定している部活動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学校閉庁日（夏季６日　冬季６日）→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38924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05408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400" spc="-1" strike="noStrike">
                <a:solidFill>
                  <a:srgbClr val="000000"/>
                </a:solidFill>
                <a:latin typeface="Arial"/>
              </a:rPr>
              <a:t>花北青雲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41320"/>
            <a:ext cx="5545080" cy="172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よるが、月当たりの時間外勤務</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教職員</a:t>
            </a:r>
            <a:r>
              <a:rPr b="0" lang="ja-JP" sz="1200" spc="-1" strike="noStrike">
                <a:solidFill>
                  <a:srgbClr val="000000"/>
                </a:solidFill>
                <a:latin typeface="Arial"/>
              </a:rPr>
              <a:t>が複数名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退庁時間後も業務を続けている。仕事量の均一化は容易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に意欲的に取り組む生徒・職員が多いため、週休日及び休日の部活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指導の時間が多く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１回以上、週休日又は休日に部活動休養日を設定することが全教職員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過去のデータや共有すべきデータの活用が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日　岩手県立花北青雲高等学校長　佐々木伸良</a:t>
            </a:r>
            <a:endParaRPr b="0" lang="en-US" sz="1100" spc="-1" strike="noStrike">
              <a:solidFill>
                <a:srgbClr val="000000"/>
              </a:solidFill>
              <a:latin typeface="Arial"/>
            </a:endParaRPr>
          </a:p>
        </p:txBody>
      </p:sp>
      <p:sp>
        <p:nvSpPr>
          <p:cNvPr id="60" name="Rectangle 70"/>
          <p:cNvSpPr/>
          <p:nvPr/>
        </p:nvSpPr>
        <p:spPr>
          <a:xfrm>
            <a:off x="7272360" y="1403280"/>
            <a:ext cx="5535720" cy="36360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41320"/>
            <a:ext cx="5535720" cy="1721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授業や授業準備、部活動指導等に取り組み、心身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でやりがいをもって生徒と向き合うことができる時間を確保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休暇取得や定時退庁の声がけを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健康で業務にやりがいを感じて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プライベートな時間を意識し、教職員の長時間勤務が解消され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99040" y="4402080"/>
            <a:ext cx="396396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フォルダを活用し、考査問題や大会結果記録を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有し、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休養日を、月に１回以上は週休日に設定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また、活動結果を一覧表にまとめて見える化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外部人材の活用について積極的に提案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は勤務時間内に終了するように運営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に業務や部活動等を行わ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活動及び同窓会活動の業務について、構成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ともに、その役割分担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り組みについて、保護者の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理解いただけるよう周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1" lang="ja-JP" sz="1200" spc="-1" strike="noStrike">
                <a:solidFill>
                  <a:srgbClr val="000000"/>
                </a:solidFill>
                <a:latin typeface="ＭＳ ゴシック"/>
                <a:ea typeface="ＭＳ ゴシック"/>
              </a:rPr>
              <a:t>月</a:t>
            </a:r>
            <a:r>
              <a:rPr b="1" lang="en-US" sz="1200" spc="-1" strike="noStrike">
                <a:solidFill>
                  <a:srgbClr val="000000"/>
                </a:solidFill>
                <a:latin typeface="ＭＳ ゴシック"/>
                <a:ea typeface="ＭＳ ゴシック"/>
              </a:rPr>
              <a:t>100</a:t>
            </a:r>
            <a:r>
              <a:rPr b="1"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04000" y="8553600"/>
          <a:ext cx="4608720" cy="652320"/>
        </p:xfrm>
        <a:graphic>
          <a:graphicData uri="http://schemas.openxmlformats.org/drawingml/2006/table">
            <a:tbl>
              <a:tblPr/>
              <a:tblGrid>
                <a:gridCol w="1140120"/>
                <a:gridCol w="1800000"/>
                <a:gridCol w="1668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90440" y="4402080"/>
            <a:ext cx="402444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時間外在校時間の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データに基づ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該当の教職員へ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分掌や学年の状況を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主任とともに仕事量の軽減を調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自が週１回以上の定時退庁日（ノー残業デー）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伸良</cp:lastModifiedBy>
  <cp:lastPrinted>2022-05-09T07:29:29Z</cp:lastPrinted>
  <dcterms:modified xsi:type="dcterms:W3CDTF">2022-05-13T08:37:56Z</dcterms:modified>
  <cp:revision>958</cp:revision>
  <dc:subject/>
  <dc:title>スライド 1</dc:title>
</cp:coreProperties>
</file>