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040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89F3-FF43-429E-9231-7ADCAB1188F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16DB-2469-4448-824B-0141154EAAA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6040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DAC-3EA2-421F-968A-EBF1D322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CF3-6FF0-47C7-A32E-FD0B0022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278-27CD-4839-BA25-BFCA8098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6B5-CBF9-4DF1-AC74-A6C9698F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9F2-4E99-4E80-9119-6FA92BAB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82F-89F6-4A63-8BFB-7C35924C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604-83AE-40F9-99C0-288807D6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944-CAB9-4EDA-9EFC-C2CE88C4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BA8-3D45-43FC-970A-68A36D83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D7D-FCAB-4513-A2B8-D2A0E177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89A-478E-45E7-AA14-CC544E83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A17-81B0-455F-A620-0F9E886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A047-F620-47C1-A258-2331BBC9223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1200" rIns="152280" tIns="14400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紫波総合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「質の高い教育の持続的提供のために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者を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外在校等時間（週休日の部活動指導従事時間を除く。）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、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の者を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和２年度実績の８割減（Ｒ５はゼロ）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教職員へのアンケート調査で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「肯定的実感」が、前年度より向上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紫波総合高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時間外在校等時間（週休日の部活動指導従事時間を除く。）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者の割合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1.9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.4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4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目標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9.5%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人 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時間外在校等時間（週休日の部活動指導従事時間を除く。）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者の割合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4.7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 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00h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超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6.3%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4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目標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27.8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年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3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人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健康管理区分がＣ１以下の者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は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4.5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は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50.0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 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令和４年５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日　紫波総合高等学校長　谷　藤　節　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教職員一人一人が、ワークライフバランス（仕事と家庭生活の調和）の実践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意識し、教育活動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生徒指導や教科指導などのあり方について、計画的かつ効率的に仕事が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められるよう、日頃から教職員間で共有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主体的・対話的で深い学びの実現を目指し、教材研究を深める時間が教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に十分に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時間外勤務の縮減に向け、前例踏襲にとらわれること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く、各種見直しや分掌の統廃合など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労働安全推進モデル校の取組例を参考に、できること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ら業務の効率化を進めＰＤＣＡを徹底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部活動指導員の任用・配置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学校閉庁日を設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留守番電話等による時間外対応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（保護者への周知・理解促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策定趣旨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○　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プランの期間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プランの目標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時間以上の者を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明朝"/>
                <a:ea typeface="ＭＳ Ｐ明朝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時間超の者を下記のとおり段階的に縮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　令和５年度において、アンケート調査に基づく肯定的実感が令和３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の実施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働き方改革プランの「心とからだの健康対策の取組」に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る保健指導制度等の周知徹底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管理職が、計画的な休暇取得等について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生活習慣病予防を踏まえ、食事、運動等に関する話題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供、早期発見・早期治療を念頭に健康診断等の積極的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受診を勧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0"/>
          <p:cNvSpPr/>
          <p:nvPr/>
        </p:nvSpPr>
        <p:spPr>
          <a:xfrm>
            <a:off x="5146560" y="5184720"/>
            <a:ext cx="7661520" cy="9032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Ｒ４取組　①月曜日はノー残業デー（か・え・るの日）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 　　②会議の所要時間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終了目標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設定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 　　③月途中で時間外勤務時間を知らせ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 ④電話は、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以降「勤務時間外の留守応答」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谷藤　節雄</cp:lastModifiedBy>
  <cp:lastPrinted>2022-05-24T02:16:47Z</cp:lastPrinted>
  <dcterms:modified xsi:type="dcterms:W3CDTF">2022-05-24T02:16:47Z</dcterms:modified>
  <cp:revision>961</cp:revision>
  <dc:subject/>
  <dc:title>スライド 1</dc:title>
</cp:coreProperties>
</file>