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0911-C252-4280-8B5B-6E26B3F4DC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50ED-5492-4F56-B8B6-E33121393C3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4800" y="744480"/>
            <a:ext cx="5057640" cy="3727440"/>
          </a:xfrm>
          <a:prstGeom prst="rect">
            <a:avLst/>
          </a:prstGeom>
          <a:ln w="0">
            <a:noFill/>
          </a:ln>
        </p:spPr>
      </p:sp>
      <p:sp>
        <p:nvSpPr>
          <p:cNvPr id="73"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C5867-775C-4E28-A6DF-2B42E23EA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58D48-D534-4E69-9B7F-17DFB6932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E96A8-9EB5-4A00-938E-22E734C48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E69AD-31EA-43D9-AFF8-BF13744D0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2D10F-B82C-443E-91FA-A2D7DEFCC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8C9B3-916F-4580-87BF-B0B8DF8A3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06B88-378B-4F61-A9FA-0AFC26E39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1E188-2F59-4EEC-A8B3-6EDA1173A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5B135-F992-4B95-8C26-604480E99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CD855-6232-4DE8-9500-3DC307F02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2D911-F1E2-4B8A-8501-187634F45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3D48E-D1F1-4040-A2D4-F3A154214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4E8D-6FCB-49DD-9B35-03663B463F8D}"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水沢商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生徒・保護者・地域と共に取り組む水商～</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Arial"/>
              </a:rPr>
              <a:t>職場の雰囲気が明るく、働きやすいと感じて、教育活動を行う教職員　</a:t>
            </a:r>
            <a:r>
              <a:rPr b="0" lang="ja-JP" sz="1200" spc="-1" strike="noStrike">
                <a:solidFill>
                  <a:srgbClr val="000000"/>
                </a:solidFill>
                <a:latin typeface="ＭＳ Ｐゴシック"/>
              </a:rPr>
              <a:t>→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各教職員が記念日を設け、年度に</a:t>
            </a:r>
            <a:r>
              <a:rPr b="0" lang="en-US" sz="1200" spc="-1" strike="noStrike">
                <a:solidFill>
                  <a:srgbClr val="000000"/>
                </a:solidFill>
                <a:latin typeface="ＭＳ Ｐゴシック"/>
              </a:rPr>
              <a:t>1</a:t>
            </a:r>
            <a:r>
              <a:rPr b="0" lang="ja-JP" sz="1200" spc="-1" strike="noStrike">
                <a:solidFill>
                  <a:srgbClr val="000000"/>
                </a:solidFill>
                <a:latin typeface="ＭＳ Ｐゴシック"/>
              </a:rPr>
              <a:t>日以上年次休暇を取得する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部活動休養日を週２回もしくは年間１００日以上確保している教職員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間の有給休暇５日以上（１日単位）と夏季休暇５日を取得している職員　→　９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徐々にワーク・ライフバランスが保てるようになってきたと感じる教職員　→　１００％</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数値は令和３年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2199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商業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職員一人あたりの月平均時間３６時間５９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４５時間以上の教職員　年平均２３．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８０～１００時間の教職員　８人（実人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１００時間以上の教職員が　１人（実人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目標に向かって失敗を恐れず挑戦する生徒の育成に全職員で取り組んでいる</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ＭＳ Ｐゴシック"/>
              </a:rPr>
              <a:t>24</a:t>
            </a:r>
            <a:r>
              <a:rPr b="0" lang="ja-JP" sz="1100" spc="-1" strike="noStrike">
                <a:solidFill>
                  <a:srgbClr val="000000"/>
                </a:solidFill>
                <a:latin typeface="Arial"/>
              </a:rPr>
              <a:t>日　岩手県立水沢商業高等学校長　大石　恭平</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やりがいと充実感を持って教育活動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地域に開かれた学校から、地域と共にある学校へと地域連携が充実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仕事は忙しいが、全職員での協働体制が確立しており、心のワーク・ライフバ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ンスがと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仕事は忙しいが、休みたいとき、休まなければならないときに、休める雰囲気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場にあ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働きやすい職場作りに向けて声がけを行ってい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行事の適切なスクラップ＆ビルドに向けて、教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員の声に耳を傾け、検討、実施に向けて柔軟に対応し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育活動におけるＩＣＴ化を推進し、課題点検や課題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刷業務削減等の効率化を進めます</a:t>
            </a: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の設置に向けて、働き方改革につな</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る構成員を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ついて、生徒にも理解を促し、人生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計力の育成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日々の教育活動を、明るく、笑顔で実践できるように、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健康増進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やすい職場を目指して、お互い声を掛け合い、心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力を合わせ、助け合って、教育活動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日頃から、休暇を取得しやすい職場環境の醸成に努め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教職員の健康について配慮できるように、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常の会話を大切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大石　恭平</cp:lastModifiedBy>
  <cp:lastPrinted>2022-05-15T06:09:37Z</cp:lastPrinted>
  <dcterms:modified xsi:type="dcterms:W3CDTF">2022-05-24T09:43:31Z</dcterms:modified>
  <cp:revision>948</cp:revision>
  <dc:subject/>
  <dc:title>スライド 1</dc:title>
</cp:coreProperties>
</file>