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FCED-385E-4453-98A4-BE568094CDF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27BC-408B-4091-836D-FFDB515DAB0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8FD-16B8-4A32-8A6C-0967F1DE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5A8-FA8F-479E-9BCC-34645054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6B5-EBCF-4911-8DA3-FB2F52B9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BA2-2DB7-423C-9B5D-EC239C95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02C-F512-4DCA-8617-DABAFAB9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789-119A-465E-8B08-789CBA95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89F-E519-4942-BD46-ED909DD6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15C-E07C-4DA4-8EA8-F07AF66D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0405-1C90-4BB4-80E9-384D114E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918-C562-424A-A4F9-FABC8307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4DD-B878-4602-A2A6-561E2BF9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604-8C56-484F-B808-B8F1F500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5199-F0FB-4B59-A9A7-5BCB412A1AC1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一戸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笑顔あふれる職場づくり　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勤務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に該当する教職員　→　６％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県高校平均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9.9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４回以上定時退勤を行う教職員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１ヶ月の一人平均時間外勤務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内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県高校平均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8.7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773280" y="1093680"/>
            <a:ext cx="1224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一戸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、時間外勤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教職員が延べ４名（全体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一部の担当職員に業務が集中する傾向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部活動指導が時間外勤務時間増加の一因と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残務処理のため休日仕事をしてい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６月１日　一戸高等学校長　上野　光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それぞれの専門性や積み重ねた経験を発揮、子どもたちと向き合い、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健康でやりがいを感じ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生徒の学習指導、進路指導、生徒指導など教育活動に専念でき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時間を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負担軽減が可能な業務について見直す姿勢を示し、勤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環境整備を進め、全職員で業務改善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個人の時間や家族との生活が充実し、職務にも精励でき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効率的な業務遂行を念頭に、学校行事等の見直しに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定例職員会議における資料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化し、事前配付する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とともに、会議をペーパーレスで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朝会におい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利用することにより、時間短縮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図るとともに、連絡を効率的に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活動における案内、集計について、メールやア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ケートシステムを活用し、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コミュニティ・スクールの導入に向けて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に向けた取組を保護者に理解してもらう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よう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長期休業期間の学校閉庁日の設定を確実に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の積極的な取得により、休養、リフレッシュ、健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康維持を意識した働き方を推進し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新田　剛史</cp:lastModifiedBy>
  <cp:lastPrinted>2022-06-15T05:44:43Z</cp:lastPrinted>
  <dcterms:modified xsi:type="dcterms:W3CDTF">2022-06-15T05:45:27Z</dcterms:modified>
  <cp:revision>943</cp:revision>
  <dc:subject/>
  <dc:title>スライド 1</dc:title>
</cp:coreProperties>
</file>