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18BB-71B3-49A1-B75C-E24F137307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9FB-883E-4FA4-916D-3CCCCC9EAF2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8CC-13EA-494D-86B1-5A3F55E0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DD5-AF1F-41D0-AEDD-B7B6D1D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04B-99E5-4E7A-A26A-C92F87E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BB8-0754-45A2-B600-E1EF0BDC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A08-3489-413B-B039-4E110403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73C-D30F-4EF7-AF71-DDE9340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1A2-E3D8-4C7B-96E7-3049AAF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B17-D73F-44E4-B45F-48494310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1A3-2554-4237-91AA-7BFED02E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0DB-5610-4DCA-9258-3BAB8CF6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C66-BB5F-4961-9BB8-0CEFC2D6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A67-D26B-4C72-A3B3-0C20527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79A9-E161-41EC-A7CE-22C99964049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金ケ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おかげさま・お世話様・お互い様の職場環境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54960"/>
            <a:ext cx="6973920" cy="1147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月平均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h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夏季休暇所得率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、年休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三大大会（役員）等に係る振替取得率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ノー延長デー（毎週水曜日）の完全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学校評価アンケート「適切な業務推進や効率化のための改善を行っている」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学校評価アンケート「自身は健康で生き生きと働いている」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 延２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 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）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 延０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０名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月平均休日出勤回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夏季休暇取得日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）。年休取得日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）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月平均時間外勤務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.5h/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3.3h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）。人間ドック・脳ドック受診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）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三大大会（役員）等に係る振替取得率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少ない教職員で多様な業務に取り組んでおり、負担を感じ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新規事業及び新型コロナ対応等の業務増で、負担を感じ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金ケ崎高等学校長　　宮　　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教育公務員としての矜持と誇りを持ち、元気で生き生きと働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「チーム金高」の意識のもと、生徒への愛情と情熱を持って働い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「おかげさま」「お互い様」という崇高な理念を共有し、フォローし合う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日常的なＯＪＴにより業務が効率化され、生徒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ワークライフバランスが保たれ、ゆとりを持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有給休暇の取得等により、教職員が家庭で過ごす時間を十分確保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閉庁日の設定と遵守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時間外電話対応について、留守番電話の活用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当面は会議資料の事前配付と論点明示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時機を見て職員会議のペーパーレス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上記により、定例職員会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内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会議の精選・効率化を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用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刷新により印刷配付物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指導について、積極的に在少・警察・その他行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当局等外部組織との連携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育相談について、積極的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警察・児相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の他行政当局等外部組織との連携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出欠連絡のデジタル化の検討等、教職員が担うべ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業務について、精選と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年休・特休・特割・振休の取得推進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特定保健指導等の利用による健康増進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メンタルヘルス相談の活用促進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健診結果に配慮し、積極的受診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大会引率振替等について一覧で周知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休暇取得について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宮　学</cp:lastModifiedBy>
  <cp:lastPrinted>2022-05-26T07:39:08Z</cp:lastPrinted>
  <dcterms:modified xsi:type="dcterms:W3CDTF">2022-05-26T07:41:14Z</dcterms:modified>
  <cp:revision>952</cp:revision>
  <dc:subject/>
  <dc:title>スライド 1</dc:title>
</cp:coreProperties>
</file>