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044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404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404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9E17-7244-4CFC-BCAD-A0B0CCC95AA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404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79C45-E11E-4868-BCAC-26349C25ACC9}"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7160" y="739800"/>
            <a:ext cx="5021280" cy="3700440"/>
          </a:xfrm>
          <a:prstGeom prst="rect">
            <a:avLst/>
          </a:prstGeom>
          <a:ln w="0">
            <a:noFill/>
          </a:ln>
        </p:spPr>
      </p:sp>
      <p:sp>
        <p:nvSpPr>
          <p:cNvPr id="73"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60164-7079-45DC-912C-69BA3036B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D5246-93BB-4803-921B-C0A210B58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20071-1BA0-495C-B752-BF4B9135A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B05CC-3619-4EF7-94BE-63378BBE3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67707-C746-41A5-9B48-859CFE4F2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A5A4B-03DE-4B9D-85F6-711E35345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FD4FF-32A8-41AE-BEB0-041E53473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FAEA7-528C-4DFE-9AAA-3B353303A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F93A9-32BE-4DAE-A35B-2BCE489C8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CB2E6-9FFE-4F43-8997-6B1B15928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7AD91-2D46-4E54-B7B9-67AAF4AF2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3503B-99EF-4D0F-AC74-6CADD1E52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8936-BE3A-4BBD-8FB6-CEA323AF7434}"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岩手県立花巻南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Ａｌｌ　ｆｏｒ　ｏｎｅ，ｏｎｅ　ｆｏｒ　ａｌｌ．～</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79640" y="6665760"/>
            <a:ext cx="711828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当たりの時間外勤務１００時間以上行う教職員→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勤務８０時間以上１００時間未満に該当する教職員→延べ３５人以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年間に年次取得５日以上の教職員→</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花巻南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ＭＳ Ｐゴシック"/>
              </a:rPr>
              <a:t>令和３年度に月</a:t>
            </a:r>
            <a:r>
              <a:rPr b="0" lang="en-US" sz="1200" spc="-1" strike="noStrike">
                <a:solidFill>
                  <a:srgbClr val="000000"/>
                </a:solidFill>
                <a:latin typeface="ＭＳ Ｐゴシック"/>
              </a:rPr>
              <a:t>80</a:t>
            </a:r>
            <a:r>
              <a:rPr b="0" lang="ja-JP" sz="1200" spc="-1" strike="noStrike">
                <a:solidFill>
                  <a:srgbClr val="000000"/>
                </a:solidFill>
                <a:latin typeface="ＭＳ Ｐゴシック"/>
              </a:rPr>
              <a:t>時間以上</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時間未満の時間外勤務を行った職員は延べ５人で、</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時間</a:t>
            </a:r>
            <a:r>
              <a:rPr b="0" lang="ja-JP" sz="1200" spc="-1" strike="noStrike">
                <a:solidFill>
                  <a:srgbClr val="000000"/>
                </a:solidFill>
                <a:latin typeface="Arial"/>
              </a:rPr>
              <a:t>以上の職員はいなかった。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分掌の中で担当する教職員が孤業化し、コミュニケーションも不足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ワークライフバランスの取組が全教職員に周知されているが、多忙感は解消されていな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新型コロナウィルス感染症予防対策のため、学校行事や部活動の中止、延期、変更が続いていることや陽性者への対応、予防対策に係る業務等によるストレスの蓄積が懸念され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a:t>
            </a:r>
            <a:r>
              <a:rPr b="0" lang="en-US" sz="1100" spc="-1" strike="noStrike">
                <a:solidFill>
                  <a:srgbClr val="000000"/>
                </a:solidFill>
                <a:latin typeface="ＭＳ Ｐゴシック"/>
              </a:rPr>
              <a:t>10</a:t>
            </a:r>
            <a:r>
              <a:rPr b="0" lang="ja-JP" sz="1100" spc="-1" strike="noStrike">
                <a:solidFill>
                  <a:srgbClr val="000000"/>
                </a:solidFill>
                <a:latin typeface="Arial"/>
              </a:rPr>
              <a:t>日　花巻南高等学校長　山田浩和</a:t>
            </a:r>
            <a:endParaRPr b="0" lang="en-US" sz="1100" spc="-1" strike="noStrike">
              <a:solidFill>
                <a:srgbClr val="000000"/>
              </a:solidFill>
              <a:latin typeface="Arial"/>
            </a:endParaRPr>
          </a:p>
        </p:txBody>
      </p:sp>
      <p:sp>
        <p:nvSpPr>
          <p:cNvPr id="60" name="Rectangle 70"/>
          <p:cNvSpPr/>
          <p:nvPr/>
        </p:nvSpPr>
        <p:spPr>
          <a:xfrm>
            <a:off x="7375680" y="1432080"/>
            <a:ext cx="543240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375680" y="1795320"/>
            <a:ext cx="543240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一人が、充実感と安心感を感じながら業務に取り組んでいる。</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対し丁寧に声がけを行っている。</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年次休暇を取得しやすい環境が整っている。</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教材研究の時間を十分に確保できている。</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放課後や休み時間に教職員が、生徒と向き合う時間を確保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69000" y="1519200"/>
            <a:ext cx="67644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7175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留守番電話の活用や週休日等の時間外に対応する緊急携帯電話の活用等、保護者への対応について負担軽減に努めます。</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放課後の校舎見回りの日直制度の廃止を継続し、本来の業務に専念できる環境を整えます。</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定期的に校務運営委員会等で業務改善の意見を確認し改善できる点を確認、速やかに実施する体制を整え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7175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クールカウンセラーやスクールソーシャルワーカー等との連携をさらに密にし、教職員が負担してきた業務の軽減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コンプライアンスの定期的な確認をとおして、教育公務員としての自覚を持ち、服務を遵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75680" y="85359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7175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プランの取組を確実に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１年間の年次有給休暇５日以上取得するように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心身の健康維持について積極的に声掛けをし　　　　　　　　 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長期休業中の日直制度の廃止を継続し、長期休業中に年次等の有給休暇を取得しやすい環境を整え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の業務負担の軽減に努めるとともに、業務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谷地　信治</cp:lastModifiedBy>
  <cp:lastPrinted>2022-05-10T02:47:47Z</cp:lastPrinted>
  <dcterms:modified xsi:type="dcterms:W3CDTF">2022-05-10T08:37:16Z</dcterms:modified>
  <cp:revision>948</cp:revision>
  <dc:subject/>
  <dc:title>スライド 1</dc:title>
</cp:coreProperties>
</file>