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BA2D-3B3B-468D-8106-A32C568E107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4732-CC3A-46BA-BFCB-67F4F36B61C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20076-5C25-4F0B-B494-3B8D7EB5B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E5BA2-E192-4D54-97DA-214245E85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FA3A-76B7-41BC-A924-EC7A9D4A9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D6DAA-528D-45A6-8975-B3D44BCD4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363C2-CFB6-4E4B-8F78-63F51AB6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4A1D7-E54A-43C4-8FDB-17B9973D8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BD7C-D0C6-4222-B3A5-FB611E3F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DCAF-DB16-47A3-ACEB-06F9F19A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A55C-9E74-4CC7-A225-E864065E6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821D-F379-4C6E-A716-E7F715B9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9462-C8D1-4334-8515-A55C92AE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D95D-2426-4A6E-B537-C46F7D89F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3828-5281-4F38-889E-6198BE18445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みたけ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仲よく・たくましく～</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超過勤務時間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以上→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特別支援学校の教員として専門性を高める取組を行っていると感じている教職員の割合→</a:t>
            </a:r>
            <a:r>
              <a:rPr b="0" lang="en-US" sz="1200" spc="-1" strike="noStrike">
                <a:solidFill>
                  <a:srgbClr val="000000"/>
                </a:solidFill>
                <a:latin typeface="ＭＳ Ｐゴシック"/>
              </a:rPr>
              <a:t>95</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間の情報共有と連携がとれていると感じている教職員→</a:t>
            </a:r>
            <a:r>
              <a:rPr b="0" lang="en-US" sz="1200" spc="-1" strike="noStrike">
                <a:solidFill>
                  <a:srgbClr val="000000"/>
                </a:solidFill>
                <a:latin typeface="ＭＳ Ｐゴシック"/>
              </a:rPr>
              <a:t>85</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みたけ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感染症対策「学校の新しい生活様式」最新版に添った指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導の実施の他、様々な状況を想定した学習計画の複雑化で業務量が増加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家庭等環境の複雑化により、情報を共有するための業務量が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２校舎、二戸分教室３校舎、奥中山校という多校舎間の連携の難しさ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複雑さが負担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６月１日　盛岡みたけ支援学校長　工藤弘毅</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05840" y="1795320"/>
            <a:ext cx="553536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様々な業務についてマニュアルを整備し、各業務について教職員がスムーズ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対処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ワーク・ライフ・バランスを確保し、健康でいきいきとやり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をもって達成感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目を配り、声かけや面談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お互いにコミュニケーションをとりながら専門性を高め、互いに学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スクラップ＆ビルドについて随時検討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種計画の合理的遂行を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織のあり方を検証しながら必要な改変を実施するこ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り、業務の効率化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他校舎間で学校フォルダ及びデスクネッツ等を活用し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と効率的な共同作業業務の推進を図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82760" indent="-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優先順位を明確にし、計画的に業務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で協力・連携しながら業務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間のコミュニケーションをはかり、互いの考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や業務への取り組み方の相互理解に努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拡大対策基本方針に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き教職員間で確認しながら行動し業務を進めます。</a:t>
            </a: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状況を教職員自ら把握し、ワーク・ライフ・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ランスの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教職員はノー残業デーの活用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職員の勤務時間の状況と健康状態に積極的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を配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閉庁日の設定、有給休暇取得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真子</cp:lastModifiedBy>
  <cp:lastPrinted>2022-05-31T04:07:25Z</cp:lastPrinted>
  <dcterms:modified xsi:type="dcterms:W3CDTF">2022-05-31T06:34:21Z</dcterms:modified>
  <cp:revision>962</cp:revision>
  <dc:subject/>
  <dc:title>スライド 1</dc:title>
</cp:coreProperties>
</file>