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5431-C695-4B33-8732-25074FCE1F8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F64F-12B6-48AB-A608-36CC274DB44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9BE-F2DB-45ED-A715-95428688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F41-7C5F-4EE9-ABE8-7AB880AC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5EC-2055-41F7-AE79-9AB2FBFF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C52-EC2D-4320-97A5-74225D63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E97-D755-4B9A-844C-518797B4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338-1B94-445C-AD46-7636F3AA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3A7-493D-411E-BFC8-5661CD3B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40F-8A98-48EE-9A95-3DE107D6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60D-420C-43D7-9D88-B56F2BCD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6F8-DF86-43EA-86C5-CE4B3803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C828-5D87-45CC-93C0-1F3D8186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D25C-2450-419F-B093-78E8406A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7EE1-8E4B-4A5C-A638-BC8293E92B5A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一関工業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～健康で活き活きとした集団（組織）を目指して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えの職員　→　Ｒ２年度の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割減　（Ｒ２年度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月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月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時間外勤務をする教職員　　→　Ｒ２年度の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割減　（Ｒ２年度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月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月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職員からの業務改善に向けた要望や取組の達成率　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学校行事や部活動等に係る振替意識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一関工業高等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の時間外在校等時間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を超える教職員数は月平均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主に部活動（運動部）を担当する教職員に時間外勤務が多く見ら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主任や一部の担当者に業務が集中する傾向に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当校で推進する時間外在校等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ゼロは徹底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６月１６日　一関工業高等学校長　菅原　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明るい気持ちで、やりがいを感じながら業務に取り組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同士が意見交換（情報交換）しやすい組織作りと時間確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チームとして業務に当たる体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家庭で過ごす時間やプライベートな時間を持つことができ、心身と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に健康な日々を送ら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の短縮化・効率化を図ります。資料の要約化や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明の短縮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育効果に優先順位を付け、業務の削減や組織体制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見直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knet’s NEO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及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36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活用し、業務の合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化･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をはじめ、現場の職員からの業務改善に向け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要望や取組を積極的に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育活動等における、学校と家庭の役割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理解と協力を得ながら分担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関係機関や学校運営協議会を含め、教員の負担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減に向けた業務の明確化･適正化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0"/>
          <p:cNvSpPr/>
          <p:nvPr/>
        </p:nvSpPr>
        <p:spPr>
          <a:xfrm>
            <a:off x="1079640" y="4392720"/>
            <a:ext cx="4024080" cy="1717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健康診断の結果を把握し、受診が必要な教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員に積極的に声掛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呼び掛けなど休暇取得しやすい組織・環境作り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閉庁日（お盆・年末年始）の実施と連続した休暇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取得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最低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はノー残業デーとし定時退庁を促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専門医への相談やメンタルヘルス研修への参加を促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711920" y="8532720"/>
          <a:ext cx="4434120" cy="68436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及川　秀明</cp:lastModifiedBy>
  <cp:lastPrinted>2022-05-24T23:09:47Z</cp:lastPrinted>
  <dcterms:modified xsi:type="dcterms:W3CDTF">2022-05-25T01:42:00Z</dcterms:modified>
  <cp:revision>975</cp:revision>
  <dc:subject/>
  <dc:title>スライド 1</dc:title>
</cp:coreProperties>
</file>