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9DD5-04F0-4BC7-92A3-BA34CA66472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DFE9-2225-48C8-B1AE-71708F8E01A5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A2B-7F51-44A3-8051-7B506EAC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E45-B864-4D43-986C-9437B6C9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631-9C6B-420F-9F68-F454E5E3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CAF-238F-4A09-A8CC-29B84F64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2D7-5334-4193-9150-CF6E7898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C4B-234E-42FC-92B4-B19F1AD2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D60-0982-4D1D-9FC2-79FA8B96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9A0-4892-47D5-9BEC-5B73B174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561-A74B-40E2-B8D6-AA6AAA8B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05E8-37B4-44EE-A641-9B5CEDCC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893-8446-477E-95B4-8D2D0C54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5A2-A948-4070-BA77-7E219863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652A-3518-4D4E-BE79-12567C9C3742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久慈拓陽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助け合いと支え合いのチーム拓陽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79640" y="6669000"/>
            <a:ext cx="711828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週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（月～木）の完全退庁時間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の確保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%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週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（金）の「ノー残業デー」の確保　　　　　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一人当たりの月の時間外在校等時間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下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勤務時間を超える会議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久慈拓陽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ヶ月間の時間外在校等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職員の延べ人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前年比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間の時間外在校等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職員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　　　　　　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前年比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完全退庁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が徹底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１７日　久慈拓陽支援学校長　村上　嘉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職員一人一人が教育にやりがいを感じ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互いに情報を共有し、助け合い支え合って業務推進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仕事とプライベートを大切にしてタイムマネジメント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教職員に声をかけ、コミュニケーションをと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日頃から職員間で助け合い支え合う雰囲気づくりを推進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ために、管理職が率先して意思疎通を心がけ、同僚性と協働性の向上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業務の改善や軽減措置について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効率の意識化を図るために、前年度の時間外在校等時間のデータを個々に開示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学校行事や各種スポーツ大会、技能認定会等の活動において、登録サポーターの活用を積極的に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授業において、登録サポーターの活用を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通学指導・支援業務において、外部委託バス運転士及び添乗員と分担しながら、児童生徒の安全な通学を確保し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（月～木）の完全退庁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を堅持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（金）の「ノー残業デー」を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特割の適正な実施と有給休暇の積極的な取得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ついて、声がけをして促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村上　嘉郎</cp:lastModifiedBy>
  <cp:lastPrinted>2022-05-19T03:41:56Z</cp:lastPrinted>
  <dcterms:modified xsi:type="dcterms:W3CDTF">2022-05-19T04:04:13Z</dcterms:modified>
  <cp:revision>947</cp:revision>
  <dc:subject/>
  <dc:title>スライド 1</dc:title>
</cp:coreProperties>
</file>