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7A62-FB8D-4591-AF42-1EFBB08BF0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6409-8E29-42D7-8384-B2BD0964543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328-4629-4BF8-9404-E0B09342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046-E28E-4D0A-8EB3-A6CE72C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EBE-297C-4982-BF69-BB7EA185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380-D0DF-4870-9C00-883BC0FA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2F7-2E55-41D2-A276-4759895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7A0-5DEE-4F4C-B303-8C25310D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FF51-8946-4037-8CD7-B7D65A74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8B7-703E-43D7-94CA-6D8488FD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3F4-10BE-498B-A609-9689682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CBD-B0ED-4AB5-8D03-44A0116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CC2-A4C9-4160-887E-CDD110D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25C-2AD6-41B6-9F3B-A726CF4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72F0-37A1-4CEA-BB81-B95FC9E1ABC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大船渡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小さな気づきで業務改善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月４５時間を超える教職員　→　６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、１日以上の計画的な年次休暇等を取得する教職員　→　５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と体の健康の維持により長期病気休暇教職員　→　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評価アンケートの教職員調査で「本校は、仕事の平準化が図られていると感じる教職員　→　５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360440" y="1114560"/>
            <a:ext cx="1191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船渡東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割変更が難しいため出張･年次等の課題対応による業務が避けられな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活発に行われる部活動や特別活動、多様な進路志望への対応に要する指導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め時間外勤務が必要となり業務負担が大きく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新型コロナウイルス感染症予防の対応で、すべての業務に負担感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科によって、勤務時間外の指導や作業が常態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９日　岩手県立大船渡東高等学校長　　千　葉　　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生徒と向き合い、それぞれの特徴を生かし充実感を感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教職員に対し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生徒と向き合う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計画的に年次休暇等が取得できる環境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新しい提案を受け入れる心理的・時間的なゆとり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分掌間、職員間の連携を密にし、互いの業務を認め合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業務への充実感のある職場環境づ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簡略化、省略できるところから業務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数の確保に向け、特増制度の活用、非常勤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等の専門スタッフの継続した配置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の担当する分掌業務の明確化により多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している業務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機関の積極的な利用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の活用を促進し授業及び業務の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の組織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による面談や日常のコミュニケー ションをと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心身の状況把握に心がけ相談しやすい環境を整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・メンタルヘルス相談等の積極活用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タイムカードの活用により勤務実態を適切に把握し、過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時間外勤務の適正化や産業医による保健指導など健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配慮した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等の活用が計画的に取得しやすい職場環境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今野　晋</cp:lastModifiedBy>
  <cp:lastPrinted>2022-05-24T09:10:37Z</cp:lastPrinted>
  <dcterms:modified xsi:type="dcterms:W3CDTF">2022-05-24T09:11:11Z</dcterms:modified>
  <cp:revision>941</cp:revision>
  <dc:subject/>
  <dc:title>スライド 1</dc:title>
</cp:coreProperties>
</file>