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679488" cy="10080625"/>
  <p:notesSz cx="6807200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C4C60-B21E-4B2E-9547-4B9B900C9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1231236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4000" y="5826960"/>
            <a:ext cx="1231236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88EF7-36FC-44E0-A82F-8406EBD04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400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99336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9274D-D901-4DAA-99CA-F8F3E6098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47040" y="235080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9009720" y="235080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4000" y="582696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47040" y="582696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9009720" y="582696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A1E17-5AD4-4D63-8615-2BBA6B011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4000" y="2350800"/>
            <a:ext cx="12312360" cy="66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DD196-BDC6-4426-BEB8-5FD2BEFD7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1231236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AA1AC-0497-4100-BA4C-439F4E998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A773C-3D61-44EB-B925-8CD4078B1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159D9-6958-4DE1-959D-692C2C023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4000" y="403200"/>
            <a:ext cx="12312360" cy="77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DC921-81C3-4925-9CCA-E28DC26AC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400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69D26-57EC-48DC-AFCD-53CBC02C1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99336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3341F-A9E7-4BB5-8F50-B5E71AD51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4000" y="5826960"/>
            <a:ext cx="1231236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B4C1B-8421-4AEF-B08A-BF5AB243E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000" y="2350800"/>
            <a:ext cx="1231236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marL="507960" indent="-50796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1101600" indent="-42372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2" marL="1697040" indent="-33984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3" marL="2374920" indent="-33804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4" marL="3052800" indent="-33804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5" marL="3052800" indent="-33804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6" marL="3052800" indent="-33804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4360" y="9180000"/>
            <a:ext cx="3192480" cy="7002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73160" y="9180000"/>
            <a:ext cx="4334040" cy="7002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804240" y="9180000"/>
            <a:ext cx="3192480" cy="7002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0F5D0-F285-414B-9941-7D43FAED8D42}" type="slidenum">
              <a:rPr b="0" lang="en-US" sz="2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フッター プレースホルダー 1"/>
          <p:cNvSpPr/>
          <p:nvPr/>
        </p:nvSpPr>
        <p:spPr>
          <a:xfrm>
            <a:off x="4673520" y="9180360"/>
            <a:ext cx="4334040" cy="7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35720" rIns="135720" tIns="68040" bIns="680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23"/>
          <p:cNvSpPr/>
          <p:nvPr/>
        </p:nvSpPr>
        <p:spPr>
          <a:xfrm>
            <a:off x="905040" y="90360"/>
            <a:ext cx="12015720" cy="10558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2a13"/>
            </a:solidFill>
            <a:miter/>
          </a:ln>
          <a:effectLst>
            <a:outerShdw dist="71785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52280" rIns="152280" tIns="18360" bIns="18360" anchor="ctr">
            <a:noAutofit/>
          </a:bodyPr>
          <a:p>
            <a:pPr algn="ctr">
              <a:lnSpc>
                <a:spcPts val="1397"/>
              </a:lnSpc>
              <a:spcBef>
                <a:spcPts val="1800"/>
              </a:spcBef>
              <a:tabLst>
                <a:tab algn="l" pos="0"/>
                <a:tab algn="l" pos="1547640"/>
                <a:tab algn="l" pos="3095640"/>
                <a:tab algn="l" pos="4643280"/>
                <a:tab algn="l" pos="6191280"/>
                <a:tab algn="l" pos="7738920"/>
                <a:tab algn="l" pos="9286920"/>
                <a:tab algn="l" pos="108345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令和４年度　盛岡農業高等学校　教職員　働き方改革アクションプラ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397"/>
              </a:lnSpc>
              <a:spcBef>
                <a:spcPts val="1199"/>
              </a:spcBef>
              <a:tabLst>
                <a:tab algn="l" pos="0"/>
                <a:tab algn="l" pos="1547640"/>
                <a:tab algn="l" pos="3095640"/>
                <a:tab algn="l" pos="4643280"/>
                <a:tab algn="l" pos="6191280"/>
                <a:tab algn="l" pos="7738920"/>
                <a:tab algn="l" pos="9286920"/>
                <a:tab algn="l" pos="10834560"/>
              </a:tabLst>
            </a:pPr>
            <a:r>
              <a:rPr b="0" lang="ja-JP" sz="2000" spc="-1" strike="noStrike">
                <a:solidFill>
                  <a:srgbClr val="c00000"/>
                </a:solidFill>
                <a:latin typeface="HGS創英角ｺﾞｼｯｸUB"/>
                <a:ea typeface="HGS創英角ｺﾞｼｯｸUB"/>
              </a:rPr>
              <a:t>～働き方改革はもう常識、「チーム盛農」で取り組むワーク・ライフ・バランス～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テキスト ボックス 2"/>
          <p:cNvSpPr/>
          <p:nvPr/>
        </p:nvSpPr>
        <p:spPr>
          <a:xfrm>
            <a:off x="808200" y="1224000"/>
            <a:ext cx="1244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盛岡農業高校では、「岩手県教職員働き方改革プラン（２０２１～２０２３）」に基づき、以下の取組により、「学校における働き方改革」を推進します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70"/>
          <p:cNvSpPr/>
          <p:nvPr/>
        </p:nvSpPr>
        <p:spPr>
          <a:xfrm>
            <a:off x="885960" y="1584360"/>
            <a:ext cx="5908680" cy="374760"/>
          </a:xfrm>
          <a:prstGeom prst="rect">
            <a:avLst/>
          </a:prstGeom>
          <a:solidFill>
            <a:srgbClr val="ff660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１　現　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0"/>
          <p:cNvSpPr/>
          <p:nvPr/>
        </p:nvSpPr>
        <p:spPr>
          <a:xfrm>
            <a:off x="885960" y="1952640"/>
            <a:ext cx="5908680" cy="179244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１　時間外勤務　　　 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R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２　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45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ｈ以上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17.0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名、 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80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ｈ以上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2.0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名、 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100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ｈ以上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0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　　（月平均）　　　　　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R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３　　　　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〃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16.0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名、 　　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〃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　  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1.0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名、　　　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〃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0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２　年次休暇等取得状況（平均日数）　　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R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２　年次：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13.5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日、夏季：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4.5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　　　　　　　　　　　　　　　　　　　　　　　　　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R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３　　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〃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 ：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13.3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日、　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〃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 ：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4.6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３　寄宿舎及び農場当直担当日数（毎月）　  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R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２　寄宿舎：約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1.5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回、農場：約２回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　　　　　　　　　　　　　　　　　　　　　　　　　　　　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R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３　　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〃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　　：約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1.5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回、 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〃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  ：約２回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４　指導管理票交付者数　　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R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２ 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32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名　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R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３ 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34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５　一部職員に業務が集中してい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６　働き方改革の具体的取組に係る周知・推進の徹底不足、意識不足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右矢印 6"/>
          <p:cNvSpPr/>
          <p:nvPr/>
        </p:nvSpPr>
        <p:spPr>
          <a:xfrm>
            <a:off x="6794640" y="1951200"/>
            <a:ext cx="333360" cy="16030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c9cd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70"/>
          <p:cNvSpPr/>
          <p:nvPr/>
        </p:nvSpPr>
        <p:spPr>
          <a:xfrm>
            <a:off x="7128000" y="1590840"/>
            <a:ext cx="5908680" cy="360360"/>
          </a:xfrm>
          <a:prstGeom prst="rect">
            <a:avLst/>
          </a:prstGeom>
          <a:solidFill>
            <a:srgbClr val="ff660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２　目指す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0"/>
          <p:cNvSpPr/>
          <p:nvPr/>
        </p:nvSpPr>
        <p:spPr>
          <a:xfrm>
            <a:off x="7128000" y="1940040"/>
            <a:ext cx="5908680" cy="180504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１　教職員が心身の健康を保ち、生徒のために生き生きと教育活動に励んでい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２　教職員が自己研鑽の時間を確保し、互いに授業力を高め合う雰囲気に満ちてい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３　「チーム盛農」として、教職員一人一人がやりがいを感じながら業務に取り組んでい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４　管理職が日頃から、教職員に対し話しやすい雰囲気をつくってい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５　教職員間で常に前向きなコミュニケーションが取れてい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６　先を見据えた業務確認により、効率的かつ効果的な業務が行われてい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７　業務の平準化が行われてい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８　教職員が余暇を十分に活用し、家族とともに人生を豊かに送ることができてい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９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定時退庁しやすい雰囲気ができてい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70"/>
          <p:cNvSpPr/>
          <p:nvPr/>
        </p:nvSpPr>
        <p:spPr>
          <a:xfrm>
            <a:off x="885960" y="3817800"/>
            <a:ext cx="12155400" cy="374760"/>
          </a:xfrm>
          <a:prstGeom prst="rect">
            <a:avLst/>
          </a:prstGeom>
          <a:solidFill>
            <a:srgbClr val="ff660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３　取組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70"/>
          <p:cNvSpPr/>
          <p:nvPr/>
        </p:nvSpPr>
        <p:spPr>
          <a:xfrm>
            <a:off x="892080" y="4216320"/>
            <a:ext cx="3913200" cy="194652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１１１１１１１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0"/>
          <p:cNvSpPr/>
          <p:nvPr/>
        </p:nvSpPr>
        <p:spPr>
          <a:xfrm>
            <a:off x="4797360" y="4191120"/>
            <a:ext cx="4116600" cy="197172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0"/>
          <p:cNvSpPr/>
          <p:nvPr/>
        </p:nvSpPr>
        <p:spPr>
          <a:xfrm>
            <a:off x="8912160" y="4191120"/>
            <a:ext cx="4121280" cy="197784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70"/>
          <p:cNvSpPr/>
          <p:nvPr/>
        </p:nvSpPr>
        <p:spPr>
          <a:xfrm>
            <a:off x="879480" y="6242040"/>
            <a:ext cx="6078600" cy="374760"/>
          </a:xfrm>
          <a:prstGeom prst="rect">
            <a:avLst/>
          </a:prstGeom>
          <a:solidFill>
            <a:srgbClr val="ff660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４　目　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70"/>
          <p:cNvSpPr/>
          <p:nvPr/>
        </p:nvSpPr>
        <p:spPr>
          <a:xfrm>
            <a:off x="885960" y="6607080"/>
            <a:ext cx="6080040" cy="145728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ＭＳ Ｐゴシック"/>
              </a:rPr>
              <a:t>１　時間外勤務　</a:t>
            </a:r>
            <a:r>
              <a:rPr b="0" lang="en-US" sz="1100" spc="-1" strike="noStrike">
                <a:solidFill>
                  <a:srgbClr val="000000"/>
                </a:solidFill>
                <a:latin typeface="ＭＳ Ｐゴシック"/>
              </a:rPr>
              <a:t>…</a:t>
            </a:r>
            <a:r>
              <a:rPr b="0" lang="ja-JP" sz="1100" spc="-1" strike="noStrike">
                <a:solidFill>
                  <a:srgbClr val="000000"/>
                </a:solidFill>
                <a:latin typeface="ＭＳ Ｐゴシック"/>
              </a:rPr>
              <a:t>月８０ｈ以上の者　０名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ＭＳ Ｐゴシック"/>
              </a:rPr>
              <a:t>２　休暇取得　</a:t>
            </a:r>
            <a:r>
              <a:rPr b="0" lang="en-US" sz="1100" spc="-1" strike="noStrike">
                <a:solidFill>
                  <a:srgbClr val="000000"/>
                </a:solidFill>
                <a:latin typeface="ＭＳ Ｐゴシック"/>
              </a:rPr>
              <a:t>…</a:t>
            </a:r>
            <a:r>
              <a:rPr b="0" lang="ja-JP" sz="1100" spc="-1" strike="noStrike">
                <a:solidFill>
                  <a:srgbClr val="000000"/>
                </a:solidFill>
                <a:latin typeface="ＭＳ Ｐゴシック"/>
              </a:rPr>
              <a:t>年次休暇　年間で一人１５日以上取得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ＭＳ Ｐゴシック"/>
              </a:rPr>
              <a:t>３　夏季休暇　</a:t>
            </a:r>
            <a:r>
              <a:rPr b="0" lang="en-US" sz="1100" spc="-1" strike="noStrike">
                <a:solidFill>
                  <a:srgbClr val="000000"/>
                </a:solidFill>
                <a:latin typeface="ＭＳ Ｐゴシック"/>
              </a:rPr>
              <a:t>…</a:t>
            </a:r>
            <a:r>
              <a:rPr b="0" lang="ja-JP" sz="1100" spc="-1" strike="noStrike">
                <a:solidFill>
                  <a:srgbClr val="000000"/>
                </a:solidFill>
                <a:latin typeface="ＭＳ Ｐゴシック"/>
              </a:rPr>
              <a:t>１００％取得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ＭＳ Ｐゴシック"/>
              </a:rPr>
              <a:t>４　新たな長期病休者　</a:t>
            </a:r>
            <a:r>
              <a:rPr b="0" lang="en-US" sz="1100" spc="-1" strike="noStrike">
                <a:solidFill>
                  <a:srgbClr val="000000"/>
                </a:solidFill>
                <a:latin typeface="ＭＳ Ｐゴシック"/>
              </a:rPr>
              <a:t>…</a:t>
            </a:r>
            <a:r>
              <a:rPr b="0" lang="ja-JP" sz="1100" spc="-1" strike="noStrike">
                <a:solidFill>
                  <a:srgbClr val="000000"/>
                </a:solidFill>
                <a:latin typeface="ＭＳ Ｐゴシック"/>
              </a:rPr>
              <a:t>０名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ＭＳ Ｐゴシック"/>
              </a:rPr>
              <a:t>５　ノー残業デー（毎週月曜日）の確実な実施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ＭＳ Ｐゴシック"/>
              </a:rPr>
              <a:t>６　年間週平均２日以上の部活動休養日（オフシーズンは土日のどちらかを入れる）　</a:t>
            </a:r>
            <a:r>
              <a:rPr b="0" lang="en-US" sz="1100" spc="-1" strike="noStrike">
                <a:solidFill>
                  <a:srgbClr val="000000"/>
                </a:solidFill>
                <a:latin typeface="ＭＳ Ｐゴシック"/>
              </a:rPr>
              <a:t>…</a:t>
            </a:r>
            <a:r>
              <a:rPr b="0" lang="ja-JP" sz="1100" spc="-1" strike="noStrike">
                <a:solidFill>
                  <a:srgbClr val="000000"/>
                </a:solidFill>
                <a:latin typeface="ＭＳ Ｐゴシック"/>
              </a:rPr>
              <a:t>１００％実施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ＭＳ Ｐゴシック"/>
              </a:rPr>
              <a:t>７　全職員が一体となった働き方改革の推進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ＭＳ Ｐゴシック"/>
              </a:rPr>
              <a:t>８　明るい職場風土づくりの推進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正方形/長方形 18"/>
          <p:cNvSpPr/>
          <p:nvPr/>
        </p:nvSpPr>
        <p:spPr>
          <a:xfrm>
            <a:off x="885960" y="4178160"/>
            <a:ext cx="3941640" cy="366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　　　　　　　　</a:t>
            </a:r>
            <a:r>
              <a:rPr b="1" lang="ja-JP" sz="1400" spc="-1" strike="noStrike">
                <a:solidFill>
                  <a:srgbClr val="000000"/>
                </a:solidFill>
                <a:latin typeface="Arial"/>
              </a:rPr>
              <a:t>○教職員の健康管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正方形/長方形 19"/>
          <p:cNvSpPr/>
          <p:nvPr/>
        </p:nvSpPr>
        <p:spPr>
          <a:xfrm>
            <a:off x="4800600" y="4178160"/>
            <a:ext cx="4127400" cy="366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　　　　　</a:t>
            </a:r>
            <a:r>
              <a:rPr b="1" lang="ja-JP" sz="1400" spc="-1" strike="noStrike">
                <a:solidFill>
                  <a:srgbClr val="000000"/>
                </a:solidFill>
                <a:latin typeface="Arial"/>
              </a:rPr>
              <a:t>○学校における業務改善の推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正方形/長方形 20"/>
          <p:cNvSpPr/>
          <p:nvPr/>
        </p:nvSpPr>
        <p:spPr>
          <a:xfrm>
            <a:off x="8908920" y="4178160"/>
            <a:ext cx="4132440" cy="366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"/>
              </a:rPr>
              <a:t>○</a:t>
            </a:r>
            <a:r>
              <a:rPr b="1" lang="ja-JP" sz="1400" spc="-1" strike="noStrike">
                <a:solidFill>
                  <a:srgbClr val="000000"/>
                </a:solidFill>
                <a:latin typeface="Arial"/>
              </a:rPr>
              <a:t>学校及び教員が担う業務の明確化・適正化の推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テキスト ボックス 21"/>
          <p:cNvSpPr/>
          <p:nvPr/>
        </p:nvSpPr>
        <p:spPr>
          <a:xfrm>
            <a:off x="922320" y="4522680"/>
            <a:ext cx="37591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１ 週１回ノー残業デーを設定し、定時退庁を呼びかけます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テキスト ボックス 22"/>
          <p:cNvSpPr/>
          <p:nvPr/>
        </p:nvSpPr>
        <p:spPr>
          <a:xfrm>
            <a:off x="920880" y="4724280"/>
            <a:ext cx="38862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２ 管理職による職員面談を実施し、職員の健康観察をおこない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ます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テキスト ボックス 23"/>
          <p:cNvSpPr/>
          <p:nvPr/>
        </p:nvSpPr>
        <p:spPr>
          <a:xfrm>
            <a:off x="909720" y="5305320"/>
            <a:ext cx="3933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４ 年次休暇の取得推進を呼びかけます（振替取得推進）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テキスト ボックス 24"/>
          <p:cNvSpPr/>
          <p:nvPr/>
        </p:nvSpPr>
        <p:spPr>
          <a:xfrm>
            <a:off x="7937640" y="7748640"/>
            <a:ext cx="5140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"/>
              </a:rPr>
              <a:t>令和４年６月１日　岩手県立盛岡農業高等学校長　畠　山　一　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テキスト ボックス 25"/>
          <p:cNvSpPr/>
          <p:nvPr/>
        </p:nvSpPr>
        <p:spPr>
          <a:xfrm>
            <a:off x="905040" y="5518080"/>
            <a:ext cx="38480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５ 職員同士が相談しやすい職場の雰囲作りをおこないます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テキスト ボックス 21"/>
          <p:cNvSpPr/>
          <p:nvPr/>
        </p:nvSpPr>
        <p:spPr>
          <a:xfrm>
            <a:off x="4838760" y="4599000"/>
            <a:ext cx="40752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１ 各種文書の簡素化、ペーパーレス化により業務の効率化をはか　　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　　ります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21"/>
          <p:cNvSpPr/>
          <p:nvPr/>
        </p:nvSpPr>
        <p:spPr>
          <a:xfrm>
            <a:off x="4838760" y="5006880"/>
            <a:ext cx="4081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２ 部活動指導員の活用により教職員の負担軽減をはかります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テキスト ボックス 21"/>
          <p:cNvSpPr/>
          <p:nvPr/>
        </p:nvSpPr>
        <p:spPr>
          <a:xfrm>
            <a:off x="4844880" y="5305320"/>
            <a:ext cx="40752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３ ＰＣ共通フォルダの活用による各種様式の共有をはかります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テキスト ボックス 21"/>
          <p:cNvSpPr/>
          <p:nvPr/>
        </p:nvSpPr>
        <p:spPr>
          <a:xfrm>
            <a:off x="919080" y="5073480"/>
            <a:ext cx="40752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３ 部活動休養日を設定し、職員の健康保持を推進します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テキスト ボックス 21"/>
          <p:cNvSpPr/>
          <p:nvPr/>
        </p:nvSpPr>
        <p:spPr>
          <a:xfrm>
            <a:off x="4844880" y="5603760"/>
            <a:ext cx="42278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４ 生徒情報の共有を事務室とはかり会計業務を推進します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テキスト ボックス 21"/>
          <p:cNvSpPr/>
          <p:nvPr/>
        </p:nvSpPr>
        <p:spPr>
          <a:xfrm>
            <a:off x="8940960" y="4581360"/>
            <a:ext cx="4074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１　地域からの農業関係イベントへの参加依頼について、農業関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　　団体、関係機関と連携し調整をはかります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テキスト ボックス 21"/>
          <p:cNvSpPr/>
          <p:nvPr/>
        </p:nvSpPr>
        <p:spPr>
          <a:xfrm>
            <a:off x="8935920" y="5045040"/>
            <a:ext cx="40816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２　学校や教員が担う業務の明確化について、保護者との共通認　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　　識をはかり推進します 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テキスト ボックス 25"/>
          <p:cNvSpPr/>
          <p:nvPr/>
        </p:nvSpPr>
        <p:spPr>
          <a:xfrm>
            <a:off x="906480" y="5732640"/>
            <a:ext cx="38480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６ 「時間外勤務状況票（盛農版）」の配付により、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『</a:t>
            </a: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見える化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』</a:t>
            </a: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を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　図ります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正方形/長方形 11"/>
          <p:cNvSpPr/>
          <p:nvPr/>
        </p:nvSpPr>
        <p:spPr>
          <a:xfrm>
            <a:off x="930240" y="8169120"/>
            <a:ext cx="12147480" cy="17971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（参考）　「岩手県教職員働き方改革プラン（</a:t>
            </a:r>
            <a:r>
              <a:rPr b="0" lang="en-US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2021</a:t>
            </a:r>
            <a:r>
              <a:rPr b="0" lang="ja-JP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～</a:t>
            </a:r>
            <a:r>
              <a:rPr b="0" lang="en-US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2023</a:t>
            </a:r>
            <a:r>
              <a:rPr b="0" lang="ja-JP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）」（抜粋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【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策定趣旨</a:t>
            </a: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○　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働き方改革の実現により、岩手の未来を担う大切な子どもたちに、質の高い教育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　持続的提供につなげ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【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プランの期間</a:t>
            </a: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】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令和３年度～令和５年度までの３カ年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【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プランの目標</a:t>
            </a: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目標１　県立学校の教員の時間外在校等時間の縮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(1)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時間外在校等時間が</a:t>
            </a: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月</a:t>
            </a:r>
            <a:r>
              <a:rPr b="0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00</a:t>
            </a: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時間以上の者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を</a:t>
            </a:r>
            <a:r>
              <a:rPr b="1" lang="ja-JP" sz="1200" spc="-1" strike="noStrike" u="sng">
                <a:solidFill>
                  <a:srgbClr val="000000"/>
                </a:solidFill>
                <a:uFillTx/>
                <a:latin typeface="ＭＳ ゴシック"/>
                <a:ea typeface="ＭＳ ゴシック"/>
              </a:rPr>
              <a:t>ゼロ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にす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正方形/長方形 12"/>
          <p:cNvSpPr/>
          <p:nvPr/>
        </p:nvSpPr>
        <p:spPr>
          <a:xfrm>
            <a:off x="7128000" y="8209080"/>
            <a:ext cx="5614920" cy="4190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(2)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時間外在校等時間（週休日の部活動指導従事時間を除く。）が月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45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時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　　超、年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360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時間超の者を下記のとおり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段階的に縮減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す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7559640" y="8647200"/>
          <a:ext cx="4433760" cy="684000"/>
        </p:xfrm>
        <a:graphic>
          <a:graphicData uri="http://schemas.openxmlformats.org/drawingml/2006/table">
            <a:tbl>
              <a:tblPr/>
              <a:tblGrid>
                <a:gridCol w="960480"/>
                <a:gridCol w="1808280"/>
                <a:gridCol w="1665000"/>
              </a:tblGrid>
              <a:tr h="152640"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時間外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在校等時間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取組期間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298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令和４（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2022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）年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298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令和５（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2023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）年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26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月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45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時間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令和２年度実績の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８割減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ゼロ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26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年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360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時間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74" name="正方形/長方形 8"/>
          <p:cNvSpPr/>
          <p:nvPr/>
        </p:nvSpPr>
        <p:spPr>
          <a:xfrm>
            <a:off x="7156440" y="9340920"/>
            <a:ext cx="5678640" cy="5968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目標２　業務への充実感や、健康面での安心感の向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　　令和５年度において、アンケート調査に基づく肯定的実感が令和３年度の実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　結果から向上することを目指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28T12:34:29Z</dcterms:created>
  <dc:creator>Toshi</dc:creator>
  <dc:description/>
  <dc:language>en-US</dc:language>
  <cp:lastModifiedBy>植木　淳</cp:lastModifiedBy>
  <cp:lastPrinted>2022-05-16T09:39:55Z</cp:lastPrinted>
  <dcterms:modified xsi:type="dcterms:W3CDTF">2022-05-16T09:39:56Z</dcterms:modified>
  <cp:revision>1026</cp:revision>
  <dc:subject/>
  <dc:title>スライド 1</dc:title>
</cp:coreProperties>
</file>