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AEE9-36B0-440D-997D-E059343A983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546D-383F-48D3-937F-427A81E2BF1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3000" y="744480"/>
            <a:ext cx="5051520" cy="3721320"/>
          </a:xfrm>
          <a:prstGeom prst="rect">
            <a:avLst/>
          </a:prstGeom>
          <a:ln w="0">
            <a:noFill/>
          </a:ln>
        </p:spPr>
      </p:sp>
      <p:sp>
        <p:nvSpPr>
          <p:cNvPr id="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1A97E-61D8-45DC-8927-980CDF980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556FC-A356-48B1-8761-2BB7F021E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3D9B5-D598-4350-96DB-FABA78B78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1F427-65B9-423D-88C2-B16A50DE9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493FC-B9F1-4079-A115-DD1539DA7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C59FF-9330-45DB-B7E6-30F36988F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83E6C-B085-44A2-A804-B587F2F89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E0F5E-E84B-4D62-A2B4-20802E36D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D2025-1770-4216-BB01-BF6A2226B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D886D-960F-4AC8-A752-D27E21008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660D2-F90A-47E2-B41C-C819E32A5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125FF-98DD-48FA-A177-7B06E2AFB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AF4C-0FC7-49A1-879E-8DC61494365F}"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水沢工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1800" spc="-1" strike="noStrike">
                <a:solidFill>
                  <a:srgbClr val="7f7f7f"/>
                </a:solidFill>
                <a:latin typeface="HGS創英角ｺﾞｼｯｸUB"/>
                <a:ea typeface="HGS創英角ｺﾞｼｯｸUB"/>
              </a:rPr>
              <a:t>～職員間の業務の平準化、チーム学校の実現による協働体制の確立を図り負担軽減を実現する職場～</a:t>
            </a:r>
            <a:endParaRPr b="0" lang="en-US" sz="18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〇時間外在校等時間が１ヶ月あたり１００時間以上の教職員数を０人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〇時間外在校等時間（週休日の部活動指導従事時間を除く）が１ヶ月あたり４５時間、年間３６０時間超えの教職員数を昨年度の５割減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〇週あたり１日以上、年間平均で週あたり２日の部活動休養日の設定と取り組みの完全実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〇個人の業務の進捗状況に応じて、少なくとも週</a:t>
            </a:r>
            <a:r>
              <a:rPr b="0" lang="en-US" sz="1200" spc="-1" strike="noStrike">
                <a:solidFill>
                  <a:srgbClr val="000000"/>
                </a:solidFill>
                <a:latin typeface="ＭＳ Ｐゴシック"/>
              </a:rPr>
              <a:t>1</a:t>
            </a:r>
            <a:r>
              <a:rPr b="0" lang="ja-JP" sz="1200" spc="-1" strike="noStrike">
                <a:solidFill>
                  <a:srgbClr val="000000"/>
                </a:solidFill>
                <a:latin typeface="ＭＳ Ｐゴシック"/>
              </a:rPr>
              <a:t>日は定時退庁を行う教職員の割合を８０％以上にする。</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水沢工業高校では、「岩手県教職員働き方改革プラン（</a:t>
            </a:r>
            <a:r>
              <a:rPr b="0" lang="en-US" sz="1500" spc="-1" strike="noStrike">
                <a:solidFill>
                  <a:srgbClr val="000000"/>
                </a:solidFill>
                <a:latin typeface="Arial"/>
              </a:rPr>
              <a:t>2021</a:t>
            </a:r>
            <a:r>
              <a:rPr b="0" lang="ja-JP" sz="1500" spc="-1" strike="noStrike">
                <a:solidFill>
                  <a:srgbClr val="000000"/>
                </a:solidFill>
                <a:latin typeface="Arial"/>
              </a:rPr>
              <a:t>～</a:t>
            </a:r>
            <a:r>
              <a:rPr b="0" lang="en-US" sz="1500" spc="-1" strike="noStrike">
                <a:solidFill>
                  <a:srgbClr val="000000"/>
                </a:solidFill>
                <a:latin typeface="Arial"/>
              </a:rPr>
              <a:t>2023</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〇生徒対応等で、一部の教員に業務が偏る傾向があった。</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a:t>
            </a:r>
            <a:r>
              <a:rPr b="0" lang="ja-JP" sz="1300" spc="-1" strike="noStrike">
                <a:solidFill>
                  <a:srgbClr val="000000"/>
                </a:solidFill>
                <a:latin typeface="Arial"/>
              </a:rPr>
              <a:t>毎週１日以上の定時退庁日を設けるよう推奨していたが、校務運営や部活指導等により徹底できなかった。</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〇時間外在校等時間（週休日の部活動指導従事時間を除く）が１ヶ月あたり４５時間超の職員数が５人、年間３６０時間超えの教職員数が４人に達した。</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２４日　水沢工業高等学校長　日當　仁己</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〇定期的に業務のスクラップ・アンド・ビルドを継続して、さらには、業務の協働化を図りながら教職員一人ひとりが、ゆとりを感じながら業務に取り組んで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〇教職員が計画的に年次休暇・夏季休暇等を取得したり、十分な休養の時間を確保して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a:t>
            </a:r>
            <a:r>
              <a:rPr b="0" lang="ja-JP" sz="1300" spc="-1" strike="noStrike">
                <a:solidFill>
                  <a:srgbClr val="000000"/>
                </a:solidFill>
                <a:latin typeface="Arial"/>
              </a:rPr>
              <a:t>職員が業務への充実感や健康面での安心感を感じながら日常業務を遂行している。</a:t>
            </a:r>
            <a:endParaRPr b="0" lang="en-US" sz="13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業務の</a:t>
            </a:r>
            <a:r>
              <a:rPr b="0" lang="en-US" sz="1200" spc="-1" strike="noStrike">
                <a:solidFill>
                  <a:srgbClr val="000000"/>
                </a:solidFill>
                <a:latin typeface="Arial"/>
              </a:rPr>
              <a:t>ICT</a:t>
            </a:r>
            <a:r>
              <a:rPr b="0" lang="ja-JP" sz="1200" spc="-1" strike="noStrike">
                <a:solidFill>
                  <a:srgbClr val="000000"/>
                </a:solidFill>
                <a:latin typeface="Arial"/>
              </a:rPr>
              <a:t>化を推進し、業務のスピード化と負担軽減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業務の見直しを行い、職員間の業務の平準化を実現するための校務分掌を編制し、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部活動指導は指導計画に基づき計画的に行うととも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顧問間の連携を密にして指導の負担が偏らないようにし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スクールカウンセラー等の外部人材も含めたチーム学校の観点からの協働体制を確立し、各担当の役割を明確化することで、担任等を組織的にサポートする体制を整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地域産業や関係機関と連携・協働し、効果的・効率的な運営と教員の負担軽減を図りながら職業観や勤労観を育てる教育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学校評価の内部評価項目に「業務への充実感や健康面での安心感」の項目を加え、毎年その結果の向上に向けた取り組み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管理職が休暇取得について積極的に声がけを行う等、休暇を取得しやすい環境作り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職員の一人ひとりの声が、職場全体に反映され、職員が生き生きと働ける風通しの良い職場作りに努め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宇夫方　聡</cp:lastModifiedBy>
  <cp:lastPrinted>2022-05-17T01:23:56Z</cp:lastPrinted>
  <dcterms:modified xsi:type="dcterms:W3CDTF">2022-05-17T05:12:30Z</dcterms:modified>
  <cp:revision>944</cp:revision>
  <dc:subject/>
  <dc:title>スライド 1</dc:title>
</cp:coreProperties>
</file>