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F45F-9E65-4EC6-A8AA-401E431D0B6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A535-F323-45E3-AFD1-295F609A3430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9428-FC42-4083-A877-F34ABCA5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79E4-3F48-4A47-8604-6B1B830E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3216-E384-4AF2-835B-97565FAE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E2C-C055-45D0-A851-F11CCDE9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8B34-FAF6-4F28-9AA3-E7CF040D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BC6-DB42-4984-B8CF-D40171B2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2E4-A563-4378-A1AD-51F4CA56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1DF-59CB-4CE3-BBA6-32F25912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F7FF-BD23-4973-968A-76229402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52C0-4EB0-43E4-A697-12599D90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742-4992-43BA-A5DA-531FB8E0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1BFA-46BF-4E0E-BEBA-A63E803A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C64F-FC4D-42E6-B86F-27804567EA81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大東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教職員のやりがいと健康を大切に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368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を超える教職員 → 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外在校等時間（週休日の部活動指導従事時間を除く）が年間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を超える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教職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→ 令和３年度比で３割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年間の年次休暇平均取得日数 → １７日以上、　最低１０日以上取得　→　１００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大東高等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時間外在校等時間（週休日の部活動指導従事時間を除く）について、月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均は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5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である。また、年間平均で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を超える教職員数は２名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年間合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を超える教職員数は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名である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2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名中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年間の年次休暇平均取得日数は、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6.2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教職員は熱心に生徒の指導を行っているが、思うような業務の軽減が図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れているとは言いにく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毎週水曜日の「かえる日（ノー残業デー）」はよく意識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０日　大東高等学校長　佐々木　信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教職員一人一人が心身共に健康で、やりがいを感じながら業務に取り組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でい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管理職が、日頃から教職員の様子に目を配り、働きやすい職場環境づく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に努め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教職員が、自己の生活を充実させる時間、教材研究や生徒と向き合う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を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教職員は、勤務時間を意識した働き方を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3180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管理職は、教職員の意見を真摯に受け止めて、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能なことから積極的に対応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ＩＣＴの積極的な活用により、業務の効率化を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前例踏襲を改め、コロナ禍を機に行った業務の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直しをさらに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部活動の休養日を徹底し、２月及び３月は全て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部で日曜日を休養日と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部活動支援員の委嘱や教員業務等支援職員の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用により、教員の負担軽減を継続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勤務時間外の留守番電話対応を継続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ＰＴＡや同窓会、地域の活動が教職員の大幅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負担増にならないよう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管理職が、教員一人一人に毎月の時間外在校等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間を知らせ、客観的に状況を把握させ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管理職は、常に教職員の健康状態の把握に努め、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要に応じて医療機関の受診や外部機関への相談等を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管理職が率先して年次休暇を取得することで教職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の取得も促し、心身のリフレッシュ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教職員に「振替」、「特割」等を有効に活用させ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特休等について周知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佐々木　信明</cp:lastModifiedBy>
  <cp:lastPrinted>2022-05-26T07:26:05Z</cp:lastPrinted>
  <dcterms:modified xsi:type="dcterms:W3CDTF">2022-05-27T05:11:58Z</dcterms:modified>
  <cp:revision>969</cp:revision>
  <dc:subject/>
  <dc:title>スライド 1</dc:title>
</cp:coreProperties>
</file>