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8600" y="739440"/>
            <a:ext cx="501804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00C8-7B6C-4FA7-99A5-681ADFFFBD4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16360" y="937116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09F1-76AF-409B-BB02-1D284FAEF26F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58960" y="739800"/>
            <a:ext cx="5018040" cy="369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4D67-A39C-494C-A6ED-23DDF03F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2E21-1B45-4084-B92F-2490F433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DCDE-43C3-4DF4-8EAB-2EFFE5F20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2B5C-2B3C-44D6-9F24-4602055E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B4F9-0976-4DA2-8221-2986BCD5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2807-C761-4AF7-B541-7A7726D2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F7F9-6D90-4C31-BF8B-43388690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311C-363D-408C-8124-FFDC02F9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A533-E3E2-40B8-8305-93713263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51DC-87F2-4033-8E0D-93C61076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221F-4780-487E-9F1C-199A42BE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F0DB-21E6-495C-AC40-40633C9C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D022-8009-4341-81A0-1BD8270DD720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岩手県立大野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「持続可能な」働き方を目指して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111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　時間外勤務が月１００時間以上に該当する教職員→ゼロ継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　年平均での時間外勤務（週休日の部活動指導従事時間を除く）３６０時間超の教職員→ゼ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　年次休暇取得率→８０％以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　精神面で体調を崩し、入院・休職する教職員数→ゼ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大野高等学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少ない教職員数で分担し、各自が多様な業務に取り組んでおり、負担を感じている職員が少なくな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特定の時期に複数の業務が重なり、個人に負担が向かう傾向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時間外在校時間が月１００時間以上の者はゼロであるが、年３６０時間超（週休　　　日の部活動指導従事を除く）は４名で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前年度年次休暇取得率７２％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9067680" y="7589880"/>
            <a:ext cx="4032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６月２０日　岩手県立大野高等学校長　北田義徳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お互いの業務を理解し、ゆとりと思いやりを持って同僚や生徒に接している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お互いの業務をサポートし合い、気軽に休暇を取得できる雰囲気がつくられて　　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ワークライフバランスをとりながら、教職員本来の業務に専念でき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費用対効果、時間対効果を考えた業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のスクラップアンドビルド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部活動指導方針に基づき、適正な部活動時間を徹底するなど、部活動指導の負担軽減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外部講師、総探コーディネーター等を積極的に活用し、指導等への負担軽減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、主任間で業務内容、進捗状況を確認し、お互いの業務の「見える化」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各業務に複数の担当者を配置できるよう、校務分掌の見直し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少ない職員数では手が回りにくい校舎外の環境整備等を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や同窓会に協力を求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375680" y="8535960"/>
          <a:ext cx="5329080" cy="681120"/>
        </p:xfrm>
        <a:graphic>
          <a:graphicData uri="http://schemas.openxmlformats.org/drawingml/2006/table">
            <a:tbl>
              <a:tblPr/>
              <a:tblGrid>
                <a:gridCol w="1214280"/>
                <a:gridCol w="2066760"/>
                <a:gridCol w="204804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089840" y="920124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休暇を取りやすくするために、部活動顧問を複数配置し、校務分掌の見直し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早期退庁及び積極的な年次休暇等の取得をしやすいよう、管理職は会議設定や運営の効率化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開催規定人数に関わらず、衛生委員会を実施し、健康維持への意識を高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佐々木　順一</cp:lastModifiedBy>
  <cp:lastPrinted>2022-05-18T02:46:55Z</cp:lastPrinted>
  <dcterms:modified xsi:type="dcterms:W3CDTF">2022-05-18T03:31:50Z</dcterms:modified>
  <cp:revision>953</cp:revision>
  <dc:subject/>
  <dc:title>スライド 1</dc:title>
</cp:coreProperties>
</file>