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48E7-D461-41E2-887A-EE6C79FD5A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B44F-F3EB-430A-A75F-5610307F0CEA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101-6769-4063-AD65-5332898F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D5D-E722-41B3-BC6B-CCB5B0E8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281B-52D3-4C41-BA22-9226C7226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C572-8612-4B11-AC23-0799C4B42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BFC-6982-480D-B573-B27D5B2AB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55CD-7025-423D-B10A-22DD9406B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5A4F-7AED-417C-9D16-C65826AE7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7506-1B26-47F0-AD9D-528EBFAF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0453-6B41-4846-8AD3-62C52FFF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B954-48BE-4C8E-AC5B-243377D6C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0D30-ADD8-4A01-A7CC-F01448AE0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616-0A43-4FEC-8C37-2B735515D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AE122-3838-41D5-A59E-431872FB27B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079640" y="360360"/>
            <a:ext cx="11737800" cy="6350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52280" rIns="152280" tIns="108000" bIns="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宮古恵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4968720" cy="3492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テキスト ボックス 2"/>
          <p:cNvSpPr/>
          <p:nvPr/>
        </p:nvSpPr>
        <p:spPr>
          <a:xfrm>
            <a:off x="1295280" y="1101600"/>
            <a:ext cx="1193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宮古恵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5249880"/>
            <a:ext cx="4030560" cy="43812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5108400" y="5249880"/>
            <a:ext cx="3997440" cy="43812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6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正方形/長方形 2"/>
          <p:cNvSpPr/>
          <p:nvPr/>
        </p:nvSpPr>
        <p:spPr>
          <a:xfrm>
            <a:off x="8496360" y="7661160"/>
            <a:ext cx="43210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令和５年５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日　宮古恵風支援学校長　藤原淳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6681960" y="1432080"/>
            <a:ext cx="6135480" cy="44100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6683400" y="1795320"/>
            <a:ext cx="6134040" cy="29527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目標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一人あたりの年間時間外勤務時数を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内、月間時間外勤務時数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　 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以内と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施錠時刻前の退庁を全職員が一人あたり月に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回以上実施す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計画的な定時退庁日を設定し実施する（年間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回以上）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○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学校評価における職員の「学校教育力の向上に繋がる業務の効率化、適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化」の満足度の割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％以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【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目指す姿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部や分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が連携してチームとして業務を推進する学校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教職員がメリハリをつけながら計画的に業務を推進し、自身の心身の健康を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識している健全（健康・安心・安全）な学校。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右矢印 1"/>
          <p:cNvSpPr/>
          <p:nvPr/>
        </p:nvSpPr>
        <p:spPr>
          <a:xfrm>
            <a:off x="6006960" y="216360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9072720" y="5234040"/>
            <a:ext cx="3735360" cy="430200"/>
          </a:xfrm>
          <a:prstGeom prst="rect">
            <a:avLst/>
          </a:prstGeom>
          <a:solidFill>
            <a:srgbClr val="ffcc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5111640" y="5624640"/>
            <a:ext cx="399096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これまで改善に向けて取り組んできたことを継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、引き続き学校行事等の見直しや会議の効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化等に取り組んでい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資料作成等の業務が円滑に進むように、デー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の整理と見直しを行い、可能な範囲での簡略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るよう報告・連絡・相談の徹底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67680" y="5624640"/>
            <a:ext cx="373536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学校経営計画の推進に向け、管理職間の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思疎通を高め、明確な方向性を教職員に提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していき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主事・主任を中心に職員と連携しながらチー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意識の浸透を図り、一体感のある職場風土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醸成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関係機関等と連携を要する取組について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ニーズや内容を十分に把握し、組織として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適切な対応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1079640" y="5624640"/>
            <a:ext cx="4019400" cy="2008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長時間勤務者の要因分析を行い、必要に応じて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面談等を実施するなど、一人ひとりの現状把握に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努めながら心身の健康管理に努め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時間外勤務時間の縮減と、多忙感の低減に努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・各自の業務を客観的に把握するように、様々な機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会をとおして職員に働きかけ、よりよい働き方に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いて意識の向上を図り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1079640" y="4824360"/>
            <a:ext cx="11737800" cy="405000"/>
          </a:xfrm>
          <a:prstGeom prst="rect">
            <a:avLst/>
          </a:prstGeom>
          <a:solidFill>
            <a:srgbClr val="9966f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具体的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7923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75760" y="838368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1760" y="795816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112160" y="906768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79640" y="1806480"/>
            <a:ext cx="4968720" cy="2941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各教職員は、使命感をもって日常の業務を遂行してい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昨年度の取り組みを通して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4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度は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超の時間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勤務職員が全職員中延べ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人、年間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時間超の時間外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務職員が全職員中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6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人となっており、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R3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年度から減少した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のの更に改善を進める必要がある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・計画的な定時退庁日の設定や計画的な業務の進め方を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びかけることで、施錠時間（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18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：</a:t>
            </a: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30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）前の退庁意識が見られ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ＭＳ Ｐ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Ｐゴシック"/>
              </a:rPr>
              <a:t>ようになった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藤原　淳一</cp:lastModifiedBy>
  <cp:lastPrinted>2023-05-15T08:08:26Z</cp:lastPrinted>
  <dcterms:modified xsi:type="dcterms:W3CDTF">2023-05-17T00:23:13Z</dcterms:modified>
  <cp:revision>977</cp:revision>
  <dc:subject/>
  <dc:title>スライド 1</dc:title>
</cp:coreProperties>
</file>