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4440" y="744480"/>
            <a:ext cx="505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41000"/>
            <a:ext cx="294804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A436B-EBA0-48E6-A5F0-4A41D307D4F4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59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D0BC-FDCB-487E-8B6B-74A4C1E1005F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4800" y="744480"/>
            <a:ext cx="5057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8960" y="4721400"/>
            <a:ext cx="54486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DDE8-A1E6-44A9-B3FB-45D9BE60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93CC-2536-47A9-95F8-E3AFD8DF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C923-8B43-48E0-BAD3-206DA6574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5FB4-B0F6-4B1D-93DF-67E8BECA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02CA-25CE-4614-BC81-137FC8B9E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CF3B-34ED-4ADE-A9AA-83A8EC35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54A-CC02-4EF4-A406-001880F4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915CF-F52F-4ED7-9A5F-CA2D4A2D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2027-4933-4592-9E47-2CEA9877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1D3-8075-4454-9774-740B348B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742-8051-474F-BF6D-DAA53B6F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4E0-DC96-40FB-9B7C-E7EDBE1E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9394-3D7E-4D86-A2C5-3E4A610C1B75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花巻清風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55520" y="6418440"/>
            <a:ext cx="7118640" cy="1707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①　長時間勤務者の削減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月当たりの時間外勤務４５時間以上、年間３６０時間以上の職員　→　３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月当たりの時間外勤務８０時間以上の職員　→　　０人の継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②　業務への充実感や安心感の向上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教職員の満足度　→　９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働き方改革の実現度　→　８５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③年次休暇の取得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年次休暇の取得５日以上　→　１００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　・　１日単位での取得日数５日未満　→　３人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55520" y="6002280"/>
            <a:ext cx="712980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92240" y="3503520"/>
            <a:ext cx="11728440" cy="33660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花巻清風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760720" cy="1621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（１３０名中）、月当たりの時間外勤務４５時間以上の教職員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（延べ人数は１５８</a:t>
            </a: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人）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。　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　延べ人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、月当たりの時間外勤務８０時間以上の教職員は０人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、年間の時間外勤務３６０時間以上の教職員は３８人。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の学校評価の結果、教職員の満足度（働きがいのある職場）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4.9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働き方改革推進の実現度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8.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＝満足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5.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　働き方改革推進実現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2.5%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単位の年次休暇取得が５日未満の教職員は４人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1720" y="385920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10200" y="384480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946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９日　花巻清風支援学校長　　小澤　千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86760" y="1803240"/>
            <a:ext cx="5535360" cy="16178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ひとりが、健康でいきいきと働きがいとやりがいを感じながら、授 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 づくりや業務に意欲的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教職員の業務の実態を把握し、役割分担や業務の進め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などを見直し、よりよ い働き方改革への意識改革を進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840360" y="1519200"/>
            <a:ext cx="4762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80640" y="385272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095800" y="4219560"/>
            <a:ext cx="4149720" cy="17193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会議等では終了時間を提示したり、協議題ごとに協議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ポイント設定したりすることで会議の効率化と時間短縮に取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決裁の簡略化、業務の平準化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定時退庁日の設定と実行の声掛けにより意識改革の情勢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107640" y="4227480"/>
            <a:ext cx="3714480" cy="1711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コミュニティー・スクールの取組推進に当たっては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保護者や地域住民に、働き方改革についての理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も得られるように進め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55520" y="8205840"/>
            <a:ext cx="1173816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408800" y="8675640"/>
          <a:ext cx="5329440" cy="681120"/>
        </p:xfrm>
        <a:graphic>
          <a:graphicData uri="http://schemas.openxmlformats.org/drawingml/2006/table">
            <a:tbl>
              <a:tblPr/>
              <a:tblGrid>
                <a:gridCol w="121464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102440" y="8238960"/>
            <a:ext cx="5614920" cy="438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94520" y="9356760"/>
            <a:ext cx="567864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68480" y="4238640"/>
            <a:ext cx="404172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長時間労働に関する意識啓発や勤務時間の適正管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年次休暇、夏季休暇の取得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学校閉庁日の設定、定時退庁日の設定（週１回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労働安全衛生体制の確立のため、衛生委員会を定期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催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心と体の健康対策に取り組みます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保健師との連携、メンタル相談窓口の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長時間勤務者との面談、産業医による指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星野　英樹</cp:lastModifiedBy>
  <cp:lastPrinted>2022-05-25T22:05:36Z</cp:lastPrinted>
  <dcterms:modified xsi:type="dcterms:W3CDTF">2023-05-16T04:45:05Z</dcterms:modified>
  <cp:revision>979</cp:revision>
  <dc:subject/>
  <dc:title>スライド 1</dc:title>
</cp:coreProperties>
</file>