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338FC-BF38-40BB-848D-2E720B82389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9294-50EE-457B-BB12-76EB624E065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461-CFCD-41CA-A423-FA79A779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044E-9672-4219-BD36-4AA190DD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44D-6A86-4F82-94AC-C0195870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2BAD-1493-454B-AA31-422C121D7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3DD2-0A86-4532-B464-E565B4DB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6657-513B-4DBE-826C-D9AB06D73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3BC1-8AB3-4CCD-BCB0-90BAACEA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2718-F94A-4A71-94DF-269A45EB0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10EA-0296-4CDD-A7C5-FE58CFBB3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00A5-1CA2-42B1-834E-56FC15DC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1EFF1-BE02-43B8-B849-BF47BC28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371E-D416-4BE9-8406-D176EA89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D5E13-8BA2-4B92-A17A-7729D087931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17928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手県立宮古水産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06560" y="1098720"/>
            <a:ext cx="118839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宮古水産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者をゼロにする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年度：０人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年度：１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「情報を共有し、一体となって学校経営に取り組んでいる」と答えた割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年度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:50%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年度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:46.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日常の生徒指導業務等に手厚く対応する必要から、授業の準備等の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 時間が不足していると感じている教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の多忙化解消の観点から、慣例の見直しを軸とした業務への取り組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方の再検討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73756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０日　宮古水産高等学校長　伊東 道夫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〇　本校に勤務する教職員のワーク・ライフ・バランス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生徒一人ひとりのケアが丁寧に行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業務改善について、教職員から積極的に提案がな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働き方改革に係る課題について、学校全体で共有し、その解決を図る場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適宜設定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管理職が日頃から、教職員に対し適切な助言を行うとともに、風通しのよ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職場の雰囲気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教職員が、心身の休養を図る機会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慣例を見直し、業務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グループウェアを活用し、情報共有に係る業務量の低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朝会を月・金・必要な日の開催にすることにより、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は電子データとし、紙媒体での配付は行い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せ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  外部業者の職員室への立ち入りを安易にコロナ禍前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戻すことなく、真に必要な観点から精選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外は留守番電話を利用し、電話対応に係る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負担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スクールカウンセラー等の専門家からの助言によ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育相談等に係る教職員の負担を軽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生徒指導については、地域の理解・協力を得て対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きるよう、情報発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の諸課題に、学科や学年の枠を越え、全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職員で協力して解決する体制作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の理解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つながるよう積極的に情報を発信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コンプライアンスの定期的な取組をとおして、教育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員としての誇りと責任を持ちながらの服務を遵守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8992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化や見直しを進め、休暇を取得しやすい職場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の取得やメンタルヘルスについて積極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教職員の状況に応じ、共済保健事業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の途中で月の時間外在校等時間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が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超となった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教職員に対して、当該時間を知らせるとともに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健康確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観点から、ミニ面談を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  お盆、年末年始は学校を閉庁し、教職員のプライベートな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・休養時間が確保される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水上　弓枝</cp:lastModifiedBy>
  <cp:lastPrinted>2023-05-10T00:44:39Z</cp:lastPrinted>
  <dcterms:modified xsi:type="dcterms:W3CDTF">2023-05-11T08:00:59Z</dcterms:modified>
  <cp:revision>979</cp:revision>
  <dc:subject/>
  <dc:title>スライド 1</dc:title>
</cp:coreProperties>
</file>