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039-0619-4654-A2B7-782BD214A3F5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75C8-4132-4BBF-81AA-88AFF82EB35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4E7F-84D7-42CA-8035-BC13749F8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C516-F56C-41C1-8480-11A439CB5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8B26-D3CC-414E-85CE-DF09F33B9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B8F9-14C3-4B9F-8E93-437DB4B73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E77B-5611-4A2F-85C3-61566E3D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71B5-4D8E-464E-BFE5-8B7B2DFBD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260-9F68-44AC-B693-9D40249F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1A1-1FB1-4604-9727-8C34C565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CE90-DF4D-4D7C-8B61-5884620F6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257-90F5-46CC-B541-B39B84E2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520D-757B-4092-8FBB-FB39C75F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C92F-A8CE-4343-8A85-0405756E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46F84-2677-40F1-9D3E-B90893237C31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みたけ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明るく・仲よく・たくましく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54080" y="453708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　　盛岡みたけ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目標達成状況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「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をゼロにする。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次休暇の取得状況について（年間一人当たりの平均取得日数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３年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6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.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教職員の意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本校２校舎、二戸分教室３校舎、奥中山校という他校舎間での情報共有を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う意識が教職員に周知されているが、連携の難しさと業務の複雑化が負担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管理職のマネジメン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・業務の効率的な遂行の視点を持ち、各校舎間の連携がスムーズになるよ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業務見直し等 の対応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６月１日　盛岡みたけ支援学校長　工藤弘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教職員の専門性を高め、資質を向上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実情を適切に把握し、必要な業務・活動は何かという視点で積極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に改善に取り組んでいる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業務改善について、教員から積極的に提案がなさ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、ワーク・ライフ・バランスを確保し、健康でいきいきとや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がいをもって達成感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教職員に対し目を配り、声掛けや面談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同士がコミュニケーションをとりながら専門性を高め、互いに学び合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489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スクラップアンドビルドについて随時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各種計画の合理的遂行を積極的に提案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組織の在り方を検証しながら必要な改変を実施する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とにより、業務の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期的に、学校における働き方の取組状況を振り返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場を設定しています。（衛生委員会等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行事や会議等については、安易にコロナ禍前に戻す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となく、教育において真に必要な観点から業務の見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他校舎間で学校フォルダ及びデスクネッツ等を活用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た情報共有と、ＩＣＴを活用しての効率的な業務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優先順位を明確にし、計画的に業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チームで協力・連携しながら業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間のコミュニケーションを図り、互いの考え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業務への取り組み方の相互理解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参加の地域行事等について、学校の実情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踏まえて精選等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4890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時間外在校等時間の縮減への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組を確実に実施し、ワーク・ライフ・バランスの改善が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きるよう教職員の健康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閉庁日の設定、年次休暇や子育てと仕事の両立支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の制度を活用する等、各種休暇の取得について教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員に積極的に声掛けを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教職員の状況に応じ、共済保健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業についての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村上　真子</cp:lastModifiedBy>
  <cp:lastPrinted>2023-05-18T10:38:11Z</cp:lastPrinted>
  <dcterms:modified xsi:type="dcterms:W3CDTF">2023-05-22T23:11:15Z</dcterms:modified>
  <cp:revision>978</cp:revision>
  <dc:subject/>
  <dc:title>スライド 1</dc:title>
</cp:coreProperties>
</file>