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7BB04-3EF0-48C3-9C8E-611D3392F736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C36BD-9145-42B7-B645-CEBEBE65FD8D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216C-0469-4729-A4D5-747A549F6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5E62-2E6C-4245-9194-619737E29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1DC8-E7A1-4A9D-86E9-D37D69E6F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D641-FFF6-4256-A632-686EDA7F1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4C60-CFE7-4D63-9078-F341C428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B3C6-5BC3-4429-8EAB-1B4FDCC9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9B47-1262-4D16-B4D3-56A0BAF0A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CA7-13C2-47EA-BF9A-AC89325F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F0FF-1AB5-4A19-B5F0-1E1047142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CB67-A11E-4B7F-A807-C0CA6937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B4B1-901E-4D13-8F80-F4B8AC99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0EE7-A72B-4C57-92CA-CC2DE1C3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C9D0-E9E5-40F9-952A-43290DF6D795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一戸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笑顔あふれる職場づくり　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647640" y="1101600"/>
            <a:ext cx="1253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一戸高等学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量的現状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◆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４年度、時間外勤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教職員が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延べ５名（全体の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4.7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）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教職員が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延べ１名（全体の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2.9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［定性的現状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一部の担当職員に業務が集中する傾向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部活動指導が時間外勤務時間増加の一因と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残務処理のため休日仕事を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〇　統合準備のため、業務量が増大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9063000" y="770724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〇月●日　●●学校長　●●●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目標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達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それぞれの専門性や積み重ねた経験を発揮、子どもたちと向き合い、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健康でやりがいを感じながら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が、生徒の学習指導、進路指導、生徒指導など教育活動に専念でき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時間を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管理職が日頃から、負担軽減が可能な業務について見直す姿勢を示し、勤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環境整備を進め、全職員で業務改善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個人の時間や家族との生活が充実し、職務にも精励でき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効率的な業務遂行を念頭に、学校行事等の見直しに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いて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定例職員会議における資料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DF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化し、事前配付する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とともに、会議をペーパーレスで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朝会におい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m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利用することにより、時間短縮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図るとともに、連絡を効率的に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積極的に授業に活用するとともに、課題の配布・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回収を行い、効率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活動における案内、集計について、メールやア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ケートシステムを活用し、効率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留守番電話の導入等、働き方改革に向けた取組を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保護者に理解してもらうよう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地域行事については、学校の実情に応じて精選等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休日等の部活動については、部活動支援員等の協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力をいただきながら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211880" y="8085240"/>
            <a:ext cx="561528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長期休業期間の学校閉庁日の設定を確実に実施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の積極的な取得により、休養、リフレッシュ、健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康維持を意識した働き方を推進し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新田　剛史</cp:lastModifiedBy>
  <cp:lastPrinted>2023-05-10T05:53:20Z</cp:lastPrinted>
  <dcterms:modified xsi:type="dcterms:W3CDTF">2023-05-10T05:54:51Z</dcterms:modified>
  <cp:revision>954</cp:revision>
  <dc:subject/>
  <dc:title>スライド 1</dc:title>
</cp:coreProperties>
</file>