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50D26-AA12-4F7C-B2E8-9F87E4F6152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7009-99E5-4F17-90A3-C1DE0DBC654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4145E-C515-4631-B349-7E3555807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0FC76-974A-4B67-B2B8-29C78FBCB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6BC5B9-51E0-494A-A192-C62B5854FB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3427C8-DD38-4FD7-AAB4-35A21F6FF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2BABAB-604A-4A98-AD5F-3983433637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B59864-3A57-46F0-98EE-C2BE25CB2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A837E-C64A-49FE-8513-02AA7B04E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29E2A-8138-4AD7-9D04-36F219B2F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E37BB5-7A70-498D-B3A3-282283CCAB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71BF4-0445-46C7-AE5B-850252857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121C89-20F9-48A6-9A47-744192BDD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1A76A-6F9C-4C99-B98B-FC91A4A8B9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4D7FF-FB37-4A3C-B486-51DC45914D6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西和賀高等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873000" y="1101600"/>
            <a:ext cx="12098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西和賀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３人、</a:t>
            </a:r>
            <a:r>
              <a:rPr b="0" lang="en-US" sz="1200" spc="-1" strike="noStrike">
                <a:solidFill>
                  <a:srgbClr val="000000"/>
                </a:solidFill>
                <a:latin typeface="Arial"/>
              </a:rPr>
              <a:t>R</a:t>
            </a:r>
            <a:r>
              <a:rPr b="0" lang="ja-JP" sz="1200" spc="-1" strike="noStrike">
                <a:solidFill>
                  <a:srgbClr val="000000"/>
                </a:solidFill>
                <a:latin typeface="Arial"/>
              </a:rPr>
              <a:t>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１２日、</a:t>
            </a:r>
            <a:r>
              <a:rPr b="0" lang="en-US" sz="1200" spc="-1" strike="noStrike">
                <a:solidFill>
                  <a:srgbClr val="000000"/>
                </a:solidFill>
                <a:latin typeface="Arial"/>
              </a:rPr>
              <a:t>R</a:t>
            </a:r>
            <a:r>
              <a:rPr b="0" lang="ja-JP" sz="1200" spc="-1" strike="noStrike">
                <a:solidFill>
                  <a:srgbClr val="000000"/>
                </a:solidFill>
                <a:latin typeface="Arial"/>
              </a:rPr>
              <a:t>４年度：１１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の取組が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徹底されて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6120" y="7728120"/>
            <a:ext cx="32911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西和賀高等学校長　助川剛栄　</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ワーク・ライフ・バランス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土日のうちどちらか一日を確実に休む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ＩＣＴ機器を活用して効率的かつ効果的な教育活動が展開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012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等の見直しによる業務の改善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の必要性を含めた在り方を考え、効率化を進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かがやきプラン推進事業支援員、部活動指導員の活用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よる業務軽減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ＩＣＴ機器活用による効率的な教育活動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題の配付・回収、</a:t>
            </a:r>
            <a:r>
              <a:rPr b="0" lang="en-US" sz="1200" spc="-1" strike="noStrike">
                <a:solidFill>
                  <a:srgbClr val="000000"/>
                </a:solidFill>
                <a:latin typeface="Arial"/>
              </a:rPr>
              <a:t>Forms</a:t>
            </a:r>
            <a:r>
              <a:rPr b="0" lang="ja-JP" sz="1200" spc="-1" strike="noStrike">
                <a:solidFill>
                  <a:srgbClr val="000000"/>
                </a:solidFill>
                <a:latin typeface="Arial"/>
              </a:rPr>
              <a:t>によりアンケートな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団体業務の明確化・適正化を推進し負担の軽減を図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　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ースクールを活用し、地域と一体とな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及び教員が担う業務の明確化・適正化の推進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等による時間外対応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外部人材による補助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の要因分析を確実に実施し、教職員の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医・学校薬剤師や労働組合と連携して健康管理を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各教職員の時間外在校等時間について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適切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リフレッシュのため年次休暇の取得を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の取得日数を増やし、家庭での時間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切田　壮</cp:lastModifiedBy>
  <cp:lastPrinted>2023-04-27T03:17:56Z</cp:lastPrinted>
  <dcterms:modified xsi:type="dcterms:W3CDTF">2023-04-28T01:48:34Z</dcterms:modified>
  <cp:revision>959</cp:revision>
  <dc:subject/>
  <dc:title>スライド 1</dc:title>
</cp:coreProperties>
</file>