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A6B20-CA1C-4896-BD7C-6D69A2E9B3C7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72E0C-63DC-4AA3-8393-8CC74365350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7147-2C8F-413C-8EF0-EAFAED94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C181-4587-4840-81B2-7D7BF19C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6FD-76A8-4B1C-98AF-FA89C3C1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8D7E-BB4A-4F40-8C52-FF7A35E6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A67-0786-4B9A-B4DF-DA73F85E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96C6-44B3-4F4A-AA68-B6CC39FC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04BA-9550-4B08-84EB-6B879530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78C3-2EE6-41F2-A093-80338CAA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4DE1-F2FF-4340-8DC9-E37CA8F0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D6B3-04D5-4350-8579-45555558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E24A-773B-48BD-96BD-7D8EFBCE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6F6F-ED1F-4543-BC14-652C273B8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A0F73-27FD-41B3-BEFA-71FEEDDBB4FC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49200" y="20016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高田高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自分の時間を作ることも立派な仕事です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911160" y="3960720"/>
            <a:ext cx="5884920" cy="1656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やりがいを感じながらゆとりをもって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教職員とのコミュニケーションを密にとり、風通しの良い明るい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場作り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生徒一人一人と接する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習指導の充実のため、数多くの研修の機会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6937200" y="7416720"/>
            <a:ext cx="5954760" cy="1152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時間外在校等時間の教職員→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「職員の業務は適切に分担されている」と答えた教職員の割合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6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１回以上年次休暇を取得する教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9848880" y="2255760"/>
            <a:ext cx="3024000" cy="4699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教職員個々に毎月の時間外在校等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まとめたものを配付し、縮減へ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付けを図るとともに、時間外在校等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が長い教職員には管理職が積極的に声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が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週に１日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ノー残業デーを各自が設定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、時間外在校時間の短縮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特定の職員に業務が集中しないよう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チームで取り組む体制作りに努め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人間ドック等、健康診断受診について積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極的に情報提供と声掛けをし、受診しや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すい雰囲気作り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月に１回以上、休暇を取得するよう積極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的に教職員を促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盆、年末年始の学校閉庁日を適切に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カウンセラー来校日には、教員もカウ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セリングを受けられるよう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6945480" y="7058160"/>
            <a:ext cx="5984640" cy="3585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895320" y="1432080"/>
            <a:ext cx="5889600" cy="37440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（令和４年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909720" y="3600360"/>
            <a:ext cx="5889600" cy="36036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6973920" y="1432080"/>
            <a:ext cx="5929200" cy="79200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（今年度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テキスト ボックス 2"/>
          <p:cNvSpPr/>
          <p:nvPr/>
        </p:nvSpPr>
        <p:spPr>
          <a:xfrm>
            <a:off x="1108080" y="1092240"/>
            <a:ext cx="117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高田高校では、「岩手県教職員働き方改革プラン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890640" y="1806480"/>
            <a:ext cx="5894280" cy="1720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のうち、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が年間を通し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のべ０名であった。また、週休日の部活動従事時間を除いた数値で、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えた者はの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、１ヶ月平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を超えた者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.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同時にいくつもの業務を抱えてしまう職員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健康管理区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職員が、定期健康診断を受診した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中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9.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にのぼ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6948360" y="2236680"/>
            <a:ext cx="2881440" cy="4718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退勤時間までに業務を終了させるよう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　常に見通しを持って業務に当た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「学校の部活動に係る活動方針」に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づき、効率的な指導に取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管理職が、教職員の負担軽減策に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いて積極的に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会議資料の事前配付、様式の統一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等により会議時間を短縮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分掌組織や部活動の見直しを図り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業務の効率化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度途中においても分掌内の役割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担を見直し、負担の分散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校務におけるＯＪＴを推進し、教職員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成長できる学校を目指し、業務の偏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なく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学校行事等のスリム化を図り、ゆと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 ある学校運営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横巻き 4"/>
          <p:cNvSpPr/>
          <p:nvPr/>
        </p:nvSpPr>
        <p:spPr>
          <a:xfrm>
            <a:off x="836640" y="5330880"/>
            <a:ext cx="5905440" cy="4537080"/>
          </a:xfrm>
          <a:prstGeom prst="horizontalScroll">
            <a:avLst>
              <a:gd name="adj" fmla="val 8000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8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　「岩手県教職員働き方改革プラン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（２０２１～２０２３）</a:t>
            </a:r>
            <a:r>
              <a:rPr b="0" lang="ja-JP" sz="1200" spc="-1" strike="noStrike">
                <a:solidFill>
                  <a:srgbClr val="003300"/>
                </a:solidFill>
                <a:latin typeface="HGP創英角ｺﾞｼｯｸUB"/>
                <a:ea typeface="HGP創英角ｺﾞｼｯｸUB"/>
              </a:rPr>
              <a:t>」 （抜粋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働き方改革の実現により、岩手の未来を担う大切な子どもたちに、質の高い教育の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時間外在校等時間が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Arial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超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令和５年度において、アンケート調査に基づく肯定的実感が令和３年度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実施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6961320" y="1806480"/>
            <a:ext cx="2881080" cy="40968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１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負担軽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871200" y="1806480"/>
            <a:ext cx="3024000" cy="43020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２</a:t>
            </a:r>
            <a:r>
              <a:rPr b="0" lang="en-US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確保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584360" y="7905600"/>
          <a:ext cx="4680000" cy="984240"/>
        </p:xfrm>
        <a:graphic>
          <a:graphicData uri="http://schemas.openxmlformats.org/drawingml/2006/table">
            <a:tbl>
              <a:tblPr/>
              <a:tblGrid>
                <a:gridCol w="922320"/>
                <a:gridCol w="1289160"/>
                <a:gridCol w="1388880"/>
                <a:gridCol w="107964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Ｒ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Ｒ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(2022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Ｒ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3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　　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01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4" name="正方形/長方形 2"/>
          <p:cNvSpPr/>
          <p:nvPr/>
        </p:nvSpPr>
        <p:spPr>
          <a:xfrm>
            <a:off x="6923160" y="8850240"/>
            <a:ext cx="55386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令和５年５月１日　　　　　　岩手県立高田高等学校長　菅野　幸貴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田村　崇司</cp:lastModifiedBy>
  <cp:lastPrinted>2023-05-14T23:38:20Z</cp:lastPrinted>
  <dcterms:modified xsi:type="dcterms:W3CDTF">2023-05-16T08:01:32Z</dcterms:modified>
  <cp:revision>997</cp:revision>
  <dc:subject/>
  <dc:title>スライド 1</dc:title>
</cp:coreProperties>
</file>