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0A78-5861-4C82-A4AA-236905193D2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96E5-7D22-4C81-BF8E-62C03B44BF1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E076-E5A2-473D-A83D-F7E430726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65E8-B119-49E1-916A-43A523C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E6E4-AD00-4A03-9843-9A7D81E1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94E2-4072-4333-B05C-1B178305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FB2E-6732-4CE3-83A1-B43DF23F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C034-858D-4D63-A848-7A3D4933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034-8C81-42F5-A26B-7AAEBFB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6F7D-C88B-4C0C-BDD7-6FA800D3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ECCF-BBD9-4B21-BFCF-81E6936D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55E3-4366-4D23-9269-8790F31D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C727-CBE9-4F5F-95D5-C474F1D8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7DB-4DD7-44E8-A66D-DBDFE07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DEFD5-2E8D-4351-82E0-EE163617009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花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 やりがいと希望のもてる職場づくり 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花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1806480"/>
            <a:ext cx="5560920" cy="2583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４年度において、時間外在校等時間（週休日の部活動指導従事時間を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く）が月４５時間を超える教職員数は延べ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.2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また、年間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を超える教職員は５人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3.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令和４年度において、年次休暇の平均取得日数は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〔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定性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数が少ないため、一人あたりの担当業務の種類が多くなり、多忙感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つな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正方形/長方形 2"/>
          <p:cNvSpPr/>
          <p:nvPr/>
        </p:nvSpPr>
        <p:spPr>
          <a:xfrm>
            <a:off x="7875720" y="768348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花泉高等学校長　　橋本　ゆかり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7272360" y="1795320"/>
            <a:ext cx="5535720" cy="2594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」に掲げる時間外在校等時間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縮減について、目標を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年次休暇の計画的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心身の健康に不安を抱くことなく、業務に集中できる環境で、やり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いを感じながら生徒に向き合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仕事と生活を充実させて、希望のもてる働き方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仕事量が偏ることなく平準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、日頃から教職員の働きやすい環境づくり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右矢印 1"/>
          <p:cNvSpPr/>
          <p:nvPr/>
        </p:nvSpPr>
        <p:spPr>
          <a:xfrm>
            <a:off x="6640560" y="2009880"/>
            <a:ext cx="647640" cy="1908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３年度実績　　　　　　　　　　県立学校計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7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21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グループ化 2"/>
          <p:cNvGrpSpPr/>
          <p:nvPr/>
        </p:nvGrpSpPr>
        <p:grpSpPr>
          <a:xfrm>
            <a:off x="1079640" y="4495680"/>
            <a:ext cx="11737800" cy="3108600"/>
            <a:chOff x="1079640" y="4495680"/>
            <a:chExt cx="11737800" cy="3108600"/>
          </a:xfrm>
        </p:grpSpPr>
        <p:sp>
          <p:nvSpPr>
            <p:cNvPr id="61" name="Rectangle 70"/>
            <p:cNvSpPr/>
            <p:nvPr/>
          </p:nvSpPr>
          <p:spPr>
            <a:xfrm>
              <a:off x="1079640" y="4495680"/>
              <a:ext cx="11728440" cy="48564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３　（２を達成していくための）具体的取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0"/>
            <p:cNvSpPr/>
            <p:nvPr/>
          </p:nvSpPr>
          <p:spPr>
            <a:xfrm>
              <a:off x="1079640" y="4966920"/>
              <a:ext cx="4024080" cy="496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教職員の健康管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0"/>
            <p:cNvSpPr/>
            <p:nvPr/>
          </p:nvSpPr>
          <p:spPr>
            <a:xfrm>
              <a:off x="5108760" y="4966920"/>
              <a:ext cx="3997080" cy="4968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における業務改善の推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0"/>
            <p:cNvSpPr/>
            <p:nvPr/>
          </p:nvSpPr>
          <p:spPr>
            <a:xfrm>
              <a:off x="9072720" y="4966920"/>
              <a:ext cx="3735360" cy="48744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及び教員が担う業務の明確化・適正化の推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70"/>
            <p:cNvSpPr/>
            <p:nvPr/>
          </p:nvSpPr>
          <p:spPr>
            <a:xfrm>
              <a:off x="5108760" y="5430600"/>
              <a:ext cx="3963960" cy="217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管理職は、教職員の改善要望等を真摯に受け止め、で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きることから積極的に改善するよう努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仕事量について、特定の教職員に多くの仕事が偏ること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がないよう、一人一人の平準化を図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日曜日を原則として学校閉庁日とします。また、盆や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末年始も学校閉庁日と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水曜日を「Ｎｏ残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業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D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ａ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ｙ」とし、定時退庁日と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部活動休養日を徹底するとともに、より効率的・効果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な部活動の実施を推進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70"/>
            <p:cNvSpPr/>
            <p:nvPr/>
          </p:nvSpPr>
          <p:spPr>
            <a:xfrm>
              <a:off x="9072720" y="5430600"/>
              <a:ext cx="3744720" cy="217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地域やＰＴＡ、同窓会等との連携・協力を図りながら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教職員が過度に様々な業務を負担しないよう改善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進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働き方改革に向けた取組について、保護者の方や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地域の方に理解いただけるよう学校通信などを通し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周知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70"/>
            <p:cNvSpPr/>
            <p:nvPr/>
          </p:nvSpPr>
          <p:spPr>
            <a:xfrm>
              <a:off x="1079640" y="5430600"/>
              <a:ext cx="4024080" cy="217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60" dir="54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管理職は、職員の健康状態等の把握に努めるとともに、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必要に応じて産業医の保健指導やメンタルヘルス相談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の有効活用を勧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時間外在校等時間（週休日の部活動指導従事時間を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く）を１日２時間以内となるよう職員に心がけさせることに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より、月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時間を超える職員がゼロになるよう努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・　年次休暇等の取得を推進し、心身のリフレッシュ促進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　図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"/>
          <p:cNvGraphicFramePr/>
          <p:nvPr/>
        </p:nvGraphicFramePr>
        <p:xfrm>
          <a:off x="8551800" y="8526600"/>
          <a:ext cx="2968560" cy="685800"/>
        </p:xfrm>
        <a:graphic>
          <a:graphicData uri="http://schemas.openxmlformats.org/drawingml/2006/table">
            <a:tbl>
              <a:tblPr/>
              <a:tblGrid>
                <a:gridCol w="982800"/>
                <a:gridCol w="19857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総司</cp:lastModifiedBy>
  <cp:lastPrinted>2023-05-15T22:32:47Z</cp:lastPrinted>
  <dcterms:modified xsi:type="dcterms:W3CDTF">2023-05-15T22:36:05Z</dcterms:modified>
  <cp:revision>996</cp:revision>
  <dc:subject/>
  <dc:title>スライド 1</dc:title>
</cp:coreProperties>
</file>