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3000" y="744120"/>
            <a:ext cx="50515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2DD2E-FA44-434F-8EFC-00F2953EC742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2E21C-7F18-4950-B9BF-33B901755E05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73000" y="744480"/>
            <a:ext cx="5051520" cy="37213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81C1-813F-40D9-80B4-9802A1468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953B-8018-41B7-B689-71C27038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7FE3-8758-444A-BB32-032EC637F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82B6-6A8F-4C6A-8598-F8DCAC1C8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A999-C410-4FB1-9810-A9FC20F4F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9CC8-3A06-4DB6-AF01-3EB6526F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3B5B-C053-4544-A538-B8637AEAD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3646-3137-4E73-84D8-D3E8780B7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72BB-DC97-447D-A991-42B4D1D0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3B62-EC8B-47F0-944A-7A1C836A5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F6DD-C00A-4AB0-B642-988504FB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E29-F6AC-4CF7-91B2-4EF7C1868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425F-C253-4E26-8DE8-C720E5E80860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盛岡峰南高等支援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学年・学科・各部が連携して推進する「チーム峰南」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5991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勤務時間外業務→一人あたり年間平均で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年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超過勤務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上の職員→０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年次休暇の取得日数→一人あたり年間平均取得日数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日以上、１日単位の年次取得５日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・毎週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回の定時退庁日設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192720"/>
            <a:ext cx="7129440" cy="406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テキスト ボックス 2"/>
          <p:cNvSpPr/>
          <p:nvPr/>
        </p:nvSpPr>
        <p:spPr>
          <a:xfrm>
            <a:off x="10796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盛岡峰南高等支援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県内唯一の専門学科が設置された高等支援学校であり、県内全域から生徒が集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ま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進路支援業務、課外活動（週休日における大会やそれに向けた練習、専門教科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習で製作した製品の展示、販売対応等）、県内各圏域におけるＰＴＡ活動対応等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移動距離や対応回数、時間的負担も大き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関係各所の本校教育への関心が高く、学校見学や入学相談の依頼件数が多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の教育理念である「生きがいのある豊かな生活の実現」を目指し、各教職員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使命感を持って日常の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402912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5108400" y="402912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正方形/長方形 2"/>
          <p:cNvSpPr/>
          <p:nvPr/>
        </p:nvSpPr>
        <p:spPr>
          <a:xfrm>
            <a:off x="8064360" y="756144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令和５年５月１０日　盛岡峰南高等支援学校長　川﨑広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生徒が、学校に通うことが楽しいと感じることができる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教職員が、達成感、有用感を感じ、教育の楽しさを実感しながら各学年、学科が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携して、業務を推進するチームとしての学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各教職員が自分のライフプラン、ミッションを意識化し業務を推進する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健全（健康・安心・安全）な学校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72720" y="399240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5108400" y="4352760"/>
            <a:ext cx="39546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が円滑に進むように、資料データの整理と見直し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行い、作成の簡略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現状の校内業務のスクラップ＆ビルド等について随時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討し、より効果的な業務運営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業務の効率化につながるように、組織のあり方を検証しな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ら、必要な改変を視野に入れて業務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様々な事案の未然防止、適切な初期対応ができるよう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告・連絡・相談の徹底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9063000" y="4352760"/>
            <a:ext cx="374976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本校が事務局を担当する他の支援学校が関わる諸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議等において、連絡調整等の効率化を図るために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学校間における連携協力の一層の充実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支援学校のセンター的機能に係る取組について、依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校や関係機関等のニーズを把握し、組織としての適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な対応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1079640" y="4352760"/>
            <a:ext cx="4019400" cy="1695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勤務時間の正確な把握の取組を確実に実施し、業務の優先順位を見極めながら、長時間勤務の軽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毎月の時間外在校等時間を各人に知らせ、時間外勤務状況を意識し、縮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年間を通じた計画的な業務推進により、繁忙期の時間外勤務時間の縮減と、多忙感の低減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管理職が、教職員の健康管理について　積極的に面談や声掛けをするなど、メンタルヘルスを含めた健康状態の把握に努め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・衛生委員会等において、職場環境の在り方や健康保持に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つ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Arial"/>
              </a:rPr>
              <a:t>いて意見交換を行い、職場環境の整備を図りま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7848720"/>
            <a:ext cx="11737800" cy="201600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791532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4400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366084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8348760" y="8404200"/>
          <a:ext cx="3095640" cy="68112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髙橋　奈津子</cp:lastModifiedBy>
  <cp:lastPrinted>2023-05-10T01:57:38Z</cp:lastPrinted>
  <dcterms:modified xsi:type="dcterms:W3CDTF">2023-05-11T00:43:08Z</dcterms:modified>
  <cp:revision>964</cp:revision>
  <dc:subject/>
  <dc:title>スライド 1</dc:title>
</cp:coreProperties>
</file>