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5920"/>
            <a:ext cx="5057640" cy="37256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80760" y="4721400"/>
            <a:ext cx="5445000" cy="447192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948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B5C79-9211-41F7-B37A-D55F2BA09085}"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E2B73-998D-421D-93B9-4B921ABCD4C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4800" y="746280"/>
            <a:ext cx="5057640" cy="3725640"/>
          </a:xfrm>
          <a:prstGeom prst="rect">
            <a:avLst/>
          </a:prstGeom>
          <a:ln w="0">
            <a:noFill/>
          </a:ln>
        </p:spPr>
      </p:sp>
      <p:sp>
        <p:nvSpPr>
          <p:cNvPr id="73" name="PlaceHolder 2"/>
          <p:cNvSpPr>
            <a:spLocks noGrp="1"/>
          </p:cNvSpPr>
          <p:nvPr>
            <p:ph type="body"/>
          </p:nvPr>
        </p:nvSpPr>
        <p:spPr>
          <a:xfrm>
            <a:off x="680760" y="4721400"/>
            <a:ext cx="5445000" cy="447192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BC607-DC37-4FFE-B199-88E1241A70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EB311C-BE4A-43B9-9E32-A8431C7224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B4944-1979-4636-AC5B-6AF127A297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7B8DF-6990-487F-B690-E1ED52E77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0EAE2-7999-44AB-9DF3-6ACADE233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3DDE6-713E-4054-9C14-7F32843B7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8C907-A094-4145-919A-166F86356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C7435-7066-4DD8-AE8F-045F18DB3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B54281-B91C-472D-B67C-25A4A8C60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0823A-2152-430F-8B56-8E3D588DD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93153-12EF-48A3-BBCF-DBC28C78B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E99E28-AAF5-4978-8633-DD55BD59F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EC5DC-2532-4573-AFFA-1753FDA01059}"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沼宮内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lang="ja-JP" sz="2000" spc="-1" strike="noStrike">
                <a:solidFill>
                  <a:srgbClr val="7f7f7f"/>
                </a:solidFill>
                <a:latin typeface="HGS創英角ｺﾞｼｯｸUB"/>
                <a:ea typeface="HGS創英角ｺﾞｼｯｸUB"/>
              </a:rPr>
              <a:t>働きがいを感じ、ワークライフバランスがとれている職場の実現</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在校等時間（週休日の部活動従事時間を除く）が月</a:t>
            </a:r>
            <a:r>
              <a:rPr b="0" lang="en-US" sz="1200" spc="-1" strike="noStrike">
                <a:solidFill>
                  <a:srgbClr val="000000"/>
                </a:solidFill>
                <a:latin typeface="ＭＳ Ｐゴシック"/>
              </a:rPr>
              <a:t>45</a:t>
            </a:r>
            <a:r>
              <a:rPr b="0" lang="ja-JP" sz="1200" spc="-1" strike="noStrike">
                <a:solidFill>
                  <a:srgbClr val="000000"/>
                </a:solidFill>
                <a:latin typeface="ＭＳ Ｐゴシック"/>
              </a:rPr>
              <a:t>時間を超える教職員→ゼロ</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時間外勤務が月</a:t>
            </a:r>
            <a:r>
              <a:rPr b="0" lang="en-US" sz="1200" spc="-1" strike="noStrike">
                <a:solidFill>
                  <a:srgbClr val="000000"/>
                </a:solidFill>
                <a:latin typeface="ＭＳ Ｐゴシック"/>
              </a:rPr>
              <a:t>60</a:t>
            </a:r>
            <a:r>
              <a:rPr b="0" lang="ja-JP" sz="1200" spc="-1" strike="noStrike">
                <a:solidFill>
                  <a:srgbClr val="000000"/>
                </a:solidFill>
                <a:latin typeface="ＭＳ Ｐゴシック"/>
              </a:rPr>
              <a:t>時間を超える教職員→できるだけ当該の月に、</a:t>
            </a:r>
            <a:r>
              <a:rPr b="0" lang="en-US" sz="1200" spc="-1" strike="noStrike">
                <a:solidFill>
                  <a:srgbClr val="000000"/>
                </a:solidFill>
                <a:latin typeface="ＭＳ Ｐゴシック"/>
              </a:rPr>
              <a:t>60</a:t>
            </a:r>
            <a:r>
              <a:rPr b="0" lang="ja-JP" sz="1200" spc="-1" strike="noStrike">
                <a:solidFill>
                  <a:srgbClr val="000000"/>
                </a:solidFill>
                <a:latin typeface="ＭＳ Ｐゴシック"/>
              </a:rPr>
              <a:t>時間を超過した時間以上の振替あるいは年次休暇を取得し、休養に努め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１日単位の年次休暇を５日以上取得する教職員→</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沼宮内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時間外勤務の月平均時間は２４時間程度で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大会や学校行事などで、一部教職員に業務が 集中している時期があ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年次休暇は、比較的取得しやすい環境にある。（他の教職員の理解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の見直しや改善についての取組・改善していると回答した教職員は９４％。</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数が少ないため、教職員の業務内容が多岐にわた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４年５月１９日　沼宮内高等学校長　菊池　省治</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8172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本校の生徒１人ひとりがいきいきと学校生活を送り成長するために、教職員が心身ともに健康な状態で生徒に向き合うことができる。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に関しての合意形成のプロセスを明確にし、教職員が一体となって遂行することで、多忙感を解消するとともに達成感が得られ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個々の教職員が適切なワークライフバランスを維持することにより、業務を推進し生徒に向き合う活力にあふれる心身の状態を保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や同僚に気軽に相談や提案ができるような職場環境である。</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長時間勤務の解消に向け、正確な勤務実態の把握に努めて問題点を明らかにし、解消の方策を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は校内分掌の適切な配置を行い、各主任と緊密に連携し、業務分担を適切に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全体及び分掌内で情報共有や合意形成を丁寧に行い、一致して業務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本来の業務に専念できるよう、</a:t>
            </a:r>
            <a:r>
              <a:rPr b="0" lang="en-US" sz="1200" spc="-1" strike="noStrike">
                <a:solidFill>
                  <a:srgbClr val="000000"/>
                </a:solidFill>
                <a:latin typeface="Arial"/>
              </a:rPr>
              <a:t>PTA</a:t>
            </a:r>
            <a:r>
              <a:rPr b="0" lang="ja-JP" sz="1200" spc="-1" strike="noStrike">
                <a:solidFill>
                  <a:srgbClr val="000000"/>
                </a:solidFill>
                <a:latin typeface="Arial"/>
              </a:rPr>
              <a:t>や連携先（役場）等との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指導員の配置の積極的な活用を進めて顧問の負担軽減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令和３年度から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375680" y="8535960"/>
          <a:ext cx="5329080" cy="681120"/>
        </p:xfrm>
        <a:graphic>
          <a:graphicData uri="http://schemas.openxmlformats.org/drawingml/2006/table">
            <a:tbl>
              <a:tblPr/>
              <a:tblGrid>
                <a:gridCol w="1214280"/>
                <a:gridCol w="1371600"/>
                <a:gridCol w="1371600"/>
                <a:gridCol w="137160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3">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３</a:t>
                      </a:r>
                      <a:r>
                        <a:rPr b="0" lang="en-US" sz="1000" spc="-1" strike="noStrike">
                          <a:solidFill>
                            <a:srgbClr val="000000"/>
                          </a:solidFill>
                          <a:latin typeface="ＭＳ Ｐゴシック"/>
                          <a:ea typeface="Times New Roman"/>
                        </a:rPr>
                        <a:t>(2021)</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５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心身の不調を感じた場合は、軽微な段階で適切な対応を取ることを常日頃から推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振替や年次休暇等を活用できる環境を整備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各種検診やサポート事業を周知し、活用を勧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各個人の健康確保・自己管理が、他の教職員の負担増の防止や生徒指導の充実につながり、最終的に学校運営の成否に関わるという意識を持ち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横坂　さくら</cp:lastModifiedBy>
  <cp:lastPrinted>2023-05-11T05:14:03Z</cp:lastPrinted>
  <dcterms:modified xsi:type="dcterms:W3CDTF">2023-05-11T09:16:22Z</dcterms:modified>
  <cp:revision>957</cp:revision>
  <dc:subject/>
  <dc:title>スライド 1</dc:title>
</cp:coreProperties>
</file>