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48040" cy="4986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7760" y="-360"/>
            <a:ext cx="2947680" cy="4986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7680" y="745920"/>
            <a:ext cx="5051160" cy="372420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38840"/>
            <a:ext cx="2948040" cy="4986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7760" y="9438840"/>
            <a:ext cx="2947680" cy="4986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9F530-923A-43A7-ADF4-78457580570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7760" y="9439200"/>
            <a:ext cx="2947680" cy="4986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4308B-A120-4F4D-9425-5FBE292920C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8040" y="746280"/>
            <a:ext cx="5051160" cy="3724200"/>
          </a:xfrm>
          <a:prstGeom prst="rect">
            <a:avLst/>
          </a:prstGeom>
          <a:ln w="0">
            <a:noFill/>
          </a:ln>
        </p:spPr>
      </p:sp>
      <p:sp>
        <p:nvSpPr>
          <p:cNvPr id="7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C2EA7-3763-4009-B49B-E38B28AE68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1515F8-D0F2-4280-BFAF-07EE5FAF3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E67CB-BF88-476C-9350-749BEF6182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778EF-D182-4CF5-A218-03A7AE81F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104FE-DCAF-434F-B67E-BD3600BD7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630C96-4B04-4027-8969-E0ABFDB60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1F0E7-237D-44FB-82A8-56A44EFDC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E85E3-72DA-432C-9A5F-23D21140E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72432-9356-495A-93AE-37E9CD49E1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5515E-5351-494A-9844-0267EF086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0AA02-C279-418E-A129-CD16B7D20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903E3-062F-46F4-9394-661923F644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C07E2-30FD-4DD9-AF88-2F6B2B1EA19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55680" y="219240"/>
            <a:ext cx="11449080" cy="71100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花北青雲高等学校教職員 働き方改革アクションプラン</a:t>
            </a:r>
            <a:endParaRPr b="0" lang="en-US" sz="24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時間　月１００時間以上の教職員　→　</a:t>
            </a:r>
            <a:r>
              <a:rPr b="0" lang="en-US" sz="1200" spc="-1" strike="noStrike">
                <a:solidFill>
                  <a:srgbClr val="000000"/>
                </a:solidFill>
                <a:latin typeface="ＭＳ Ｐゴシック"/>
              </a:rPr>
              <a:t>0</a:t>
            </a:r>
            <a:r>
              <a:rPr b="0" lang="ja-JP" sz="1200" spc="-1" strike="noStrike">
                <a:solidFill>
                  <a:srgbClr val="000000"/>
                </a:solidFill>
                <a:latin typeface="ＭＳ Ｐゴシック"/>
              </a:rPr>
              <a:t>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週に１回以上定時退庁を行う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日（８ｈ）以上の休暇取得する教職員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週休日又は休日に休養日を設定している部活動　→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学校閉庁日（夏季６日　冬季６日）→　</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38924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05408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a:t>
            </a:r>
            <a:r>
              <a:rPr b="0" lang="ja-JP" sz="1400" spc="-1" strike="noStrike">
                <a:solidFill>
                  <a:srgbClr val="000000"/>
                </a:solidFill>
                <a:latin typeface="Arial"/>
              </a:rPr>
              <a:t>花北青雲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741320"/>
            <a:ext cx="5545080" cy="172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月によるが、月当たりの時間外勤務</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の教職員</a:t>
            </a:r>
            <a:r>
              <a:rPr b="0" lang="ja-JP" sz="1200" spc="-1" strike="noStrike">
                <a:solidFill>
                  <a:srgbClr val="000000"/>
                </a:solidFill>
                <a:latin typeface="Arial"/>
              </a:rPr>
              <a:t>が複数名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退庁時間後も業務を続けている。仕事量の均一化は容易では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部活動に意欲的に取り組む生徒・職員が多いため、週休日及び休日の部活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指導の時間が多く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月に１回以上、週休日又は休日に部活動休養日を設定することが全教職員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過去のデータや共有すべきデータの活用がされ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岩手県立花北青雲高等学校長　小松　了</a:t>
            </a:r>
            <a:endParaRPr b="0" lang="en-US" sz="1100" spc="-1" strike="noStrike">
              <a:solidFill>
                <a:srgbClr val="000000"/>
              </a:solidFill>
              <a:latin typeface="Arial"/>
            </a:endParaRPr>
          </a:p>
        </p:txBody>
      </p:sp>
      <p:sp>
        <p:nvSpPr>
          <p:cNvPr id="60" name="Rectangle 70"/>
          <p:cNvSpPr/>
          <p:nvPr/>
        </p:nvSpPr>
        <p:spPr>
          <a:xfrm>
            <a:off x="7272360" y="1403280"/>
            <a:ext cx="5535720" cy="36360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41320"/>
            <a:ext cx="5535720" cy="1721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R5</a:t>
            </a:r>
            <a:r>
              <a:rPr b="0" lang="ja-JP" sz="1200" spc="-1" strike="noStrike">
                <a:solidFill>
                  <a:srgbClr val="000000"/>
                </a:solidFill>
                <a:latin typeface="Arial"/>
              </a:rPr>
              <a:t>年度目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達成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目指す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授業や授業準備、部活動指導等に取り組み、心身とも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でやりがいをもって生徒と向き合うことができる時間を確保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休暇取得や定時退庁の声がけを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ひとりが、健康で業務にやりがいを感じて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プライベートな時間を意識し、教職員の長時間勤務が解消され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099040" y="4402080"/>
            <a:ext cx="396396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フォルダを活用し、考査問題や大会結果記録を共</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有し、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の休養日を、月に１回以上は週休日に設定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ます。また、活動結果を一覧表にまとめて見える化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外部人材の活用について積極的に提案し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は勤務時間内に終了するように運営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に業務や部活動等を行わない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活動及び同窓会活動の業務について、構成員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ともに、その役割分担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り組みについて、保護者の方</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理解いただけるよう周知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1" lang="ja-JP" sz="1200" spc="-1" strike="noStrike">
                <a:solidFill>
                  <a:srgbClr val="000000"/>
                </a:solidFill>
                <a:latin typeface="ＭＳ ゴシック"/>
                <a:ea typeface="ＭＳ ゴシック"/>
              </a:rPr>
              <a:t>月</a:t>
            </a:r>
            <a:r>
              <a:rPr b="1" lang="en-US" sz="1200" spc="-1" strike="noStrike">
                <a:solidFill>
                  <a:srgbClr val="000000"/>
                </a:solidFill>
                <a:latin typeface="ＭＳ ゴシック"/>
                <a:ea typeface="ＭＳ ゴシック"/>
              </a:rPr>
              <a:t>100</a:t>
            </a:r>
            <a:r>
              <a:rPr b="1"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8064360" y="8551800"/>
          <a:ext cx="3313080" cy="642960"/>
        </p:xfrm>
        <a:graphic>
          <a:graphicData uri="http://schemas.openxmlformats.org/drawingml/2006/table">
            <a:tbl>
              <a:tblPr/>
              <a:tblGrid>
                <a:gridCol w="1008360"/>
                <a:gridCol w="230472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90440" y="4402080"/>
            <a:ext cx="4024440" cy="1695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時間外在校時間の縮減の取組を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健康診断や勤務時間外状況等のデータに基づ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該当の教職員への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やすい職場」を目指して、分掌や学年の状況を把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主任とともに仕事量の軽減を調整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の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自が週１回以上の定時退庁日（ノー残業デー）を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原　桂</cp:lastModifiedBy>
  <cp:lastPrinted>2023-05-09T03:51:04Z</cp:lastPrinted>
  <dcterms:modified xsi:type="dcterms:W3CDTF">2023-05-09T03:52:07Z</dcterms:modified>
  <cp:revision>964</cp:revision>
  <dc:subject/>
  <dc:title>スライド 1</dc:title>
</cp:coreProperties>
</file>