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739440"/>
            <a:ext cx="5021280" cy="370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48F0-8BA0-4994-8416-66D8CC2E512C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7"/>
          <p:cNvSpPr/>
          <p:nvPr/>
        </p:nvSpPr>
        <p:spPr>
          <a:xfrm>
            <a:off x="3816360" y="9377280"/>
            <a:ext cx="291780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6B82-1126-4807-A3DF-770A087B6852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857160" y="739800"/>
            <a:ext cx="5021280" cy="37018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72840" y="4689000"/>
            <a:ext cx="538956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014C-14C6-4BAF-A197-50709DD3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1F5-7548-4DFA-A42C-D0F838F5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34D8-4482-4D0C-A724-E241A8D2E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7172-A5FD-4940-8487-1D24EECCB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3B60-419D-4B01-B956-F6FE04049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0E55-51FC-4024-9C35-24A4981A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560B-0E7E-4129-879C-3199252B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5826-8E36-4B18-B624-C2D2155EB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A7AE-FA34-4D26-B4B6-8EBCA083D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19D7-118A-4A16-A0F9-1E08796E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0996-A81B-4756-8920-B980BDF2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1E20-2F0B-4436-8FB6-B51BA15C2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29E83-9408-41ED-B534-C7219DB9EF10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0"/>
          <p:cNvSpPr/>
          <p:nvPr/>
        </p:nvSpPr>
        <p:spPr>
          <a:xfrm>
            <a:off x="798480" y="6583320"/>
            <a:ext cx="7129440" cy="12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仕事にメリハリ（児童生徒について話し合う時間、各々の業務に向かう時間）をつけることを意識し、お互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に限られた時間を有効に使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業務の見直しで多忙感の縮減、年次有給休暇を有効に取得して、ワークライフバランスを確保し、職員が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きいきと活気のある職場環境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月に２回の定時退庁日（ノー残業デー）を意識し業務を進めます。また、週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度、個々に定時退庁日を申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し警備終了時間には業務を終了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798480" y="6175440"/>
            <a:ext cx="712944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820800" y="1433520"/>
            <a:ext cx="5918040" cy="36828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820800" y="3591000"/>
            <a:ext cx="12088800" cy="33948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テキスト ボックス 2"/>
          <p:cNvSpPr/>
          <p:nvPr/>
        </p:nvSpPr>
        <p:spPr>
          <a:xfrm>
            <a:off x="573120" y="1101600"/>
            <a:ext cx="125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前沢明峰支援学校では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817560" y="1800360"/>
            <a:ext cx="5918040" cy="16095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末の教職員へのアンケート「私は多忙化の解消や健康管理の取り組みをしてい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る」の項目に関する回答結果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までのアンケートの推移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①「そう思う」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H29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②「だいたいそう思う」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と②を合計すると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の教職員が意識して取り組んでおり、多少の増減はあるが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直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間で緩やかな増加がみられ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４月の超過勤務が月平均４５時間以上の教職員が全体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（前年比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）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業務内容、時期により時間外勤務をおこなう職員が偏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817560" y="3925800"/>
            <a:ext cx="4116240" cy="37008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4924440" y="3925800"/>
            <a:ext cx="4078440" cy="37332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36760"/>
            <a:ext cx="5637240" cy="35856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8840" y="1801800"/>
            <a:ext cx="5630760" cy="15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が、児童生徒の指導について考え、授業の準備を行う時間を十分に確保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一人一人が、いきいきとやり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日頃から、教職員とコミュニケーションをとり健康や業務について相談で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る体制に気を配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「前例」を見直す意識を持ち、計画的に業務を進め合理化や改善を進め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日々の業務で「おかげさま、お互いさま、ありがとう」の心でお互いを気遣う明峰の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手伝い文化を促進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735600" y="1916280"/>
            <a:ext cx="574920" cy="1233360"/>
          </a:xfrm>
          <a:prstGeom prst="rightArrow">
            <a:avLst>
              <a:gd name="adj1" fmla="val 55157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8994600" y="3930480"/>
            <a:ext cx="3915000" cy="37332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4924440" y="4295880"/>
            <a:ext cx="4070160" cy="17208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内容に優先順位をつけ時間内で無理なく進めるよう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ワークシェアを実施することにより、業務の効率化を進め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ペーパーレス化を更に進め、書類等の整理や処理をこま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行い効率的な職場の環境を作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管理職が、定時退庁に向け積極的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全職員が前例にとらわれず、業務削減の意識を持ち業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改善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8994600" y="4297320"/>
            <a:ext cx="3915000" cy="1719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会議の終わり時間をあらかじめ設定します。資料の事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配布、議題の精選につとめ会議の効率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勤務時間は７時間４５分であることを意識し、退勤時間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向けて時間、業務、様々な資源の効率化を図り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こまめに節約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「おかげさま、お互いさま、ありがとう」の気持ちでお互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に手伝う文化のさらなる定着を図ります（こまめに気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う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819000" y="8058240"/>
            <a:ext cx="1212228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7711920" y="85107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817560" y="4295880"/>
            <a:ext cx="4106880" cy="1719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働き方改革プランの業務改善の取組を確実に実施し、教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学校医（産業医）のアドバイスをいただきながら、全職員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康維持に関する助言を共有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子育て、介護、家事、地域の行事への参加等、職員相互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プライベートでの負担を理解し、協力し合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月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回茶論（サロン）デイを開催し、教職員の円滑なコミ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ニケーション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3"/>
          <p:cNvSpPr/>
          <p:nvPr/>
        </p:nvSpPr>
        <p:spPr>
          <a:xfrm>
            <a:off x="811080" y="47520"/>
            <a:ext cx="12098520" cy="962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前沢明峰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16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快適な職場環境の整備「こまめに働き、こまめに経費・時間を節約し、こまめに気遣い、こまめにリフレッシュ」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2"/>
          <p:cNvSpPr/>
          <p:nvPr/>
        </p:nvSpPr>
        <p:spPr>
          <a:xfrm>
            <a:off x="7967520" y="754056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３１日　前沢明峰支援学校長　中野真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菅原　裕子</cp:lastModifiedBy>
  <cp:lastPrinted>2023-05-15T05:04:16Z</cp:lastPrinted>
  <dcterms:modified xsi:type="dcterms:W3CDTF">2023-05-15T10:06:49Z</dcterms:modified>
  <cp:revision>961</cp:revision>
  <dc:subject/>
  <dc:title>スライド 1</dc:title>
</cp:coreProperties>
</file>