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69580-F869-4F3F-B416-CEC0E9ED9CC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945EE-8122-4E7D-9326-FF646AF8E248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08D6-2321-4DFB-A526-70659E14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1F0-0D6B-4703-88DB-B53AF351B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6785-731E-4777-9D43-371588084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F855-E199-4084-90A4-A0176D308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4A3A-DF6B-4C60-8AB3-7A3B9BB27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4C6-4328-4B76-988D-FC0180062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444-9B3F-40DE-B61B-FC061079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788C-590A-4374-9D81-43F509FA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C76B-4CAF-468C-AF31-5F800FE1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83E5-AB08-4B7F-A1B9-8AE800C7E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AE2-F591-40F8-AA80-D07E0D053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534A-357E-46A6-9755-96848609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6FA7-8FBD-4CDA-BF63-77F31D5A8212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ホームベース 4"/>
          <p:cNvSpPr/>
          <p:nvPr/>
        </p:nvSpPr>
        <p:spPr>
          <a:xfrm rot="16200000">
            <a:off x="6547680" y="-2228400"/>
            <a:ext cx="792360" cy="11728440"/>
          </a:xfrm>
          <a:custGeom>
            <a:avLst/>
            <a:gdLst>
              <a:gd name="textAreaLeft" fmla="*/ 0 w 792360"/>
              <a:gd name="textAreaRight" fmla="*/ 792720 w 792360"/>
              <a:gd name="textAreaTop" fmla="*/ 0 h 11728440"/>
              <a:gd name="textAreaBottom" fmla="*/ 11728800 h 1172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654" y="0"/>
                </a:lnTo>
                <a:lnTo>
                  <a:pt x="21600" y="10800"/>
                </a:lnTo>
                <a:lnTo>
                  <a:pt x="1165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>
              <a:alpha val="32000"/>
            </a:srgbClr>
          </a:solidFill>
          <a:ln w="9360">
            <a:solidFill>
              <a:srgbClr val="000000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3"/>
          <p:cNvSpPr/>
          <p:nvPr/>
        </p:nvSpPr>
        <p:spPr>
          <a:xfrm>
            <a:off x="1224000" y="243000"/>
            <a:ext cx="11449080" cy="836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 P宋朝体M"/>
                <a:ea typeface="AR P宋朝体M"/>
              </a:rPr>
              <a:t>令和５年度　久慈高等学校長内校教職員 働き方改革アクションプラ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 P宋朝体M"/>
                <a:ea typeface="AR P宋朝体M"/>
              </a:rPr>
              <a:t>～「勤務したい」「勤務してよかった」と人口に膾炙されるような学校を目指して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90440" y="6665760"/>
            <a:ext cx="7118640" cy="11113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心身の故障による休職者→０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時間外在校時間月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時間以下の教職員→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週に２回以上定時退庁を行う教職員　→　早期に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　・　月に２回以上年次休暇を取得する教職員　→　</a:t>
            </a:r>
            <a:r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Ｐゴシック"/>
              </a:rPr>
              <a:t>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0"/>
          <p:cNvSpPr/>
          <p:nvPr/>
        </p:nvSpPr>
        <p:spPr>
          <a:xfrm>
            <a:off x="1079640" y="6259680"/>
            <a:ext cx="7129440" cy="40608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４　目　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9c9cdf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4080" y="3611520"/>
            <a:ext cx="11728440" cy="379440"/>
          </a:xfrm>
          <a:prstGeom prst="rect">
            <a:avLst/>
          </a:prstGeom>
          <a:solidFill>
            <a:srgbClr val="ffcc66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HGP創英ﾌﾟﾚｾﾞﾝｽEB"/>
                <a:ea typeface="HGP創英ﾌﾟﾚｾﾞﾝｽEB"/>
              </a:rPr>
              <a:t>３　　取　組　内　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テキスト ボックス 2"/>
          <p:cNvSpPr/>
          <p:nvPr/>
        </p:nvSpPr>
        <p:spPr>
          <a:xfrm>
            <a:off x="905040" y="1101600"/>
            <a:ext cx="119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久慈高等学校長内校では、「岩手県教職員働き方改革プラン（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0"/>
          <p:cNvSpPr/>
          <p:nvPr/>
        </p:nvSpPr>
        <p:spPr>
          <a:xfrm>
            <a:off x="1079640" y="1806480"/>
            <a:ext cx="5545080" cy="16574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▲行事を担当する教員など、一部の教職員に業務が集中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▲発達障害、精神疾患等、支援の必要な生徒が多く在籍しているため、学級担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に多大な負担がかか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▲次年度の校務分掌への引き継ぎに課題が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▲勤務時間が夜遅い時間まで及んでおり、生活や健康への影響は避けられない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◎部活動は平日１時間程度であり、多くの生徒がアルバイト就労しているため、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休日・休日のほとんどを休養日と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○過重な時間外労働はあまり無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1079640" y="4032360"/>
            <a:ext cx="4024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5108400" y="4032360"/>
            <a:ext cx="3997440" cy="387360"/>
          </a:xfrm>
          <a:prstGeom prst="rect">
            <a:avLst/>
          </a:prstGeom>
          <a:solidFill>
            <a:srgbClr val="ffff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正方形/長方形 2"/>
          <p:cNvSpPr/>
          <p:nvPr/>
        </p:nvSpPr>
        <p:spPr>
          <a:xfrm>
            <a:off x="8685360" y="7353360"/>
            <a:ext cx="416052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１８日　久慈高等学校長　　藤　田　知　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7272360" y="1432080"/>
            <a:ext cx="5535720" cy="363240"/>
          </a:xfrm>
          <a:prstGeom prst="rect">
            <a:avLst/>
          </a:prstGeom>
          <a:solidFill>
            <a:srgbClr val="ffc0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２　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7272360" y="1795320"/>
            <a:ext cx="5535720" cy="17370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☆教職員一人一人が、学校の役割を理解し、誇りとやりがいを持って職務に従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☆管理職が日頃から、休暇を取得しやすい環境づくりを行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☆校務分掌や担任業務を分担して取り組むことにより、お互いの負担を軽減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☆教職員が、生徒と接する時間が十分に確保でき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☆職員が個人や家庭で過ごしたり、健康を維持するための時間を十分に確保で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右矢印 1"/>
          <p:cNvSpPr/>
          <p:nvPr/>
        </p:nvSpPr>
        <p:spPr>
          <a:xfrm>
            <a:off x="6640560" y="1519200"/>
            <a:ext cx="676080" cy="19083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2f2f2"/>
          </a:solidFill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0"/>
          <p:cNvSpPr/>
          <p:nvPr/>
        </p:nvSpPr>
        <p:spPr>
          <a:xfrm>
            <a:off x="9072720" y="4032360"/>
            <a:ext cx="3735360" cy="379440"/>
          </a:xfrm>
          <a:prstGeom prst="rect">
            <a:avLst/>
          </a:prstGeom>
          <a:solidFill>
            <a:srgbClr val="ff660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70"/>
          <p:cNvSpPr/>
          <p:nvPr/>
        </p:nvSpPr>
        <p:spPr>
          <a:xfrm>
            <a:off x="5108400" y="4392720"/>
            <a:ext cx="396432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負担軽減に向け、校務全般見直し及び「定時出勤・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庁」の取り組みについて導入を検討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引き続き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活用を推進し、ペーパーレス化／会議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最小化・最適化による業務の負担軽減に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業務の外部委託を検討を不断に検討し、学校全体とし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教職員の負担軽減と業務の効率化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0"/>
          <p:cNvSpPr/>
          <p:nvPr/>
        </p:nvSpPr>
        <p:spPr>
          <a:xfrm>
            <a:off x="9067680" y="4392720"/>
            <a:ext cx="3745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学校業務について、業務の適正化を図るよう関係団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体との連携と協議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地域に積極的に関わることにより、学校業務・教育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活動への支援・応援を抽き出せるよう取り組み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期間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令和３年度～令和５年度までの３カ年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令和３年度から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375680" y="8535960"/>
          <a:ext cx="5329080" cy="681120"/>
        </p:xfrm>
        <a:graphic>
          <a:graphicData uri="http://schemas.openxmlformats.org/drawingml/2006/table">
            <a:tbl>
              <a:tblPr/>
              <a:tblGrid>
                <a:gridCol w="1214280"/>
                <a:gridCol w="1371600"/>
                <a:gridCol w="1371600"/>
                <a:gridCol w="137160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3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３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(2021)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４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2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５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２年度実績の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８割減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8" name="正方形/長方形 12"/>
          <p:cNvSpPr/>
          <p:nvPr/>
        </p:nvSpPr>
        <p:spPr>
          <a:xfrm>
            <a:off x="7089840" y="8105760"/>
            <a:ext cx="5614920" cy="438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段階的に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0"/>
          <p:cNvSpPr/>
          <p:nvPr/>
        </p:nvSpPr>
        <p:spPr>
          <a:xfrm>
            <a:off x="1079640" y="4392720"/>
            <a:ext cx="4024080" cy="169524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プランの「教職員の負担軽減」の取り組み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実現し、教職員の健康を確保・維持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教職員の勤務時間を的確に把握し、セルフケ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アの充実やライフ・ワークバランスの実現に努め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管理職が、休暇取得促進について積極的に声掛けをし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ストレスや悩みを管理職や同僚に相談しやすい職場を作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テキスト ボックス 2"/>
          <p:cNvSpPr/>
          <p:nvPr/>
        </p:nvSpPr>
        <p:spPr>
          <a:xfrm>
            <a:off x="7385040" y="503280"/>
            <a:ext cx="6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かいし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山中　基雅</cp:lastModifiedBy>
  <cp:lastPrinted>2023-05-16T08:24:19Z</cp:lastPrinted>
  <dcterms:modified xsi:type="dcterms:W3CDTF">2023-05-17T02:47:06Z</dcterms:modified>
  <cp:revision>955</cp:revision>
  <dc:subject/>
  <dc:title>スライド 1</dc:title>
</cp:coreProperties>
</file>