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231F8-3E01-41BE-8FD2-FA17FB3A159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676A-3006-4FBA-B547-3E42F9582111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5145-AE65-4DE5-820D-B8975ECC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D7D1-7889-41C5-8BB7-FDBBD247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0851-B313-4C03-9985-DF7E864B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D2F1-7DB5-488F-9416-7023E484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7E7F-9CCB-4DCB-905E-0968A4D79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C52-D687-4E6E-AF43-A3B0B624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64AC-B078-4F74-BE5A-3D8D6261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A068-87E3-4EAC-B12C-3B9E9F7CA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0E2-AA04-49BC-A527-F4C36925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F09-5B4C-42FE-A2B6-B6147AD7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7D85-5E8E-4C1B-BB96-C910E946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A68A-2B70-46C3-88D9-F81061C96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A606-30F7-4704-A233-FF06E3A3F98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黒沢尻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黒沢尻工業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Ｒ４年度月当たり時間外在校等時間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超の職員の割合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平均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2.9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％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Ｒ３比 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.4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％増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Ｒ４年度時間外在校等時間月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職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延べ２名（Ｒ３比 ４名減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　　週休日の部活動指導時間を除けばゼ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時間外在校等時間</a:t>
            </a:r>
            <a:r>
              <a:rPr b="0" lang="en-US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80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超の職員の主な業務は部活動指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分掌業務分担の偏りや時期集中など、バランスが不十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3764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４月２０日　黒沢尻工業高等学校長　村上智芳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一人ひとりが、生徒を第一に考えた教育活動を実践し、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やり甲斐を感じながら限られた時間の中で最大限の効果を上げ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が、生徒と向き合う時間を十分に確保でき、授業力・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級及び部活動経営力を磨き、生徒を支え学力の向上と進路目標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達成ができる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教職員が「一枚岩」となり、お互いの業務負担を確認しなが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「チーム」として「協働」の意識を持って業務に取り組む学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1452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業務に優先順位を設け、スクラップアン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ビルドを行い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校内ネットワークを活用し、情報の共有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や文書の電子データ化等を進め、業務効率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高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留守番電話を設置し、時間外の電話連絡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の対応を軽減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学校閉庁日を設定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</a:t>
            </a:r>
            <a:r>
              <a:rPr b="0" lang="ja-JP" sz="14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全職員の理解のもと、振替休日が取得で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る環境づくりを進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関係機関との連携をさらに進めると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に、業務担当の適正化に向けて、協議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進めます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外部コーチを配置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就職支援相談補助員、私費会計担当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配置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管理職が面談等を通じ、職員の心身の状態の把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握に努め、アドバイス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健康診断やメンタルヘルス相談等の紹介や利用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し易い環境づくりをし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個々のワーク･ライフ・バランスを考えた、計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画的で積極的な年次等の休暇の取得を勧め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前月の学校の時間外勤務状況を教職員に知らせ、　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時間を意識した勤務の在り方に努め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・　週休日等の大会引率では振替休日の取得を推し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3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進めます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智芳</cp:lastModifiedBy>
  <cp:lastPrinted>2023-04-20T08:46:52Z</cp:lastPrinted>
  <dcterms:modified xsi:type="dcterms:W3CDTF">2023-04-24T00:38:50Z</dcterms:modified>
  <cp:revision>957</cp:revision>
  <dc:subject/>
  <dc:title>スライド 1</dc:title>
</cp:coreProperties>
</file>