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41574-1B7D-4DED-A35F-437EDA217A2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2B991-1D57-478C-BCC0-4252EE51CF0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3000" y="744480"/>
            <a:ext cx="5051520" cy="3721320"/>
          </a:xfrm>
          <a:prstGeom prst="rect">
            <a:avLst/>
          </a:prstGeom>
          <a:ln w="0">
            <a:noFill/>
          </a:ln>
        </p:spPr>
      </p:sp>
      <p:sp>
        <p:nvSpPr>
          <p:cNvPr id="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FCF6F-DA3D-47A1-96EC-663536B73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48E99F-3670-4C10-B0FA-92DE31BD4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CF1700-01C0-4A89-9934-29793BF386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5D1F76-18F2-458B-AE6B-3C394F383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B9B57-969B-419D-9B25-EDAFB41A8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632110-942B-4C06-A608-861FA43AC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5AE5E-97C8-4283-B064-8FAA23D99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E5B58-2328-4571-B302-E8DA1AC46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CCB9E-1534-4F89-B1A2-1EF2FF725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2A37D-1A7D-4AD8-AC6B-BA4B2CC59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2B36E-74E2-4DC2-A8F2-279F83136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0AD9A-6AD9-43B2-96A4-E56842FF9C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C057-22ED-4714-B45A-167778C3D16D}"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北上翔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生徒の未来のために、教職員一人ひとりがいきいきと働ける職場への改革を推進しよう～</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224000" y="11160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北上翔南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０人、</a:t>
            </a:r>
            <a:r>
              <a:rPr b="0" lang="en-US" sz="1200" spc="-1" strike="noStrike">
                <a:solidFill>
                  <a:srgbClr val="000000"/>
                </a:solidFill>
                <a:latin typeface="Arial"/>
              </a:rPr>
              <a:t>R</a:t>
            </a:r>
            <a:r>
              <a:rPr b="0" lang="ja-JP" sz="1200" spc="-1" strike="noStrike">
                <a:solidFill>
                  <a:srgbClr val="000000"/>
                </a:solidFill>
                <a:latin typeface="Arial"/>
              </a:rPr>
              <a:t>４年度：０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３年度：</a:t>
            </a:r>
            <a:r>
              <a:rPr b="0" lang="en-US" sz="1200" spc="-1" strike="noStrike">
                <a:solidFill>
                  <a:srgbClr val="000000"/>
                </a:solidFill>
                <a:latin typeface="Arial"/>
              </a:rPr>
              <a:t>14.9</a:t>
            </a:r>
            <a:r>
              <a:rPr b="0" lang="ja-JP" sz="1200" spc="-1" strike="noStrike">
                <a:solidFill>
                  <a:srgbClr val="000000"/>
                </a:solidFill>
                <a:latin typeface="Arial"/>
              </a:rPr>
              <a:t>　日、</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13.6</a:t>
            </a:r>
            <a:r>
              <a:rPr b="0" lang="ja-JP" sz="1200" spc="-1" strike="noStrike">
                <a:solidFill>
                  <a:srgbClr val="000000"/>
                </a:solidFill>
                <a:latin typeface="Arial"/>
              </a:rPr>
              <a:t>　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特定の部活動を担当する教職員の長時間勤務が目立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業務において特定の教職員に業務が集中している時期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ロナ禍を乗り越え、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063000" y="770724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〇月●日　●●学校長　●●●●</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76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引き続き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目標を達成するよう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分掌・学年・教科毎に業務の偏りの見直しと改善点を見いだし、コミュニケーシ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ンを図りながら効率的に業務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一人ひとりが健康への意識と仕事へのやりがいを感じながら、チームと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て業務に取り組んでい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と教職員及び教職員同士のコミュニケーションが良好に図られ、話しや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職場の雰囲気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計画的な遂行と偏りの見直しにより、楽しく、効率良く業務を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の意識があり、生活にゆとりや満足感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4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勤務時間内での会議・諸行事等の実施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時退勤日（か・えるの日）の日数を個々に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について、週１日以上（年間平均週２日）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養日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週休日等に業務に従事した際の、代休および振替の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得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内の役割分担を見直し、負担の偏り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務支援システムの有効活用により、成績処理業務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負担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classi</a:t>
            </a:r>
            <a:r>
              <a:rPr b="0" lang="ja-JP" sz="1200" spc="-1" strike="noStrike">
                <a:solidFill>
                  <a:srgbClr val="000000"/>
                </a:solidFill>
                <a:latin typeface="Arial"/>
              </a:rPr>
              <a:t>を導入し、授業・課題配信を行い業務軽減を図</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ります。</a:t>
            </a: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組について、保護者の方に理解いただけるよう</a:t>
            </a:r>
            <a:r>
              <a:rPr b="0" lang="en-US" sz="1200" spc="-1" strike="noStrike">
                <a:solidFill>
                  <a:srgbClr val="000000"/>
                </a:solidFill>
                <a:latin typeface="Arial"/>
              </a:rPr>
              <a:t>PTA</a:t>
            </a:r>
            <a:r>
              <a:rPr b="0" lang="ja-JP" sz="1200" spc="-1" strike="noStrike">
                <a:solidFill>
                  <a:srgbClr val="000000"/>
                </a:solidFill>
                <a:latin typeface="Arial"/>
              </a:rPr>
              <a:t>総会などの機会を活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休日の部活動については、外部指導者の協力をいただきながら取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や団体から依頼されるイベント等への参加につ</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いて、再検討と精選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委員の提言を踏まえ、学校現場への地域人材の積極的な導入を進めるとともに、コミュニティ・ス</a:t>
            </a:r>
            <a:r>
              <a:rPr b="0" lang="en-US" sz="1200" spc="-1" strike="noStrike">
                <a:solidFill>
                  <a:srgbClr val="000000"/>
                </a:solidFill>
                <a:latin typeface="Arial"/>
              </a:rPr>
              <a:t> </a:t>
            </a:r>
            <a:r>
              <a:rPr b="0" lang="ja-JP" sz="1200" spc="-1" strike="noStrike">
                <a:solidFill>
                  <a:srgbClr val="000000"/>
                </a:solidFill>
                <a:latin typeface="Arial"/>
              </a:rPr>
              <a:t>クールへの推進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64360" y="8067600"/>
            <a:ext cx="5556240" cy="36828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8" name="Rectangle 70"/>
          <p:cNvSpPr/>
          <p:nvPr/>
        </p:nvSpPr>
        <p:spPr>
          <a:xfrm>
            <a:off x="1098720" y="5294160"/>
            <a:ext cx="3929040" cy="22910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心身に不安を抱える教職員の早期把握と支援を</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行い、早期の解決を図り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管理職による定期的な個人面談を実施し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タイムカードによる勤務時間の把握と勤務記録簿</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から長時間勤務への予防に向けた声がけをし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管理職が、計画的な休暇取得について積極的に</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声掛けをし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長期休業中の連続した休暇取得を推進します。</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300" spc="-1" strike="noStrike">
                <a:solidFill>
                  <a:srgbClr val="000000"/>
                </a:solidFill>
                <a:latin typeface="Arial"/>
              </a:rPr>
              <a:t>　　（学校閉庁日の有効活用）。</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西里　孝義</cp:lastModifiedBy>
  <cp:lastPrinted>2023-05-01T08:18:49Z</cp:lastPrinted>
  <dcterms:modified xsi:type="dcterms:W3CDTF">2023-05-08T01:39:45Z</dcterms:modified>
  <cp:revision>963</cp:revision>
  <dc:subject/>
  <dc:title>スライド 1</dc:title>
</cp:coreProperties>
</file>