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DDDA-0671-42E5-8826-FADDCA5B259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4333A-3BD8-43DD-B5BE-21D24C92BF6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E698-E855-4918-8CD3-295F88F5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886-0C35-496B-9127-196F952D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0EB2-E012-472C-B6C1-C909125F2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DD71-F2B1-4805-A947-E4BB238E0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4C93-5C20-4637-9DD8-3AFA3CD93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A90-C1C1-4F63-8B9A-EC258898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959A-AE55-4B7A-85FA-6CA3648E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557C-F520-4948-90D2-2791CF9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4516-C343-45AB-B31E-3396DD84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F8B5-47AB-4C9F-B89C-E735240C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9373-7AE6-4B22-BC1F-798A0106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76C3-61B3-432E-8E28-68BA1AD4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8ABB-64BA-466C-933E-3EE2208027A8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</a:t>
            </a:r>
            <a:r>
              <a:rPr b="0" lang="en-US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年度　遠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　スマートな働き方を生活様式として定着させよう　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に達した教職員　→　年間を通して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になったのが年通算で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以上の教職員→　前年度比５割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以降の居残り（但し、緊急の場合を除く）　→　な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324080" y="1133640"/>
            <a:ext cx="1119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遠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・　長時間の時間外勤務は概ね部活動指導に限ら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・　教職員全体で時間管理の意識が浸透してき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６日　遠野高等学校長　伊藤　正則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5156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教職員一人一人が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充実感を味わいながら業務にあたっ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健康で溌剌とした態度で、生徒一人一人に向き合っ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勤務時間内に仕事を片付けてしまう雰囲気に溢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・ワークライフバランスを意識した環境づくりに取り組んで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形式的に押印を求めていた書類を見直し、適正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電話自動応答装置を活用し、緊急時を除き時間外の対応を抑制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から、積極的に業務の簡略化について提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7400" y="4392720"/>
            <a:ext cx="37447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で定めた閉庁日を確実に施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毎月の時間外勤務総時間を職員個々にフィードバックし、勤務時間の適正管理の取組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機関や外部人材の活用と効果的な連携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8"/>
          <p:cNvSpPr/>
          <p:nvPr/>
        </p:nvSpPr>
        <p:spPr>
          <a:xfrm>
            <a:off x="6934320" y="91965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の健康診断の結果を真摯に受け止め、健康回復の増進を支援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個々が気兼ねなく、休暇、振替や代休等を取得できる雰囲気の醸成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を積極的に周知し、職員間で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12"/>
          <p:cNvSpPr/>
          <p:nvPr/>
        </p:nvSpPr>
        <p:spPr>
          <a:xfrm>
            <a:off x="7089840" y="8105760"/>
            <a:ext cx="5583240" cy="455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488360" y="8561520"/>
          <a:ext cx="5027400" cy="631800"/>
        </p:xfrm>
        <a:graphic>
          <a:graphicData uri="http://schemas.openxmlformats.org/drawingml/2006/table">
            <a:tbl>
              <a:tblPr/>
              <a:tblGrid>
                <a:gridCol w="1089000"/>
                <a:gridCol w="2049480"/>
                <a:gridCol w="1888920"/>
              </a:tblGrid>
              <a:tr h="126000"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2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5800">
                <a:tc>
                  <a:txBody>
                    <a:bodyPr lIns="46800" rIns="468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7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6800" marR="46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三浦　立</dc:creator>
  <dc:description/>
  <dc:language>en-US</dc:language>
  <cp:lastModifiedBy>安藤　智彩保</cp:lastModifiedBy>
  <cp:lastPrinted>2023-05-15T01:13:21Z</cp:lastPrinted>
  <dcterms:modified xsi:type="dcterms:W3CDTF">2023-05-15T01:18:52Z</dcterms:modified>
  <cp:revision>955</cp:revision>
  <dc:subject/>
  <dc:title>スライド 1</dc:title>
</cp:coreProperties>
</file>