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B4A19-A205-4095-A46E-B30B73EB516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29A50-B904-4197-9ACB-F408780F0EC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0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D247-891A-4CA7-9914-A62A96231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323B-1F56-4ADB-9911-98E072BBC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7A19-CBE2-4304-8E61-27D7A2AAC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EC0-39DA-40B5-8662-3DF6ADBF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1F2-5E82-48C3-8FB6-A6F97C8E5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470A-D918-4217-AD75-3CAF18D29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3F71-CA50-4CDA-91AF-6ADED36E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C0FC-59F7-4710-BAC5-B4159B74A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039E-0A34-41AE-A535-549B5363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B6E-43DF-4D4F-B2E5-D9BBCD207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45A2-026C-4CED-B6FC-CA35DD7C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C3AA-0A1F-42CE-94B4-90536617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7C3A-76EE-4F33-A2B4-05EAF6E87B9E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1bac1"/>
            </a:gs>
            <a:gs pos="100000">
              <a:srgbClr val="e9f4f5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大槌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00b0f0"/>
                </a:solidFill>
                <a:latin typeface="HGS創英角ｺﾞｼｯｸUB"/>
                <a:ea typeface="HGS創英角ｺﾞｼｯｸUB"/>
              </a:rPr>
              <a:t>～魅力化の第一歩は私たちの働き方から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260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月平均で時間外勤務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0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勤務者をゼロ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学校評価アンケート・職員対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「教職員の適性・能力に応じた校務分掌がなされている」⇒肯定的評価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75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％以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年次等休暇取得日数全員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以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大槌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小規模校のため教諭の人数が少なく、講師の割合が高い。各分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の人数が減り、教員一人あたりの業務量が増え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高校魅力化をはじめ防災教育や復興関連業務が多い。地域と連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しながら進めていくため計画立案や調整業務が難しく負担が少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くない。また、文部科学省の普通科改革支援事業に指定され、教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職員の業務量が増加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部活動指導や地域連携事業等による時間外勤務が多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８日　大槌高等学校長　継枝　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職員が個人の生活を大切にしながら、目標に向かいいきいき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業務に取り組む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全教職員がお互いを認め合い働きやすい職場環境づくりを目指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職員と生徒が共に自己実現できる、明るい学校づくりを目指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会議の削減や時間短縮、業務の見直しによ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効率化を進め教員の負担軽減に努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部活動の休みを原則土日休日に設定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また、振替の取得促進を進め、各顧問の負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軽減を図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教育目標やスクールポリシー等を示し、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業務の目的を明確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校務を適正に分担し、過重な負担になら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ないように配慮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タイムカードによる客観的な勤務時間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把握し、残業時間の軽減に努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年次休暇等の取得促進を図り、身体的、精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的な休養がとりやすい職場環境を構築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職場環境を整え、職員間の良好な関係維持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図るとともに、働きやすい雰囲気の醸成に努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め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健康診断、人間ドック等の推奨を図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353440" y="8535960"/>
          <a:ext cx="3095640" cy="68112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愛也 竿代</cp:lastModifiedBy>
  <cp:lastPrinted>2023-05-09T04:39:46Z</cp:lastPrinted>
  <dcterms:modified xsi:type="dcterms:W3CDTF">2023-05-09T04:40:22Z</dcterms:modified>
  <cp:revision>960</cp:revision>
  <dc:subject/>
  <dc:title>スライド 1</dc:title>
</cp:coreProperties>
</file>