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3679488" cy="10080625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356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16000" y="-36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8600" y="739440"/>
            <a:ext cx="5018040" cy="369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4680" rIns="9468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16000" y="9370800"/>
            <a:ext cx="2917800" cy="49356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A41B-02CA-4745-9CDF-D8CB7F9744E9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3816360" y="9371160"/>
            <a:ext cx="2917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39104-DDB0-4889-A99A-935EF4B82649}" type="slidenum">
              <a:rPr b="0" lang="en-US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858960" y="739800"/>
            <a:ext cx="5018040" cy="369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72840" y="4686120"/>
            <a:ext cx="5389560" cy="44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A78A-2506-43B9-9C1F-0D3F3AAB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B8C0-6072-4A82-8B75-473BF04D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A519-CB70-4A30-A107-42ACBD496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4704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009720" y="235080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00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4704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009720" y="5826960"/>
            <a:ext cx="396432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5D37-A941-420A-9D47-FCB72B5D8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8505-5083-4FF4-A89D-5C8B4E51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D83E7-3584-42E9-8216-C7A5B5BB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09B6-2F84-4606-B7A4-E457AAE8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605B-A700-460E-881A-8A2D6931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000" y="403200"/>
            <a:ext cx="12312360" cy="77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B755-801A-40CE-B4B3-D62D34B1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4C5B-580C-451C-940C-A200A5E73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993360" y="582696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1063-3499-438C-AEE5-7A14674B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00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993360" y="2350800"/>
            <a:ext cx="600840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000" y="5826960"/>
            <a:ext cx="12312360" cy="317412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3EC-0EF8-4616-A3B0-1413E1A8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4000" y="403200"/>
            <a:ext cx="12312360" cy="167976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ctr">
            <a:noAutofit/>
          </a:bodyPr>
          <a:p>
            <a:pPr indent="0" algn="ctr">
              <a:buNone/>
              <a:tabLst>
                <a:tab algn="l" pos="0"/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000" y="2350800"/>
            <a:ext cx="12312360" cy="66546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rmAutofit/>
          </a:bodyPr>
          <a:p>
            <a:pPr marL="507960" indent="-507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1101600" indent="-42372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2" marL="1697040" indent="-33984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3" marL="2374920" indent="-3380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4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5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6" marL="3052800" indent="-338040">
              <a:spcBef>
                <a:spcPts val="1199"/>
              </a:spcBef>
              <a:buClr>
                <a:srgbClr val="000000"/>
              </a:buClr>
              <a:buFont typeface="Arial"/>
              <a:buChar char="»"/>
              <a:tabLst>
                <a:tab algn="l" pos="1355760"/>
                <a:tab algn="l" pos="2711520"/>
                <a:tab algn="l" pos="4067280"/>
                <a:tab algn="l" pos="5423040"/>
                <a:tab algn="l" pos="6778800"/>
                <a:tab algn="l" pos="8134200"/>
                <a:tab algn="l" pos="9489960"/>
                <a:tab algn="l" pos="1084572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436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73160" y="9180000"/>
            <a:ext cx="433404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804240" y="9180000"/>
            <a:ext cx="3192480" cy="700200"/>
          </a:xfrm>
          <a:prstGeom prst="rect">
            <a:avLst/>
          </a:prstGeom>
          <a:noFill/>
          <a:ln w="0">
            <a:noFill/>
          </a:ln>
        </p:spPr>
        <p:txBody>
          <a:bodyPr lIns="135720" rIns="135720" tIns="68040" bIns="68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F175-8493-44FA-9346-2FD6ABA62B4E}" type="slidenum">
              <a:rPr b="0" lang="en-US" sz="2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3"/>
          <p:cNvSpPr/>
          <p:nvPr/>
        </p:nvSpPr>
        <p:spPr>
          <a:xfrm>
            <a:off x="1224000" y="217440"/>
            <a:ext cx="11449080" cy="809640"/>
          </a:xfrm>
          <a:prstGeom prst="rect">
            <a:avLst/>
          </a:prstGeom>
          <a:solidFill>
            <a:srgbClr val="ffffff"/>
          </a:solidFill>
          <a:ln w="57240">
            <a:solidFill>
              <a:srgbClr val="002a13"/>
            </a:solidFill>
            <a:miter/>
          </a:ln>
          <a:effectLst>
            <a:outerShdw dist="71785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52280" rIns="152280" tIns="18360" bIns="18360" anchor="ctr">
            <a:noAutofit/>
          </a:bodyPr>
          <a:p>
            <a:pPr algn="ctr">
              <a:lnSpc>
                <a:spcPts val="1397"/>
              </a:lnSpc>
              <a:spcBef>
                <a:spcPts val="1800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令和５年度　岩泉高等学校教職員 働き方改革アクションプラ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spcBef>
                <a:spcPts val="1199"/>
              </a:spcBef>
              <a:tabLst>
                <a:tab algn="l" pos="0"/>
                <a:tab algn="l" pos="1547640"/>
                <a:tab algn="l" pos="3095640"/>
                <a:tab algn="l" pos="4643280"/>
                <a:tab algn="l" pos="6191280"/>
                <a:tab algn="l" pos="7738920"/>
                <a:tab algn="l" pos="9286920"/>
                <a:tab algn="l" pos="10834560"/>
              </a:tabLst>
            </a:pP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r>
              <a:rPr b="0" i="1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魅力ある職場と健康的な生活をめざして</a:t>
            </a:r>
            <a:r>
              <a:rPr b="0" lang="ja-JP" sz="2000" spc="-1" strike="noStrike">
                <a:solidFill>
                  <a:srgbClr val="7f7f7f"/>
                </a:solidFill>
                <a:latin typeface="HGS創英角ｺﾞｼｯｸUB"/>
                <a:ea typeface="HGS創英角ｺﾞｼｯｸUB"/>
              </a:rPr>
              <a:t>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2"/>
          <p:cNvSpPr/>
          <p:nvPr/>
        </p:nvSpPr>
        <p:spPr>
          <a:xfrm>
            <a:off x="573120" y="6232680"/>
            <a:ext cx="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0"/>
          <p:cNvSpPr/>
          <p:nvPr/>
        </p:nvSpPr>
        <p:spPr>
          <a:xfrm>
            <a:off x="1079640" y="1457280"/>
            <a:ext cx="5545080" cy="338040"/>
          </a:xfrm>
          <a:prstGeom prst="rect">
            <a:avLst/>
          </a:prstGeom>
          <a:solidFill>
            <a:srgbClr val="bbe0e3"/>
          </a:solidFill>
          <a:ln w="9360">
            <a:solidFill>
              <a:srgbClr val="bbe0e3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１　現　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0"/>
          <p:cNvSpPr/>
          <p:nvPr/>
        </p:nvSpPr>
        <p:spPr>
          <a:xfrm>
            <a:off x="1046160" y="4529160"/>
            <a:ext cx="11728440" cy="379440"/>
          </a:xfrm>
          <a:prstGeom prst="rect">
            <a:avLst/>
          </a:prstGeom>
          <a:solidFill>
            <a:srgbClr val="00b0f0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３　</a:t>
            </a: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（２を達成していくための）具体的</a:t>
            </a:r>
            <a:r>
              <a:rPr b="0" lang="ja-JP" sz="1800" spc="-1" strike="noStrike">
                <a:solidFill>
                  <a:srgbClr val="ffffff"/>
                </a:solidFill>
                <a:latin typeface="HGS創英角ｺﾞｼｯｸUB"/>
                <a:ea typeface="HGS創英角ｺﾞｼｯｸUB"/>
              </a:rPr>
              <a:t>取組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2"/>
          <p:cNvSpPr/>
          <p:nvPr/>
        </p:nvSpPr>
        <p:spPr>
          <a:xfrm>
            <a:off x="905040" y="1101600"/>
            <a:ext cx="1191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岩泉高校では、「岩手県教職員働き方改革プラン（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）」に基づき、以下の取組により、「学校における働き方改革」を推進します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0"/>
          <p:cNvSpPr/>
          <p:nvPr/>
        </p:nvSpPr>
        <p:spPr>
          <a:xfrm>
            <a:off x="1079640" y="1806480"/>
            <a:ext cx="5545080" cy="261792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昨年度、時間外在校等時間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はゼロを達成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週休日の部活動従事時間を除いて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以上の者はの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、年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時間　　　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以上の者は教職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名中７名だった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大会引率や部活動指導など、特定の部活動顧問に負担が集中しがちであ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勤務時間終了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分以内に退庁する「早く帰る日」の取組は徐々に浸透して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たが、まだ十分ではない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70"/>
          <p:cNvSpPr/>
          <p:nvPr/>
        </p:nvSpPr>
        <p:spPr>
          <a:xfrm>
            <a:off x="1050840" y="4865760"/>
            <a:ext cx="402444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教職員の健康管理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0"/>
          <p:cNvSpPr/>
          <p:nvPr/>
        </p:nvSpPr>
        <p:spPr>
          <a:xfrm>
            <a:off x="5081760" y="4870440"/>
            <a:ext cx="3997080" cy="38736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4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における業務改善の推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正方形/長方形 2"/>
          <p:cNvSpPr/>
          <p:nvPr/>
        </p:nvSpPr>
        <p:spPr>
          <a:xfrm>
            <a:off x="8856720" y="770724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令和５年５月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</a:rPr>
              <a:t>日　岩泉高等学校長　岩渕　雅明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0"/>
          <p:cNvSpPr/>
          <p:nvPr/>
        </p:nvSpPr>
        <p:spPr>
          <a:xfrm>
            <a:off x="7272360" y="1440000"/>
            <a:ext cx="5535720" cy="366480"/>
          </a:xfrm>
          <a:prstGeom prst="rect">
            <a:avLst/>
          </a:prstGeom>
          <a:solidFill>
            <a:srgbClr val="bbe0e3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２　目標・目指す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70"/>
          <p:cNvSpPr/>
          <p:nvPr/>
        </p:nvSpPr>
        <p:spPr>
          <a:xfrm>
            <a:off x="7272360" y="1795320"/>
            <a:ext cx="5535720" cy="260208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目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「岩手県教職員働き方改革プラン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23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）」に掲げ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5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年度の目標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達成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〇　本校に勤務する先生方の心身の状態を整え、働き方の質を向上させ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目指す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教職員一人一人がやりがいを感じるとともに、チームとして業務に取り組み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魅力ある職場となっ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日頃から話しやすい雰囲気で、互いにコミュニケーションが良くとれ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・　計画的な校務運営と業務の平準化により、合理的かつ効率的に仕事を進め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スタイルが確立してい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右矢印 1"/>
          <p:cNvSpPr/>
          <p:nvPr/>
        </p:nvSpPr>
        <p:spPr>
          <a:xfrm>
            <a:off x="6657840" y="2236680"/>
            <a:ext cx="676440" cy="1908360"/>
          </a:xfrm>
          <a:prstGeom prst="rightArrow">
            <a:avLst>
              <a:gd name="adj1" fmla="val 50000"/>
              <a:gd name="adj2" fmla="val 50000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0"/>
          <p:cNvSpPr/>
          <p:nvPr/>
        </p:nvSpPr>
        <p:spPr>
          <a:xfrm>
            <a:off x="9059760" y="4878360"/>
            <a:ext cx="3735360" cy="379440"/>
          </a:xfrm>
          <a:prstGeom prst="rect">
            <a:avLst/>
          </a:prstGeom>
          <a:solidFill>
            <a:srgbClr val="ccff99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6840" rIns="96840" tIns="108000" bIns="486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◯</a:t>
            </a:r>
            <a:r>
              <a:rPr b="0" lang="ja-JP" sz="1200" spc="-1" strike="noStrike">
                <a:solidFill>
                  <a:srgbClr val="000000"/>
                </a:solidFill>
                <a:latin typeface="HGP創英角ｺﾞｼｯｸUB"/>
                <a:ea typeface="HGP創英角ｺﾞｼｯｸUB"/>
              </a:rPr>
              <a:t>　学校及び教員が担う業務の明確化・適正化の推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0"/>
          <p:cNvSpPr/>
          <p:nvPr/>
        </p:nvSpPr>
        <p:spPr>
          <a:xfrm>
            <a:off x="5075280" y="5288040"/>
            <a:ext cx="396396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会議資料のペーパーレス化や説明事項の省略等に取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組み、会議時間の短縮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校務分掌の内容を常に見直し、業務の合理化と担当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務の適正化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指導を複数顧問で交代で行い、分掌業務の遂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や教材研究に要する時間を確保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勤務時間終了後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分以内に退庁する「早く帰る日」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各自が月に３回以上設定し、実行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70"/>
          <p:cNvSpPr/>
          <p:nvPr/>
        </p:nvSpPr>
        <p:spPr>
          <a:xfrm>
            <a:off x="9059760" y="5288040"/>
            <a:ext cx="3745080" cy="236376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部活動指導について、休養日を適切に設けること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メリハリのある活動体制を築き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働き方改革に向けた取組について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TA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総会等で保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護者への理解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今年度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周年記念事業については、同窓会や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係団体との業務分担の調整を図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正方形/長方形 11"/>
          <p:cNvSpPr/>
          <p:nvPr/>
        </p:nvSpPr>
        <p:spPr>
          <a:xfrm>
            <a:off x="1079640" y="8058240"/>
            <a:ext cx="11737800" cy="179712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（参考）　「岩手県教職員働き方改革プラン（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1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～</a:t>
            </a:r>
            <a:r>
              <a:rPr b="0" lang="en-US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2023</a:t>
            </a:r>
            <a:r>
              <a:rPr b="0" lang="ja-JP" sz="1600" spc="-1" strike="noStrike">
                <a:solidFill>
                  <a:srgbClr val="0000ff"/>
                </a:solidFill>
                <a:latin typeface="HGP創英角ｺﾞｼｯｸUB"/>
                <a:ea typeface="HGP創英角ｺﾞｼｯｸUB"/>
              </a:rPr>
              <a:t>）」（抜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策定趣旨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○　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働き方改革の実現により、岩手の未来を担う大切な子どもたちに、質の高い教育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持続的提供につなげ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【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プランの目標</a:t>
            </a:r>
            <a:r>
              <a:rPr b="1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目標１　県立学校の教員の時間外在校等時間の縮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1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が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100</a:t>
            </a:r>
            <a:r>
              <a:rPr b="0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時間以上の者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を</a:t>
            </a:r>
            <a:r>
              <a:rPr b="1" lang="ja-JP" sz="1200" spc="-1" strike="noStrike" u="sng">
                <a:solidFill>
                  <a:srgbClr val="000000"/>
                </a:solidFill>
                <a:uFillTx/>
                <a:latin typeface="ＭＳ ゴシック"/>
                <a:ea typeface="ＭＳ ゴシック"/>
              </a:rPr>
              <a:t>ゼロ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に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・令和３年度実績　　　　　　　　　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7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・令和４年度実績（第３四半期まで）　県立学校計　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21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明朝"/>
                <a:ea typeface="ＭＳ 明朝"/>
              </a:rPr>
              <a:t>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8353440" y="8510760"/>
          <a:ext cx="3095640" cy="680760"/>
        </p:xfrm>
        <a:graphic>
          <a:graphicData uri="http://schemas.openxmlformats.org/drawingml/2006/table">
            <a:tbl>
              <a:tblPr/>
              <a:tblGrid>
                <a:gridCol w="1066680"/>
                <a:gridCol w="2028960"/>
              </a:tblGrid>
              <a:tr h="1526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外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在校等時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取組期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ts val="1298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令和５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2023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）年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月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45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1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ゼ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2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68400"/>
                          <a:tab algn="l" pos="1936800"/>
                          <a:tab algn="l" pos="2905200"/>
                          <a:tab algn="l" pos="3873600"/>
                          <a:tab algn="l" pos="4842000"/>
                          <a:tab algn="l" pos="5810400"/>
                          <a:tab algn="l" pos="6778800"/>
                          <a:tab algn="l" pos="7746840"/>
                          <a:tab algn="l" pos="8715240"/>
                          <a:tab algn="l" pos="9683640"/>
                          <a:tab algn="l" pos="10652040"/>
                        </a:tabLst>
                      </a:pP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360</a:t>
                      </a:r>
                      <a:r>
                        <a:rPr b="0" lang="ja-JP" sz="1000" spc="-1" strike="noStrike">
                          <a:solidFill>
                            <a:srgbClr val="000000"/>
                          </a:solidFill>
                          <a:latin typeface="ＭＳ Ｐゴシック"/>
                          <a:ea typeface="Times New Roman"/>
                        </a:rPr>
                        <a:t>時間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" name="正方形/長方形 12"/>
          <p:cNvSpPr/>
          <p:nvPr/>
        </p:nvSpPr>
        <p:spPr>
          <a:xfrm>
            <a:off x="7153200" y="8085240"/>
            <a:ext cx="5614920" cy="349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(2)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時間外在校等時間（週休日の部活動指導従事時間を除く。）が月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45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　　　超、年</a:t>
            </a:r>
            <a:r>
              <a:rPr b="0" lang="en-US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360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時間超の者を下記のとおり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縮減</a:t>
            </a:r>
            <a:r>
              <a:rPr b="0" lang="ja-JP" sz="1200" spc="-1" strike="noStrike">
                <a:solidFill>
                  <a:srgbClr val="000000"/>
                </a:solidFill>
                <a:latin typeface="ＭＳ 明朝"/>
                <a:ea typeface="ＭＳ 明朝"/>
              </a:rPr>
              <a:t>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正方形/長方形 8"/>
          <p:cNvSpPr/>
          <p:nvPr/>
        </p:nvSpPr>
        <p:spPr>
          <a:xfrm>
            <a:off x="7089840" y="9194760"/>
            <a:ext cx="5678280" cy="631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ja-JP" sz="12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目標２　業務への充実感や、健康面での安心感の向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令和５年度において、アンケート調査に基づく肯定的実感が令和３年度の実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結果から向上することを目指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0"/>
          <p:cNvSpPr/>
          <p:nvPr/>
        </p:nvSpPr>
        <p:spPr>
          <a:xfrm>
            <a:off x="1050840" y="5288040"/>
            <a:ext cx="4024440" cy="2352600"/>
          </a:xfrm>
          <a:prstGeom prst="rect">
            <a:avLst/>
          </a:prstGeom>
          <a:solidFill>
            <a:srgbClr val="ffffcc"/>
          </a:solidFill>
          <a:ln w="9360">
            <a:solidFill>
              <a:srgbClr val="d1d1f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定時退庁や休暇取得の積極的な声掛け、長期休業中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計画的な休暇取得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心身をリフレッシュさせるための小まめな休暇取得を推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診断結果等のデータに基づいて面談や声掛けを行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い、心身に不安を抱える職員の早期把握と適切な支援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行います。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・　健康相談事業等、職員の状況に応じ、共済保健事業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活用を促進し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大かっこ 2"/>
          <p:cNvSpPr/>
          <p:nvPr/>
        </p:nvSpPr>
        <p:spPr>
          <a:xfrm>
            <a:off x="1584360" y="9442440"/>
            <a:ext cx="4103640" cy="3841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8T12:34:29Z</dcterms:created>
  <dc:creator>Toshi</dc:creator>
  <dc:description/>
  <dc:language>en-US</dc:language>
  <cp:lastModifiedBy>岩渕　雅明</cp:lastModifiedBy>
  <cp:lastPrinted>2023-04-25T08:13:52Z</cp:lastPrinted>
  <dcterms:modified xsi:type="dcterms:W3CDTF">2023-05-12T01:32:25Z</dcterms:modified>
  <cp:revision>967</cp:revision>
  <dc:subject/>
  <dc:title>スライド 1</dc:title>
</cp:coreProperties>
</file>