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8AC08-EEE8-4B75-9022-AAD7EEE0103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180D2-AFFD-4C24-93DD-6DBA19A72BB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2DED-DA77-4023-8426-0061BC101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FAF7-8028-410D-813D-DE1F8756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3E1F-629F-4AA9-82F9-62FC4383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8DED-2628-415A-981E-FB54D7E3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D744-5142-419D-B8E5-A4F4B34A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18FD-F15C-416B-8C1A-C4CD1A7AA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6BF-7241-4196-B257-D3A4AC854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F124-5388-4316-9700-6DD2B11C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39A-48F6-4914-B13E-714775C4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A42-7BFC-44A8-A127-E232DD8F3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BB92-6C56-48C8-8F7A-46BBCE9C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BB7-F068-4EAD-88D1-6088506B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BE79-4C60-43C4-89AC-F0874FAAF800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15236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一関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ff0000"/>
                </a:solidFill>
                <a:latin typeface="HGS創英角ｺﾞｼｯｸUB"/>
                <a:ea typeface="HGS創英角ｺﾞｼｯｸUB"/>
              </a:rPr>
              <a:t>～健康で活き活きとした集団（組織）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一関工業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週休日等の部活動指導従事時間を除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主任や一部の担当者に業務が集中しないよう意識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時間外勤務している教職員が固定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新たな業務が発生した際、スクラップアンドビルドの視点を持って業務見直し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の対応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〇月●日　●●学校長　●●●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本校に勤務する先生方の振替、代休取得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明るい気持ちで、やりがいを感じながら業務に取り組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同士が意見交換（情報交換）しやすい組織作りと時間確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チームとして業務に当たる体制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家庭で過ごす時間やプライベートな時間を持つことができ、心身と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に健康な日々を送ら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短縮化・効率化を図ります。資料の要約化や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明の短縮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効果に優先順位を付け、業務の削減や組織体制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knet’s NEO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及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36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活用し、業務の合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･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をはじめ、現場の職員からの業務改善に向け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要望や取組を積極的に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活動等における、学校と家庭の役割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保護者の理解と協力を得ながら分担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関係機関や学校運営協議会を含め、教員の負担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減に向けた業務の明確化･適正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健康診断の結果を把握し、受診が必要な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員に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互いに休暇取得や振替しやすい組織・環境作り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閉庁日（お盆・年末年始）の実施と連続した休暇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取得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最低週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はノー残業デーとし定時退庁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専門医への相談やメンタルヘルス研修への参加を促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及川　秀明</cp:lastModifiedBy>
  <cp:lastPrinted>2023-05-07T01:48:55Z</cp:lastPrinted>
  <dcterms:modified xsi:type="dcterms:W3CDTF">2023-05-07T01:51:35Z</dcterms:modified>
  <cp:revision>955</cp:revision>
  <dc:subject/>
  <dc:title>スライド 1</dc:title>
</cp:coreProperties>
</file>