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0A8C-533E-4837-AB6D-816DF0AA45BA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68E7E-8769-4C5C-8D1A-CE3CF0B96FB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850-64E3-4ADE-BE9D-CE830C402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37D-14A0-44F8-A466-1CAE2FD6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D660-3989-46F1-9326-F67285395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3CD-3585-42D9-B07B-A6ED50AD5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C4E7-7A66-4010-84FC-C29E5CB0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865C-BAAF-48EF-A8A6-A165F4D16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6579-1DFC-4545-8D2F-4615621F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6036-1F48-46C2-B40D-0653197A7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A23-6855-4C92-8FF3-460A1E9F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958F-630D-4D3B-BDDF-C9474F49D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88E8-35EE-4726-A3E3-1BEC331D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9CD3-3342-4AC2-8906-9E5BD4372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9FF29-A8A9-4E09-ADE1-50671E1281BF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185840" y="16200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雫石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一人ひとりがやりがいを感じる風通しの良い職場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45464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３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雫石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12960"/>
            <a:ext cx="550836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   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０人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  年次休暇の取得状況について（年間一人当たりの平均取得日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.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現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新規事業の採択及び事業継続に伴い、業務量が年々増加傾向に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学級減に伴う定数減により、個々が担当する分掌業務が多岐にわた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町を含めた外部との連携による事業のため、業務が複雑化・多様化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特定の職員に業務が偏重しないよう効率化が求めら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管理職の現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随時業務の効率化を図るための見直し等の対応に追わ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 ・退勤時刻を意識した働き方を推進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745480" y="7697880"/>
            <a:ext cx="4952880" cy="3333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４月２７日　雫石高等学校長　佐々木佳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する（時間外在校時間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ゼロ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業務の効率化により、教職員の仕事に対するやりがい、熱量を向上さ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計画的に年次休暇を取得し、十分な休養が図られ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ひとりが、専門性を磨き、生き生きと業務に従事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相互が気兼ねなく相談することにより、お互いリスペクトできる明るい職場づく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別支援員やカウンセラーとの協働のもと、きめ細かな生活支援がなされて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余裕をもって生徒と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40035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分掌等、業務の適正化を図り、チームとしての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くり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機器を有効活用することにより、業務の効率化を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遂行においてはスクラップアンドビルドを積極的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進め、業務精選に努めま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簡素化や各校務分掌内の業務の見直しに取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との連携による業務について、役割分担を明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確にし、業務内容の適正化を図るよう関係団体と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協議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種行事については、地域の理解・協力を得て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応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参加の地域行事等について、学校の実情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踏まえて精選等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日の部活動については、部活動指導員の協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得ながら適切に活動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暇・振替休日等の取得を促進してい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を客観的に把握し、時間外在校縮減に向け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対策等を講じ、勤務時間の適正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長時間勤務等により、疲労の蓄積やストレ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感じている教職員への面談を通して心と体の健康状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態の把握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が生き生きと業務に専念できる風通しの良い職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づくり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佐々木　文彦</cp:lastModifiedBy>
  <cp:lastPrinted>2023-04-27T03:34:03Z</cp:lastPrinted>
  <dcterms:modified xsi:type="dcterms:W3CDTF">2023-04-27T06:56:55Z</dcterms:modified>
  <cp:revision>970</cp:revision>
  <dc:subject/>
  <dc:title>スライド 1</dc:title>
</cp:coreProperties>
</file>