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5CA52-CCFA-4BA3-A57A-46E3BE7F003C}"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C3439-06B1-4887-BD5B-39F8E1014609}"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69" name="PlaceHolder 1"/>
          <p:cNvSpPr>
            <a:spLocks noGrp="1"/>
          </p:cNvSpPr>
          <p:nvPr>
            <p:ph type="sldImg"/>
          </p:nvPr>
        </p:nvSpPr>
        <p:spPr>
          <a:xfrm>
            <a:off x="873000" y="744480"/>
            <a:ext cx="5051520" cy="3721320"/>
          </a:xfrm>
          <a:prstGeom prst="rect">
            <a:avLst/>
          </a:prstGeom>
          <a:ln w="0">
            <a:noFill/>
          </a:ln>
        </p:spPr>
      </p:sp>
      <p:sp>
        <p:nvSpPr>
          <p:cNvPr id="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E2BBF-DF33-4B36-8347-962A79584F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A06C7-F838-4625-8921-F61CAD113A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4CD88-F4F4-4F71-987B-ED7D820E9A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BAC9FE-70B2-4839-99E0-A1B09A973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2A9E1-8A44-4373-8AB0-EB37ECFAB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71329B-4A3E-46DF-ACD6-D058616A0E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80A96-DAAD-4855-B53B-928A5B017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76C4D-476F-4B95-91FF-24433832C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8C377A-684A-42E0-BA37-D590E78BD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767E0-AECB-459E-A25C-E0CCE5719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FFCB5D-55DD-4822-9CFE-4CC7AE6CD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3F701-523F-48C9-964D-CB38BE5E3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38B7-0769-4FED-8A3F-9ADEE562EA1B}"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9"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0" name="テキスト ボックス 2"/>
          <p:cNvSpPr/>
          <p:nvPr/>
        </p:nvSpPr>
        <p:spPr>
          <a:xfrm>
            <a:off x="905040" y="1101600"/>
            <a:ext cx="12272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花巻農業高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1"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をゼロ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特定の職員が、部活動等の繁忙期に時間外勤務月</a:t>
            </a:r>
            <a:r>
              <a:rPr b="0" lang="en-US" sz="1200" spc="-1" strike="noStrike">
                <a:solidFill>
                  <a:srgbClr val="000000"/>
                </a:solidFill>
                <a:latin typeface="Arial"/>
              </a:rPr>
              <a:t>80</a:t>
            </a:r>
            <a:r>
              <a:rPr b="0" lang="ja-JP" sz="1200" spc="-1" strike="noStrike">
                <a:solidFill>
                  <a:srgbClr val="000000"/>
                </a:solidFill>
                <a:latin typeface="Arial"/>
              </a:rPr>
              <a:t>時間以上とな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当校で推進する</a:t>
            </a:r>
            <a:r>
              <a:rPr b="0" lang="en-US" sz="1200" spc="-1" strike="noStrike">
                <a:solidFill>
                  <a:srgbClr val="000000"/>
                </a:solidFill>
                <a:latin typeface="Arial"/>
              </a:rPr>
              <a:t>ICT</a:t>
            </a:r>
            <a:r>
              <a:rPr b="0" lang="ja-JP" sz="1200" spc="-1" strike="noStrike">
                <a:solidFill>
                  <a:srgbClr val="000000"/>
                </a:solidFill>
                <a:latin typeface="Arial"/>
              </a:rPr>
              <a:t>機器の効率的な活用が全教職員に徹底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校舎施錠時刻（</a:t>
            </a:r>
            <a:r>
              <a:rPr b="0" lang="en-US" sz="1200" spc="-1" strike="noStrike">
                <a:solidFill>
                  <a:srgbClr val="000000"/>
                </a:solidFill>
                <a:latin typeface="Arial"/>
              </a:rPr>
              <a:t>19</a:t>
            </a:r>
            <a:r>
              <a:rPr b="0" lang="ja-JP" sz="1200" spc="-1" strike="noStrike">
                <a:solidFill>
                  <a:srgbClr val="000000"/>
                </a:solidFill>
                <a:latin typeface="Arial"/>
              </a:rPr>
              <a:t>時）までに退勤するという意識は浸透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新たな業務が発生した際、スクラップアンドビルドの視点を持って業務見直し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3"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4"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5"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達成します。（月</a:t>
            </a:r>
            <a:r>
              <a:rPr b="0" lang="en-US" sz="1200" spc="-1" strike="noStrike">
                <a:solidFill>
                  <a:srgbClr val="000000"/>
                </a:solidFill>
                <a:latin typeface="Arial"/>
              </a:rPr>
              <a:t>100</a:t>
            </a:r>
            <a:r>
              <a:rPr b="0" lang="ja-JP" sz="1200" spc="-1" strike="noStrike">
                <a:solidFill>
                  <a:srgbClr val="000000"/>
                </a:solidFill>
                <a:latin typeface="Arial"/>
              </a:rPr>
              <a:t>時間超の職員０の継続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花農に勤務してよかった」→肯定的評価</a:t>
            </a:r>
            <a:r>
              <a:rPr b="0" lang="en-US" sz="1200" spc="-1" strike="noStrike">
                <a:solidFill>
                  <a:srgbClr val="000000"/>
                </a:solidFill>
                <a:latin typeface="Arial"/>
              </a:rPr>
              <a:t>100</a:t>
            </a:r>
            <a:r>
              <a:rPr b="0" lang="ja-JP" sz="1200" spc="-1" strike="noStrike">
                <a:solidFill>
                  <a:srgbClr val="000000"/>
                </a:solidFill>
                <a:latin typeface="Arial"/>
              </a:rPr>
              <a:t>％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子どもたちへの質の高い教育を持続的に提供し得る観点から働き方の見直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が図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改善について、教員から積極的に提案がな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対し業務や健康面において支援や助言を行っ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自己研鑽の時間を十分に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いきいきとやりがいをもって、子どもたちに向き合う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6"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7"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58"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次休暇を取得しやすい環境づくりに向け、定期考査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間の研修会や会議の実施に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適切なＩＣＴ活用について積極的に提案し、業</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務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校務事務について管理職が必要に応じて助言や支援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行い、教職員の負担軽減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間で意見を出しながら業務の効率化に取り組み、</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の負担軽減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校務分掌の割当について、業務量の適正化を図る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う関係主任との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においては、一人の教職員に過度の負担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掛からないよう、顧問間で交代で休める環境づくりに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の状況により休める場合には、１時間単位で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次休暇の取得を励行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本校の「学校の部活動に係る活動方針」に基いた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活動を展開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正方形/長方形 11"/>
          <p:cNvSpPr/>
          <p:nvPr/>
        </p:nvSpPr>
        <p:spPr>
          <a:xfrm>
            <a:off x="1127160" y="8016840"/>
            <a:ext cx="1168884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1" name=""/>
          <p:cNvGraphicFramePr/>
          <p:nvPr/>
        </p:nvGraphicFramePr>
        <p:xfrm>
          <a:off x="8339040" y="8474040"/>
          <a:ext cx="3095640" cy="681120"/>
        </p:xfrm>
        <a:graphic>
          <a:graphicData uri="http://schemas.openxmlformats.org/drawingml/2006/table">
            <a:tbl>
              <a:tblPr/>
              <a:tblGrid>
                <a:gridCol w="1068480"/>
                <a:gridCol w="20271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2" name="正方形/長方形 12"/>
          <p:cNvSpPr/>
          <p:nvPr/>
        </p:nvSpPr>
        <p:spPr>
          <a:xfrm>
            <a:off x="7080120" y="8053560"/>
            <a:ext cx="561528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3" name="正方形/長方形 8"/>
          <p:cNvSpPr/>
          <p:nvPr/>
        </p:nvSpPr>
        <p:spPr>
          <a:xfrm>
            <a:off x="7116840" y="9155160"/>
            <a:ext cx="5678280" cy="62388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4"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プランの在校時間の縮減の取組を確実に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施し、教職員の健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休暇取得について積極的に</a:t>
            </a:r>
            <a:r>
              <a:rPr b="0" lang="ja-JP" sz="1200" spc="-1" strike="noStrike" u="sng">
                <a:solidFill>
                  <a:srgbClr val="000000"/>
                </a:solidFill>
                <a:uFillTx/>
                <a:latin typeface="Arial"/>
              </a:rPr>
              <a:t>声掛け</a:t>
            </a:r>
            <a:r>
              <a:rPr b="0" lang="ja-JP" sz="1200" spc="-1" strike="noStrike">
                <a:solidFill>
                  <a:srgbClr val="000000"/>
                </a:solidFill>
                <a:latin typeface="Arial"/>
              </a:rPr>
              <a:t>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長時間勤務者に対しては管理職による面談を実施し、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員の心と体の健康状態の把握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少しでも健康状態に変化が認められた場合は、体調を優</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先し、医療機関を受診するよう指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6" name="Text Box 23"/>
          <p:cNvSpPr/>
          <p:nvPr/>
        </p:nvSpPr>
        <p:spPr>
          <a:xfrm>
            <a:off x="1036800" y="244440"/>
            <a:ext cx="1144872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花巻農業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生徒の幸福は教職員全体の幸福から</a:t>
            </a:r>
            <a:r>
              <a:rPr b="0" lang="en-US" sz="2000" spc="-1" strike="noStrike">
                <a:solidFill>
                  <a:srgbClr val="7f7f7f"/>
                </a:solidFill>
                <a:latin typeface="HGS創英角ｺﾞｼｯｸUB"/>
                <a:ea typeface="HGS創英角ｺﾞｼｯｸUB"/>
              </a:rPr>
              <a:t>Ⅲ</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67" name="正方形/長方形 2"/>
          <p:cNvSpPr/>
          <p:nvPr/>
        </p:nvSpPr>
        <p:spPr>
          <a:xfrm>
            <a:off x="8462880" y="7650000"/>
            <a:ext cx="4953240" cy="3240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３１日　花巻農業高等学校長　小船光浩</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葉　章浩</cp:lastModifiedBy>
  <cp:lastPrinted>2023-05-18T00:33:46Z</cp:lastPrinted>
  <dcterms:modified xsi:type="dcterms:W3CDTF">2023-05-19T01:44:06Z</dcterms:modified>
  <cp:revision>960</cp:revision>
  <dc:subject/>
  <dc:title>スライド 1</dc:title>
</cp:coreProperties>
</file>