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FE6B0-03A8-4DD5-A482-04432F7C907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5414-E70E-46C5-8D9C-BB19B3105CE7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1F73-698C-451D-8378-4A3565101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23A0-88C3-4295-A02F-49DA84AC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9BC1-3A8F-4054-83BD-3E46A3D9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4066-7F40-450A-A374-A6DD4B7C2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4BC4-22E7-4F4E-9264-E979AE11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5F4-BB7F-47D2-A8F2-F841A5DE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669-7F1E-4B1F-9135-E80AB654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B338-A05F-4C61-ADFD-7DC880102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440DD-1181-440F-8BAF-C5B8BE76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D74B-7154-45EB-8372-3DFAECD1D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ACD2-DD0B-44EF-8BCA-D40989939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ECD5-E24E-4E7F-8578-97AFDDFE0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57A58-0EF5-482B-87B2-A4E154AB84B5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気仙光陵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「明るく　楽しく　元気よく」を実践する気仙光陵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6360" y="611964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2199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気仙光陵支援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目標達成状況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者をゼロにする。」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９人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者をゼロにする。」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８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教職員の状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　よりよい授業づくりへの努力を惜しまないが、他業務のために時間が限られ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しま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　時期により、業務が集中し、多忙となる教職員が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管理職の対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　時間外在校等時間が多い者を中心に、業務量の把握を行っているが、具体的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な業務削減までの提案に至ってい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化による業務の軽減について検討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9063000" y="7707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９日　学校長　石川　則子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達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成を目指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働き方改革の取組に対する教職員の肯定的評価９割を目指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児童生徒、授業に向き合う時間が確保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児童生徒の充実した学びが実現し、保護者も教育活動に満足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健康で生き生きとした生活を送って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育の充実のために、教職員一人一人が業務改善を意識し、できるところから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改善を図ってい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の内容を吟味し、開催が必要であるかの検討及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回数削減などの精選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衛生委員会において、教職員の勤務状況を振り返る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会をもち、学校全体の業務状況の見直しを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デスクネッツ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ファイル等の活用による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業務軽減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閉庁時の児童生徒の対応について、保護者、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係機関と連携、協力体制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36800" y="8042400"/>
            <a:ext cx="11737800" cy="179676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093080" y="8085240"/>
            <a:ext cx="561492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全員で月に一度のノー残業デーを確実に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（各職員室ごと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は、時間外在校等時間が４５時間を超える教職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声掛けをするとともに、業務量の把握をし、業務の平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化を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の心身の健康状況を把握の上、必要に応じて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療機関、相談機関につなげ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石川　則子</cp:lastModifiedBy>
  <cp:lastPrinted>2023-05-08T09:12:53Z</cp:lastPrinted>
  <dcterms:modified xsi:type="dcterms:W3CDTF">2023-05-14T02:52:23Z</dcterms:modified>
  <cp:revision>971</cp:revision>
  <dc:subject/>
  <dc:title>スライド 1</dc:title>
</cp:coreProperties>
</file>