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4120"/>
            <a:ext cx="505152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015E-6E8D-4EF9-B2F9-0E343539FC6B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9F34-198D-45F8-931F-7802C075F339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873000" y="744480"/>
            <a:ext cx="5051520" cy="372132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53DF-FFF5-4794-ABD9-08CAFC821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714E-D1B7-4FD6-95AA-E20179D11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D6F2-15E3-45EE-8D22-B25614225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FDC7-E196-41E8-A2FC-8E91304D9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0269-0C02-4B0D-93D5-484C5B8A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C2F0-CA58-4487-B60D-0AEF18083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14CF-A6C4-4CB3-A8CF-BD98F15E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7925-070B-4E28-85CF-CAFD1F09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D0ED-3F49-4EBA-AB1D-2DDC0E83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F857-47A5-4729-B020-F9DD7DDD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3C62-516A-4AA2-9C53-E6F98968C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4EB9-5F39-40CC-93E2-5E99618E6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FB2E-EC1D-4F9C-92B9-FAAE2D740B59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1200" rIns="152280" tIns="14400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５年度　紫波総合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「質の高い教育の持続的提供のために」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2"/>
          <p:cNvSpPr/>
          <p:nvPr/>
        </p:nvSpPr>
        <p:spPr>
          <a:xfrm>
            <a:off x="905040" y="1101600"/>
            <a:ext cx="11912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ＭＳ Ｐゴシック"/>
              </a:rPr>
              <a:t>紫波総合高校では、「岩手県教職員働き方改革プラン（</a:t>
            </a: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2021</a:t>
            </a:r>
            <a:r>
              <a:rPr b="0" lang="ja-JP" sz="1500" spc="-1" strike="noStrike">
                <a:solidFill>
                  <a:srgbClr val="000000"/>
                </a:solidFill>
                <a:latin typeface="ＭＳ Ｐゴシック"/>
              </a:rPr>
              <a:t>～</a:t>
            </a:r>
            <a:r>
              <a:rPr b="0" lang="en-US" sz="1500" spc="-1" strike="noStrike">
                <a:solidFill>
                  <a:srgbClr val="000000"/>
                </a:solidFill>
                <a:latin typeface="ＭＳ Ｐゴシック"/>
              </a:rPr>
              <a:t>2023</a:t>
            </a:r>
            <a:r>
              <a:rPr b="0" lang="ja-JP" sz="1500" spc="-1" strike="noStrike">
                <a:solidFill>
                  <a:srgbClr val="000000"/>
                </a:solidFill>
                <a:latin typeface="ＭＳ Ｐゴシック"/>
              </a:rPr>
              <a:t>）」に基づき、以下の取組により、「学校における働き方改革」を推進します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グループ化 5"/>
          <p:cNvGrpSpPr/>
          <p:nvPr/>
        </p:nvGrpSpPr>
        <p:grpSpPr>
          <a:xfrm>
            <a:off x="1079640" y="1457280"/>
            <a:ext cx="5545080" cy="2901960"/>
            <a:chOff x="1079640" y="1457280"/>
            <a:chExt cx="5545080" cy="2901960"/>
          </a:xfrm>
        </p:grpSpPr>
        <p:sp>
          <p:nvSpPr>
            <p:cNvPr id="52" name="Rectangle 70"/>
            <p:cNvSpPr/>
            <p:nvPr/>
          </p:nvSpPr>
          <p:spPr>
            <a:xfrm>
              <a:off x="1079640" y="1457280"/>
              <a:ext cx="5545080" cy="39996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d1d1f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6840" rIns="96840" tIns="48600" bIns="48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HGS創英角ｺﾞｼｯｸUB"/>
                  <a:ea typeface="HGS創英角ｺﾞｼｯｸUB"/>
                </a:rPr>
                <a:t>１　現　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70"/>
            <p:cNvSpPr/>
            <p:nvPr/>
          </p:nvSpPr>
          <p:spPr>
            <a:xfrm>
              <a:off x="1079640" y="1871640"/>
              <a:ext cx="5545080" cy="24876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d1d1f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6840" rIns="96840" tIns="48600" bIns="48600" anchor="t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・　時間外在校等時間（週休日の部活動指導従事時間を除く。）が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月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ゴシック"/>
                </a:rPr>
                <a:t>45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時間超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　者の割合（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R2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年度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11.9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％、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R3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年度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12.4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％、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R4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年度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6.8%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：３人 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・　時間外在校等時間（週休日の部活動指導従事時間を除く。）が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年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ゴシック"/>
                </a:rPr>
                <a:t>360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</a:rPr>
                <a:t>時間超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　者の割合（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R2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年度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34.7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％、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R3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年度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0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％ 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300h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超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6.3%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 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、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R4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年度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4.5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％：２人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・　健康管理区分がＣ１以下の者（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R3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年度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50.0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％、Ｒ４年度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50.0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％ 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正方形/長方形 2"/>
          <p:cNvSpPr/>
          <p:nvPr/>
        </p:nvSpPr>
        <p:spPr>
          <a:xfrm>
            <a:off x="7888320" y="7426440"/>
            <a:ext cx="4913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ＭＳ Ｐゴシック"/>
              </a:rPr>
              <a:t>令和５年５月１日　紫波総合高等学校長　松田　隆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グループ化 4"/>
          <p:cNvGrpSpPr/>
          <p:nvPr/>
        </p:nvGrpSpPr>
        <p:grpSpPr>
          <a:xfrm>
            <a:off x="7215120" y="1432080"/>
            <a:ext cx="5616720" cy="2927160"/>
            <a:chOff x="7215120" y="1432080"/>
            <a:chExt cx="5616720" cy="2927160"/>
          </a:xfrm>
        </p:grpSpPr>
        <p:sp>
          <p:nvSpPr>
            <p:cNvPr id="56" name="Rectangle 70"/>
            <p:cNvSpPr/>
            <p:nvPr/>
          </p:nvSpPr>
          <p:spPr>
            <a:xfrm>
              <a:off x="7215120" y="1432080"/>
              <a:ext cx="5616720" cy="363240"/>
            </a:xfrm>
            <a:prstGeom prst="rect">
              <a:avLst/>
            </a:prstGeom>
            <a:solidFill>
              <a:srgbClr val="92d050"/>
            </a:solidFill>
            <a:ln w="9360">
              <a:solidFill>
                <a:srgbClr val="d1d1f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6840" rIns="96840" tIns="48600" bIns="48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HGS創英角ｺﾞｼｯｸUB"/>
                  <a:ea typeface="HGS創英角ｺﾞｼｯｸUB"/>
                </a:rPr>
                <a:t>２　目標・目指す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70"/>
            <p:cNvSpPr/>
            <p:nvPr/>
          </p:nvSpPr>
          <p:spPr>
            <a:xfrm>
              <a:off x="7215120" y="1795320"/>
              <a:ext cx="5616720" cy="2563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d1d1f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6840" rIns="96840" tIns="48600" bIns="48600" anchor="t">
              <a:no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〈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Ｒ５年度目標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・　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時間外在校等時間が月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100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時間以上の者をゼロにする。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・　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時間外在校等時間（週休日の部活動指導従事時間を除く。）が月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45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時間超、年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　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360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時間超の者ゼロを目指す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・　教職員へのアンケート調査で「肯定的実感」が前年度より向上することを目指す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〈</a:t>
              </a: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目指す姿</a:t>
              </a:r>
              <a:r>
                <a:rPr b="0" lang="en-US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〉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・　教職員一人一人が、ワークライフバランス（仕事と家庭生活の調和）の実践を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　意識し、教育活動に取り組んでいる。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・　生徒指導や教科指導などの在り方について、計画的かつ効率的に仕事が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　められるよう、日頃から教職員間で共有している。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・　主体的・対話的で深い学びの実現を目指し、教材研究を深める時間が教職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　に十分に確保されている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グループ化 3"/>
          <p:cNvGrpSpPr/>
          <p:nvPr/>
        </p:nvGrpSpPr>
        <p:grpSpPr>
          <a:xfrm>
            <a:off x="1062000" y="4464000"/>
            <a:ext cx="11733120" cy="2857680"/>
            <a:chOff x="1062000" y="4464000"/>
            <a:chExt cx="11733120" cy="2857680"/>
          </a:xfrm>
        </p:grpSpPr>
        <p:sp>
          <p:nvSpPr>
            <p:cNvPr id="60" name="Rectangle 70"/>
            <p:cNvSpPr/>
            <p:nvPr/>
          </p:nvSpPr>
          <p:spPr>
            <a:xfrm>
              <a:off x="1062000" y="4464000"/>
              <a:ext cx="11728440" cy="447480"/>
            </a:xfrm>
            <a:prstGeom prst="rect">
              <a:avLst/>
            </a:prstGeom>
            <a:solidFill>
              <a:srgbClr val="00b050"/>
            </a:solidFill>
            <a:ln w="9360">
              <a:solidFill>
                <a:srgbClr val="d1d1f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48600" bIns="48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ffffff"/>
                  </a:solidFill>
                  <a:latin typeface="HGS創英角ｺﾞｼｯｸUB"/>
                  <a:ea typeface="HGS創英角ｺﾞｼｯｸUB"/>
                </a:rPr>
                <a:t>３　取組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70"/>
            <p:cNvSpPr/>
            <p:nvPr/>
          </p:nvSpPr>
          <p:spPr>
            <a:xfrm>
              <a:off x="1062000" y="4897440"/>
              <a:ext cx="4024080" cy="45720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d1d1f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108000" bIns="48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◯</a:t>
              </a:r>
              <a:r>
                <a:rPr b="0" lang="ja-JP" sz="14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　教職員の健康管理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70"/>
            <p:cNvSpPr/>
            <p:nvPr/>
          </p:nvSpPr>
          <p:spPr>
            <a:xfrm>
              <a:off x="5091120" y="4897440"/>
              <a:ext cx="3997080" cy="45720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d1d1f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108000" bIns="48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◯</a:t>
              </a:r>
              <a:r>
                <a:rPr b="0" lang="ja-JP" sz="14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　学校における業務改善の推進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70"/>
            <p:cNvSpPr/>
            <p:nvPr/>
          </p:nvSpPr>
          <p:spPr>
            <a:xfrm>
              <a:off x="9055080" y="4897440"/>
              <a:ext cx="3735360" cy="447480"/>
            </a:xfrm>
            <a:prstGeom prst="rect">
              <a:avLst/>
            </a:prstGeom>
            <a:solidFill>
              <a:srgbClr val="ffc000"/>
            </a:solidFill>
            <a:ln w="9360">
              <a:solidFill>
                <a:srgbClr val="d1d1f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6840" rIns="96840" tIns="108000" bIns="48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◯</a:t>
              </a:r>
              <a:r>
                <a:rPr b="0" lang="ja-JP" sz="1200" spc="-1" strike="noStrike">
                  <a:solidFill>
                    <a:srgbClr val="000000"/>
                  </a:solidFill>
                  <a:latin typeface="HGP創英角ｺﾞｼｯｸUB"/>
                  <a:ea typeface="HGP創英角ｺﾞｼｯｸUB"/>
                </a:rPr>
                <a:t>　学校及び教員が担う業務の明確化・適正化の推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70"/>
            <p:cNvSpPr/>
            <p:nvPr/>
          </p:nvSpPr>
          <p:spPr>
            <a:xfrm>
              <a:off x="1062000" y="5322960"/>
              <a:ext cx="4024080" cy="1998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d1d1f0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6840" rIns="96840" tIns="48600" bIns="486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・　働き方改革プランの「心とからだの健康対策の取組」に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る保健指導制度等の周知徹底を図ります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・　管理職が、計画的な休暇取得等について促します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・　生活習慣病予防を踏まえ、食事、運動等に関する話題提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供、早期発見・早期治療を念頭に健康診断等の積極的な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明朝"/>
                  <a:ea typeface="ＭＳ Ｐ明朝"/>
                </a:rPr>
                <a:t>　受診を勧めます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グループ化 2"/>
            <p:cNvGrpSpPr/>
            <p:nvPr/>
          </p:nvGrpSpPr>
          <p:grpSpPr>
            <a:xfrm>
              <a:off x="5091120" y="5322960"/>
              <a:ext cx="7704000" cy="1998720"/>
              <a:chOff x="5091120" y="5322960"/>
              <a:chExt cx="7704000" cy="1998720"/>
            </a:xfrm>
          </p:grpSpPr>
          <p:sp>
            <p:nvSpPr>
              <p:cNvPr id="66" name="Rectangle 70"/>
              <p:cNvSpPr/>
              <p:nvPr/>
            </p:nvSpPr>
            <p:spPr>
              <a:xfrm>
                <a:off x="5091120" y="5322960"/>
                <a:ext cx="3963960" cy="1998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d1d1f0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6840" rIns="96840" tIns="48600" bIns="48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200" spc="-1" strike="noStrike">
                    <a:solidFill>
                      <a:srgbClr val="000000"/>
                    </a:solidFill>
                    <a:latin typeface="ＭＳ Ｐ明朝"/>
                    <a:ea typeface="ＭＳ Ｐ明朝"/>
                  </a:rPr>
                  <a:t>・　時間外勤務の縮減に向け、前例踏襲にとらわれることな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200" spc="-1" strike="noStrike">
                    <a:solidFill>
                      <a:srgbClr val="000000"/>
                    </a:solidFill>
                    <a:latin typeface="ＭＳ Ｐ明朝"/>
                    <a:ea typeface="ＭＳ Ｐ明朝"/>
                  </a:rPr>
                  <a:t>　く、各種見直しや分掌の統廃合などについて検討します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200" spc="-1" strike="noStrike">
                    <a:solidFill>
                      <a:srgbClr val="000000"/>
                    </a:solidFill>
                    <a:latin typeface="ＭＳ Ｐ明朝"/>
                    <a:ea typeface="ＭＳ Ｐ明朝"/>
                  </a:rPr>
                  <a:t>・　労働安全推進モデル校の取組例を参考に、できること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200" spc="-1" strike="noStrike">
                    <a:solidFill>
                      <a:srgbClr val="000000"/>
                    </a:solidFill>
                    <a:latin typeface="ＭＳ Ｐ明朝"/>
                    <a:ea typeface="ＭＳ Ｐ明朝"/>
                  </a:rPr>
                  <a:t>　ら業務の効率化を進め、ＰＤＣＡを徹底します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Rectangle 70"/>
              <p:cNvSpPr/>
              <p:nvPr/>
            </p:nvSpPr>
            <p:spPr>
              <a:xfrm>
                <a:off x="9050400" y="5322960"/>
                <a:ext cx="3744720" cy="1998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d1d1f0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6840" rIns="96840" tIns="48600" bIns="48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200" spc="-1" strike="noStrike">
                    <a:solidFill>
                      <a:srgbClr val="000000"/>
                    </a:solidFill>
                    <a:latin typeface="ＭＳ Ｐ明朝"/>
                    <a:ea typeface="ＭＳ Ｐ明朝"/>
                  </a:rPr>
                  <a:t>・　部活動指導員の任用・配置を検討します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200" spc="-1" strike="noStrike">
                    <a:solidFill>
                      <a:srgbClr val="000000"/>
                    </a:solidFill>
                    <a:latin typeface="ＭＳ Ｐ明朝"/>
                    <a:ea typeface="ＭＳ Ｐ明朝"/>
                  </a:rPr>
                  <a:t>・　学校閉庁日を設定します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200" spc="-1" strike="noStrike">
                    <a:solidFill>
                      <a:srgbClr val="000000"/>
                    </a:solidFill>
                    <a:latin typeface="ＭＳ Ｐ明朝"/>
                    <a:ea typeface="ＭＳ Ｐ明朝"/>
                  </a:rPr>
                  <a:t>・　留守番電話等による時間外対応を推進します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200" spc="-1" strike="noStrike">
                    <a:solidFill>
                      <a:srgbClr val="000000"/>
                    </a:solidFill>
                    <a:latin typeface="ＭＳ Ｐ明朝"/>
                    <a:ea typeface="ＭＳ Ｐ明朝"/>
                  </a:rPr>
                  <a:t>　　（保護者への周知・理解促進）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>
                <a:off x="5128920" y="6440760"/>
                <a:ext cx="7661160" cy="880920"/>
              </a:xfrm>
              <a:prstGeom prst="rect">
                <a:avLst/>
              </a:prstGeom>
              <a:solidFill>
                <a:srgbClr val="ffc000"/>
              </a:solidFill>
              <a:ln w="9360">
                <a:solidFill>
                  <a:srgbClr val="d1d1f0"/>
                </a:solidFill>
                <a:miter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6840" rIns="96840" tIns="108000" bIns="48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2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Ｒ５取組　①月曜日はノー残業デー（か・えるの日）とする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2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　　　 　 ②会議の所要時間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(</a:t>
                </a:r>
                <a:r>
                  <a:rPr b="0" lang="ja-JP" sz="12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終了目標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)</a:t>
                </a:r>
                <a:r>
                  <a:rPr b="0" lang="ja-JP" sz="12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を設定する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2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　　　　  ③月途中で時間外勤務時間を知らせる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12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　　　　　④電話は、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17</a:t>
                </a:r>
                <a:r>
                  <a:rPr b="0" lang="ja-JP" sz="1200" spc="-1" strike="noStrike">
                    <a:solidFill>
                      <a:srgbClr val="000000"/>
                    </a:solidFill>
                    <a:latin typeface="ＭＳ ゴシック"/>
                    <a:ea typeface="ＭＳ ゴシック"/>
                  </a:rPr>
                  <a:t>時半以降「勤務時間外の留守応答」とする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" name="正方形/長方形 11"/>
          <p:cNvSpPr/>
          <p:nvPr/>
        </p:nvSpPr>
        <p:spPr>
          <a:xfrm>
            <a:off x="1109520" y="7819920"/>
            <a:ext cx="11738160" cy="19004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・令和３年度実績　　　　　　　　　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7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・令和４年度実績（第３四半期まで）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2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正方形/長方形 12"/>
          <p:cNvSpPr/>
          <p:nvPr/>
        </p:nvSpPr>
        <p:spPr>
          <a:xfrm>
            <a:off x="7091280" y="7896240"/>
            <a:ext cx="5613480" cy="349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8491680" y="8308800"/>
          <a:ext cx="3095640" cy="679680"/>
        </p:xfrm>
        <a:graphic>
          <a:graphicData uri="http://schemas.openxmlformats.org/drawingml/2006/table">
            <a:tbl>
              <a:tblPr/>
              <a:tblGrid>
                <a:gridCol w="1066680"/>
                <a:gridCol w="20289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2" name="正方形/長方形 8"/>
          <p:cNvSpPr/>
          <p:nvPr/>
        </p:nvSpPr>
        <p:spPr>
          <a:xfrm>
            <a:off x="7032600" y="9039240"/>
            <a:ext cx="567864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松田　隆宏</cp:lastModifiedBy>
  <cp:lastPrinted>2023-04-28T03:28:26Z</cp:lastPrinted>
  <dcterms:modified xsi:type="dcterms:W3CDTF">2023-05-01T01:11:39Z</dcterms:modified>
  <cp:revision>973</cp:revision>
  <dc:subject/>
  <dc:title>スライド 1</dc:title>
</cp:coreProperties>
</file>