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7FBF2-BD58-429B-B1A6-E24755624562}"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4ECB-79E6-4921-B4AC-8BD6F68E1B12}"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58960" y="739800"/>
            <a:ext cx="5018040" cy="3699000"/>
          </a:xfrm>
          <a:prstGeom prst="rect">
            <a:avLst/>
          </a:prstGeom>
          <a:ln w="0">
            <a:noFill/>
          </a:ln>
        </p:spPr>
      </p:sp>
      <p:sp>
        <p:nvSpPr>
          <p:cNvPr id="73"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B6DA61-7CC3-46DF-8D48-537F509327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6C32FA-6F24-455E-BD0E-CFAAD5A85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6A040F-BB7E-47A2-A33B-29D7D17B5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A4087A-DF7B-48C4-9C6D-5B05483463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D2DED-F0D1-4F98-B679-C9C794F68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FFBB2C-5745-4BE5-B3B4-F0A0C65CA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CC401F-3F33-45D6-85D5-86BF3189A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181FF-482A-4060-B76E-6E8FFF5CF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5B66C-1903-4852-A374-8465B3EA9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D4C07-68BE-4A24-96A7-464B388DF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32087E-E53E-4724-8FEF-A6047BAB5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7C14D-0E17-4A17-A68B-A1CDD41DB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D29CF-AC09-457C-BFAB-C5669DFE03C6}"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一関清明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明るく働きやすい職場づくりを推進～</a:t>
            </a:r>
            <a:endParaRPr b="0" lang="en-US" sz="2000" spc="-1" strike="noStrike">
              <a:solidFill>
                <a:srgbClr val="000000"/>
              </a:solidFill>
              <a:latin typeface="Arial"/>
            </a:endParaRPr>
          </a:p>
        </p:txBody>
      </p:sp>
      <p:sp>
        <p:nvSpPr>
          <p:cNvPr id="50"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1" name="Rectangle 70"/>
          <p:cNvSpPr/>
          <p:nvPr/>
        </p:nvSpPr>
        <p:spPr>
          <a:xfrm>
            <a:off x="1090440" y="6665760"/>
            <a:ext cx="711864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時間超の時間外在校等時間勤務する教職員→令和４年度比で５割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月に１回以上年次休暇を取得する教職員→</a:t>
            </a:r>
            <a:r>
              <a:rPr b="0" lang="en-US" sz="1200" spc="-1" strike="noStrike">
                <a:solidFill>
                  <a:srgbClr val="000000"/>
                </a:solidFill>
                <a:latin typeface="ＭＳ Ｐゴシック"/>
              </a:rPr>
              <a:t>100</a:t>
            </a:r>
            <a:r>
              <a:rPr b="0" lang="ja-JP" sz="1200" spc="-1" strike="noStrike">
                <a:solidFill>
                  <a:srgbClr val="000000"/>
                </a:solidFill>
                <a:latin typeface="ＭＳ Ｐ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　・　「教職員が意思疎通を図りながら働きやすい職場環境の整備に努めている」教職員の割合（学校評価）　　→</a:t>
            </a:r>
            <a:r>
              <a:rPr b="0" lang="en-US" sz="1200" spc="-1" strike="noStrike">
                <a:solidFill>
                  <a:srgbClr val="000000"/>
                </a:solidFill>
                <a:latin typeface="ＭＳ Ｐゴシック"/>
              </a:rPr>
              <a:t>90</a:t>
            </a:r>
            <a:r>
              <a:rPr b="0" lang="ja-JP" sz="1200" spc="-1" strike="noStrike">
                <a:solidFill>
                  <a:srgbClr val="000000"/>
                </a:solidFill>
                <a:latin typeface="ＭＳ Ｐゴシック"/>
              </a:rPr>
              <a:t>パーセント以上</a:t>
            </a:r>
            <a:endParaRPr b="0" lang="en-US" sz="1200" spc="-1" strike="noStrike">
              <a:solidFill>
                <a:srgbClr val="000000"/>
              </a:solidFill>
              <a:latin typeface="Arial"/>
            </a:endParaRPr>
          </a:p>
        </p:txBody>
      </p:sp>
      <p:sp>
        <p:nvSpPr>
          <p:cNvPr id="52" name="Rectangle 70"/>
          <p:cNvSpPr/>
          <p:nvPr/>
        </p:nvSpPr>
        <p:spPr>
          <a:xfrm>
            <a:off x="1079640" y="6259680"/>
            <a:ext cx="712944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3"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5" name="テキスト ボックス 2"/>
          <p:cNvSpPr/>
          <p:nvPr/>
        </p:nvSpPr>
        <p:spPr>
          <a:xfrm>
            <a:off x="573120" y="1101600"/>
            <a:ext cx="12604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一関清明支援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6" name="Rectangle 70"/>
          <p:cNvSpPr/>
          <p:nvPr/>
        </p:nvSpPr>
        <p:spPr>
          <a:xfrm>
            <a:off x="1079640" y="1806480"/>
            <a:ext cx="5545080" cy="16574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県内唯一</a:t>
            </a:r>
            <a:r>
              <a:rPr b="0" lang="en-US" sz="1200" spc="-1" strike="noStrike">
                <a:solidFill>
                  <a:srgbClr val="000000"/>
                </a:solidFill>
                <a:latin typeface="Arial"/>
              </a:rPr>
              <a:t>4</a:t>
            </a:r>
            <a:r>
              <a:rPr b="0" lang="ja-JP" sz="1200" spc="-1" strike="noStrike">
                <a:solidFill>
                  <a:srgbClr val="000000"/>
                </a:solidFill>
                <a:latin typeface="Arial"/>
              </a:rPr>
              <a:t>つの障がい種に対応した学校であり、教職員にはそのための教育環境の整備、幅広く且つ高い専門性が求められ、職員間の打ち合わせや研修、授業準備等に時間を要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en-US" sz="1200" spc="-1" strike="noStrike">
                <a:solidFill>
                  <a:srgbClr val="000000"/>
                </a:solidFill>
                <a:latin typeface="Arial"/>
              </a:rPr>
              <a:t>2</a:t>
            </a:r>
            <a:r>
              <a:rPr b="0" lang="ja-JP" sz="1200" spc="-1" strike="noStrike">
                <a:solidFill>
                  <a:srgbClr val="000000"/>
                </a:solidFill>
                <a:latin typeface="Arial"/>
              </a:rPr>
              <a:t>つの校舎、</a:t>
            </a:r>
            <a:r>
              <a:rPr b="0" lang="en-US" sz="1200" spc="-1" strike="noStrike">
                <a:solidFill>
                  <a:srgbClr val="000000"/>
                </a:solidFill>
                <a:latin typeface="Arial"/>
              </a:rPr>
              <a:t>3</a:t>
            </a:r>
            <a:r>
              <a:rPr b="0" lang="ja-JP" sz="1200" spc="-1" strike="noStrike">
                <a:solidFill>
                  <a:srgbClr val="000000"/>
                </a:solidFill>
                <a:latin typeface="Arial"/>
              </a:rPr>
              <a:t>つの分教室という多校舎・多教室間の連携を図るため職員間の連絡調整が欠かせず、日々の業務が増えている状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児童生徒の障がいの多様化に加え、家庭等取り巻く状況の複雑化により情報共有及び関係機関との会議等に係る業務が年々増え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7"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8"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9" name="正方形/長方形 2"/>
          <p:cNvSpPr/>
          <p:nvPr/>
        </p:nvSpPr>
        <p:spPr>
          <a:xfrm>
            <a:off x="8064360" y="7604280"/>
            <a:ext cx="495324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０日　一関清明支援学校長　　谷　浩明</a:t>
            </a:r>
            <a:endParaRPr b="0" lang="en-US" sz="1100" spc="-1" strike="noStrike">
              <a:solidFill>
                <a:srgbClr val="000000"/>
              </a:solidFill>
              <a:latin typeface="Arial"/>
            </a:endParaRPr>
          </a:p>
        </p:txBody>
      </p:sp>
      <p:sp>
        <p:nvSpPr>
          <p:cNvPr id="60"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1" name="Rectangle 70"/>
          <p:cNvSpPr/>
          <p:nvPr/>
        </p:nvSpPr>
        <p:spPr>
          <a:xfrm>
            <a:off x="7272360" y="1795320"/>
            <a:ext cx="5535720" cy="16671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児童生徒が楽しく学ぶ学校環境づくりを実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やりがいをもち、有用感を感じながら働く職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互いにコミュニケーションをとり、助け合うことができる職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管理職が日頃から教職員に目を配り、教職員が安心して働ける職場。</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62" name="右矢印 1"/>
          <p:cNvSpPr/>
          <p:nvPr/>
        </p:nvSpPr>
        <p:spPr>
          <a:xfrm>
            <a:off x="6640560" y="151920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3"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4" name="Rectangle 70"/>
          <p:cNvSpPr/>
          <p:nvPr/>
        </p:nvSpPr>
        <p:spPr>
          <a:xfrm>
            <a:off x="5108400" y="4392720"/>
            <a:ext cx="396432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は現状の校内業務の見直し、改善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は、各種計画・業務・会議の持ち方について合理化、改善が図られるよう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ボランティア、外部専門家等の学習活動への積極的活用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Rectangle 70"/>
          <p:cNvSpPr/>
          <p:nvPr/>
        </p:nvSpPr>
        <p:spPr>
          <a:xfrm>
            <a:off x="9067680" y="4392720"/>
            <a:ext cx="3745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特別支援教育の推進に係る業務について、相談支援体制の適正化が図られるよう関係機関との協議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地域と一体となって学校安全の取り組みについて検討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キャリア教育に係る企業連携事業による関係企業との協働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7"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8"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9"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70" name="Rectangle 70"/>
          <p:cNvSpPr/>
          <p:nvPr/>
        </p:nvSpPr>
        <p:spPr>
          <a:xfrm>
            <a:off x="1079640" y="4392720"/>
            <a:ext cx="4024080" cy="169524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一人一人が自身の勤務時間を把握し、ワークライフバランスを意識した働き方を考え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は教職員の勤務時間外状況を把握し、健康管理について面談や声かけを行い、健康保持や超過勤務の軽減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校閉庁日の設定。</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各種休暇制度、健康相談、各種検診の案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鎌田　和茂</cp:lastModifiedBy>
  <cp:lastPrinted>2023-05-02T01:43:41Z</cp:lastPrinted>
  <dcterms:modified xsi:type="dcterms:W3CDTF">2023-05-10T09:06:52Z</dcterms:modified>
  <cp:revision>956</cp:revision>
  <dc:subject/>
  <dc:title>スライド 1</dc:title>
</cp:coreProperties>
</file>