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9599-CCFE-4308-BC38-9F41D41DA6DE}"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2F5C5-7CF9-45E9-BF4D-94183C04A840}"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557D60-8431-4351-A5A7-4504B34E09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0CDCBD-6A7A-4445-879A-F9B2EA75F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061CA-0E5A-4005-BCA6-1414D3D5C6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DAD3BC-89BB-472B-9865-86C96D488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A841B-CFB1-4519-877D-E808C6191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92B01-13D9-40F4-8E90-74C0B31ED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1C6854-E325-4725-9CFC-D47D1676C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519A69-A44F-46F5-9F15-EDB8FC3013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1FAFAF-1A43-4EA7-8AF6-6096438F7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6A368-43F4-4D12-8C3C-CE0612E23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9AF32-3984-4F73-8176-B6645D3A33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2212A-3D1C-48BC-A849-086DA0169B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57B09-54CE-4A58-A082-F91DFA2A0AE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盛岡青松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　瞳　明るく　生き生きと　～</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盛岡青松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児童生徒の障がいや精神疾患等に起因する言動への対応により、教職員への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心身の負担が大き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児童生徒の障がいの状況から、個別に医療・福祉との連携による組織的対応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情報共有が欠かせないため、支援会議等の頻度が高く、精神的にも時間的に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への負担が大き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全体での超過勤務時間は多くないが、学級や授業の担当教員・主事主任等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一部の教職員が他の教職員に比べ恒常的に業務を担っている傾向がある。</a:t>
            </a: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332920" y="7705800"/>
            <a:ext cx="4484520" cy="3492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　日　盛岡青松支援学校長　青栁　禎久</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Ｒ５年度目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月</a:t>
            </a:r>
            <a:r>
              <a:rPr b="0" lang="en-US" sz="1200" spc="-1" strike="noStrike">
                <a:solidFill>
                  <a:srgbClr val="000000"/>
                </a:solidFill>
                <a:latin typeface="ＭＳ Ｐゴシック"/>
              </a:rPr>
              <a:t>45</a:t>
            </a:r>
            <a:r>
              <a:rPr b="0" lang="ja-JP" sz="1200" spc="-1" strike="noStrike">
                <a:solidFill>
                  <a:srgbClr val="000000"/>
                </a:solidFill>
                <a:latin typeface="ＭＳ Ｐゴシック"/>
              </a:rPr>
              <a:t>時間以上の超過勤務を行う教職員→０％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１日単位で５日少なくとも年間</a:t>
            </a:r>
            <a:r>
              <a:rPr b="0" lang="en-US" sz="1200" spc="-1" strike="noStrike">
                <a:solidFill>
                  <a:srgbClr val="000000"/>
                </a:solidFill>
                <a:latin typeface="ＭＳ Ｐゴシック"/>
              </a:rPr>
              <a:t>10</a:t>
            </a:r>
            <a:r>
              <a:rPr b="0" lang="ja-JP" sz="1200" spc="-1" strike="noStrike">
                <a:solidFill>
                  <a:srgbClr val="000000"/>
                </a:solidFill>
                <a:latin typeface="ＭＳ Ｐゴシック"/>
              </a:rPr>
              <a:t>日以上の年次休暇を取得する教職員→</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Ｐゴシック"/>
              </a:rPr>
              <a:t>・「健康でいきいきと業務を行っている」と実感する教職員→</a:t>
            </a:r>
            <a:r>
              <a:rPr b="0" lang="en-US" sz="1200" spc="-1" strike="noStrike">
                <a:solidFill>
                  <a:srgbClr val="000000"/>
                </a:solidFill>
                <a:latin typeface="ＭＳ Ｐゴシック"/>
              </a:rPr>
              <a:t>90</a:t>
            </a:r>
            <a:r>
              <a:rPr b="0" lang="ja-JP" sz="1200" spc="-1" strike="noStrike">
                <a:solidFill>
                  <a:srgbClr val="000000"/>
                </a:solidFill>
                <a:latin typeface="ＭＳ Ｐゴシック"/>
              </a:rPr>
              <a:t>％以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目指す姿＞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教職員一人一人が、特別支援教育への専門性をもち、「自信」と「やる気」を感じな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がら業務に取り組んでいる学校。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コミュニケーションを大切にし、全教職員が一丸となって「チーム盛岡青松」とし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協働する学校。</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事、会議、打合せ等を「児童生徒のために必要か」とい</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う視点で見直し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については終了時間を明記します。また、会議時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短縮のため日頃の情報交換を大切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どのような業務でも基本的に複数担当とすることで、業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偏りを見直し、業務分担について改善を心掛け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職員の意識付けのため、週に１度定時退庁日を設けます。</a:t>
            </a: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校内における新型コロナウイルス感染症５類移行後の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対応について、児童生徒の安全を確保しながら感染</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症対策の精選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学校運営協議会の導入を通じて、関係諸機関との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携協力のもと、教職員が児童生徒の教育活動に専念</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きる職場づくり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153200" y="809316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定期的に教職員への働きかけを行い、休暇取得</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しやすい職場環境づくりに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衛生委員会を効果的に活用し、教職員の健康管理に関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る情報提供を行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管理職が教職員に積極的に声を掛け、業務についての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安や、個人的な悩みなど話を聞き、風通しの良い職場づく</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りを心掛けます。</a:t>
            </a: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青栁　禎久</cp:lastModifiedBy>
  <cp:lastPrinted>2023-05-16T05:00:20Z</cp:lastPrinted>
  <dcterms:modified xsi:type="dcterms:W3CDTF">2023-05-18T03:09:13Z</dcterms:modified>
  <cp:revision>965</cp:revision>
  <dc:subject/>
  <dc:title>スライド 1</dc:title>
</cp:coreProperties>
</file>