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5320" y="750600"/>
            <a:ext cx="5097600" cy="3755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02040" y="95151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7A499-1BA8-42BA-BD4F-16825A14FF9D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902040" y="9515520"/>
            <a:ext cx="29844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99BB-4826-4D3C-AA8D-AA1AEC2DAE1C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895320" y="750960"/>
            <a:ext cx="5097600" cy="375588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0266-1446-4CAA-B8F5-F06B94110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BE78-7D1B-4CB1-87BB-303E45A1A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27F0-B526-4AC1-B3C6-41186DEEC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3C75-2C24-42D8-AAC3-29981BF40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9816-827F-494D-B8A9-60096B32F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D0F2-E194-4F64-9311-C468BFCC8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6CC2-6EF8-419B-8C36-D6B81E9E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15DD-091B-4D13-B196-784B78DD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2D37-F3A4-4A80-8CBC-F152A03C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3F49-194C-477D-B3C3-212531C9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9D4-8FD8-4E26-B4EC-B501D832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F63A-C495-423E-A079-43A16C20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7B9B-FAD8-4D9A-9BD4-91B262A5B467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久慈工業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教職員の協働により、ワーク・ライフ・バランスのとれた職場に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教員をゼロ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超の教員を、ゼロと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の連続取得を奨励し、１年間の年次休暇取得率を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に向上させ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を進め、各分掌等の１業務以上を削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79640" y="3664080"/>
            <a:ext cx="11728440" cy="379440"/>
          </a:xfrm>
          <a:prstGeom prst="rect">
            <a:avLst/>
          </a:prstGeom>
          <a:solidFill>
            <a:srgbClr val="00b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久慈工業高等学校では、「岩手県教職員働き方改革プラン（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5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教員の月平均時間外勤務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7.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１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時間外勤務を行った教員は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間で延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年次休暇取得率は、時間に換算し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.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％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令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健康管理区分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教職員は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であ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級担任・分掌・部顧問等の業務分担に偏りが見られるとともに、進路指導や資格取得指導が一部の教員に偏る傾向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064360" y="7604280"/>
            <a:ext cx="4953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５日　久慈工業高等学校長　水野扶佐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92d05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6671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一人一人が、仕事にやりがいを感じるとともに、「チーム久慈工業」として、教職員が協働し、支え合いながら業務を遂行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がとれ、家庭やプライベートの時間が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日頃から、教職員に対し面談を行い、業務に対する適切なサポート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学校全体の業務量の軽減、負担感の緩和に努め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教職員が優先順位を考えながら、効率的に業務に取り組んで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チーム久慈工業として教職員の協働体制を構築し、担任３人制、複数部顧問制により業務の平準化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効率的遂行への意識を高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見直しを進め、形骸化した業務・効果の薄い業務を削減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休養日を徹底するとともに、部顧問間の連携を強化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職員会議と職員朝会について、所要時間を短縮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の将来を担うものづくり人材を育成するため、 「いわて高校魅力化・ふるさと創生推進事業」における地域の自治体や関係機関との連携・協働をより深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 「コミュニティ・スクール」の導入に向けて、地域とともにある学校づくり推進フォーラムにおける取組事例の発表等を参考にし、「高校魅力化推進コンソーシアム」からの移行も踏まえて、主体的に準備を進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長時間勤務者に対する面談を行うとともに、必要に応じて業務の在り方を検討・改善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ワーク・ライフ・バランスシートを活用するなどして、教職員の状況を把握し、サポート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やメンタルヘルス相談等の積極的利用を推奨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年次休暇・特別休暇等の積極的な取得を推奨します。また、学校閉庁日を設定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7711920" y="8550360"/>
          <a:ext cx="4434120" cy="684000"/>
        </p:xfrm>
        <a:graphic>
          <a:graphicData uri="http://schemas.openxmlformats.org/drawingml/2006/table">
            <a:tbl>
              <a:tblPr/>
              <a:tblGrid>
                <a:gridCol w="960480"/>
                <a:gridCol w="1808280"/>
                <a:gridCol w="16653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水野　扶佐史</cp:lastModifiedBy>
  <cp:lastPrinted>2023-04-28T05:23:48Z</cp:lastPrinted>
  <dcterms:modified xsi:type="dcterms:W3CDTF">2023-05-15T04:23:43Z</dcterms:modified>
  <cp:revision>1017</cp:revision>
  <dc:subject/>
  <dc:title>スライド 1</dc:title>
</cp:coreProperties>
</file>