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5B4BD-1C64-4CB1-A440-EA40C6FB402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19E3-524A-4C49-9BFD-F11978F034E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3ECE-4476-469F-A4AE-44F71BF7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886C-EE4C-4820-A8DF-EEFB3B17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3E8-E340-462E-9E0A-56A82FD60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E70-9148-43CC-9CB6-D9D2B1B4C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315E-F413-452A-8852-ACC6B75ED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38861-1332-4676-A0F1-E85D497F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FC9A-6B34-4645-BA30-E6DBFC7E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8C7-54F3-43F1-9722-F34ACA70A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E5B-8EE4-4DB7-94D7-72F275FF0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9DE-BE38-4302-84D8-9F9E5295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C7E0-5799-4667-B864-71F975F7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D76E-49D3-4E9D-983E-AE290EE3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816D3-F01D-47D9-8E4E-3047C5345F4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大船渡東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　職員間の活発な意思疎通で業務改善　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（週休日の部活動指導従事時間を除く）が月４５時間を超える教職員　→　６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１回、１日以上の計画的な年次休暇等を取得する教職員　→　５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心と体の健康の維持により長期病気休暇教職員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学校評価アンケートの教職員調査で「本校は、仕事の平準化が図られていると感じる教職員　→　５５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1360440" y="1114560"/>
            <a:ext cx="1191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大船渡東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割変更が難しいため出張･年次等の課題対応による業務が避けられない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活発な部活動や特別活動、多様な進路志望への対応に要する指導のため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間外勤務が必要となり業務負担が大きく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４学科独自の行事が多く、その準備のために勤務時間外が常態化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個々の生徒に対応するクラス担任の負担感が大きく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岩手県立大船渡東高等学校長　千葉　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生徒と向き合い、それぞれの特徴を生かし充実感を感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やベテラン職員が日頃から適切なサポート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一人の職員に業務が集中しないように、業務を分散する気風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計画的に年次休暇、特別休暇等を取得できる環境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新しい提案を受け入れる心理的・時間的なゆとり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分掌間、職員間の連携を密にし互いの業務を認め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い、業務への充実感のある職場環境づくり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簡略化、省略できるところから業務改善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数の確保に向け、特増制度の活用、非常勤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等の専門スタッフの継続した配置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教職員の担当する分掌業務の明確化により多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化している業務の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外部資源の積極的な活用を呼びかけ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ＩＣＴの活用を促進し授業及び業務の改善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常の職員間のコミュニケーションにより、会議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の短縮、書類を介さず口頭で済む部分を模索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年度実績の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年度実績の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４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による面談や日常のコミュニケー ションをとるこ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で心身の状況把握に心がけ相談しやすい環境を整え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診断・メンタルヘルス相談等の積極活用を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タイムカードの活用により勤務実態を適切に把握し、過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な時間外勤務の適正化や産業医による保健指導など健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配慮した声が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等の活用が計画的に取得しやすい職場環境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くり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秋田　美紀男</cp:lastModifiedBy>
  <cp:lastPrinted>2023-05-17T04:27:17Z</cp:lastPrinted>
  <dcterms:modified xsi:type="dcterms:W3CDTF">2023-05-18T05:32:19Z</dcterms:modified>
  <cp:revision>958</cp:revision>
  <dc:subject/>
  <dc:title>スライド 1</dc:title>
</cp:coreProperties>
</file>