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8DF3-D38D-4057-B5C6-2D8EDBA0311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5311B-CF0D-4188-B4F6-443C7090920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19F4-AB78-4EE3-8D00-D23D0C035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98CB-DF38-4BF1-BE02-E7AE930BA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F423-53BB-45FB-B381-56E32B9E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919-2607-4EDB-8B58-F2E753C2A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3A4-C3E1-4E11-AC9E-E91A160DC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81A-D878-4C3B-98DF-2FD994C6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9FED-AF71-477E-A17B-54735665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CA96-AEFB-4307-97E8-D334B6B7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26DC-18C3-4A42-A601-B3A5984B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0680-B721-469A-9B9C-CE14EC94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B081-8126-420B-943D-929FF50A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079-FC19-4408-98CC-9C4F85665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4BE1B-3E17-4F42-9012-D6EC0447CCA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前沢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ワークライフバランスで働きがいと生きがいを！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前沢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、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０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４年度、教職員の時間外勤務時間の平均が２９時間を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一部職員は全体平均を大きく超え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６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時間外勤務をしている職員が固定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○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遠距離通勤者がいて、時間外勤務時間だけで負担の状況を判断できな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場合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450280" y="77058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手県立前沢高等学校長　佐藤　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０名を継続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教職員の時間外勤務時間の年平均時間を昨年より最低１時間減ら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教職員の年次休暇取得平均日数を昨年より平均１日分増や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６日→１５．６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働き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突然休暇を申請しても周りの職員が業務をカバーできる体制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業務に関連して意見、アイデアを表明しやすい職場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組織がチームとしてまとまりがあり、進むべき方向性については共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した認識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改善を常に意識し、スクラップアンドビルドの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え方で臨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意味のない「前例踏襲」はや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「効率」という観点を追求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委員や外部の方の意見を取り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れて業務の適正化を図るよう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に関わることで、地域の協力を得られる可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性について模索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保護者や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域の方に理解いただけるよう情報発信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39160" y="808200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勤務状況を常に注視し、健康を害すること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い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メンタルヘルスにも注視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適切なところで声が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藤　文子</cp:lastModifiedBy>
  <cp:lastPrinted>2023-05-15T04:53:15Z</cp:lastPrinted>
  <dcterms:modified xsi:type="dcterms:W3CDTF">2023-05-15T04:53:22Z</dcterms:modified>
  <cp:revision>963</cp:revision>
  <dc:subject/>
  <dc:title>スライド 1</dc:title>
</cp:coreProperties>
</file>