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418CC-02DA-4B55-BFB5-F184FB7FD220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404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012E7-10A6-490B-9C63-5E6E88610584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04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7920"/>
            <a:ext cx="538956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A0B-9082-45AA-B88B-70F866456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5760-50A8-46C5-823D-AA44D1C2D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84E0-B474-406F-AA59-D218207DE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20B-086D-4881-AAF6-587ACF8D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2553-C652-45F8-97D8-B6BDA14D4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513-85DF-4095-9298-00271538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1B5-E949-43AD-9FAC-F5DE36AC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28C-1BD2-4CF5-BA00-9A586AC46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330-91E1-4B8B-AE10-64CFD9283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AF2E-60B0-4C70-BED6-AD89581C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7D52-A73E-4F17-B397-40C47554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341A-AE91-4B05-86B3-D42B5AFA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9EA2-59B1-4B3F-950F-6117CCF7AD1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○○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キャッチフレーズ又は通称（任意）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遠野緑峰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12760" y="1789200"/>
            <a:ext cx="5545080" cy="2617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ゼロ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一人当たりの平均取得日数 ⁄ １日単位の取得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 日数が５日以上の職員数）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１４．０日  ⁄  ２６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９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１４．４日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⁄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２９人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１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時間外勤務している教職員が固定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農場管理のため、休日・学校閉庁日にも日直業務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「生徒にとって必要な活動か否か」の観点から、スクラップアンドビルドの視点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って業務見直し等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640720" y="7707240"/>
            <a:ext cx="537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８日　遠野緑峰高等学校長　髙橋　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ワーク・ライフ・バランス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やりがいと充実感を持って教育活動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充実した地域連携により、地域と共にある学校として評価され、地域住民から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待され応援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全職員での協働体制が確立しており、ワーク・ライフ・バランスが保た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休みたい時に、遠慮なく休暇を取れる風通しの良い雰囲気が職場にあ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働きやすい職場作りに向けて、教職員に積極的に声がけを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副担任２人制を実施し、教育活動の協働体制を推進しま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。 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適切なスクラップ＆ビルドに向けて、教職員の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耳を傾け検討し、実施に向けて柔軟に対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育活動におけるＩＣＴ化を推進し、職員会議等のペ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パーレス化等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導による電話対応時間の縮減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電話対応時間７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～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（留守番電話対応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～翌日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分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行事については、安易にコロナ禍前に戻すのではなく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生徒にとって有意義なものになるよう業務の見直しを進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遠野市教育委員会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､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関係機関と連携して業務の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化・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運営協議会制度を活用し、地域とビジョンを共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有し、協働して業務にあた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の開催時間の変更等、働き方改革に向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た取組について、保護者に理解いただけるよう協議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々の教育活動を、明るく、笑顔で実践できるように、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が健康増進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やすい職場を目指して、お互い声を掛け合い、心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合わせ、助け合って、教育活動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日頃から、休暇を取得しやすい風通しの良い職場環境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確立に努め、全職員の１日単位の年次休暇取得５日以上を  　　  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教職員の健康について配慮できるように、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常のコミュニケーションを大切に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3"/>
          <p:cNvSpPr/>
          <p:nvPr/>
        </p:nvSpPr>
        <p:spPr>
          <a:xfrm>
            <a:off x="11233080" y="349200"/>
            <a:ext cx="1295640" cy="54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Arial"/>
              </a:rPr>
              <a:t>策定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1224000" y="2192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○○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キャッチフレーズ又は通称（任意）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3"/>
          <p:cNvSpPr/>
          <p:nvPr/>
        </p:nvSpPr>
        <p:spPr>
          <a:xfrm>
            <a:off x="1224000" y="208080"/>
            <a:ext cx="11449080" cy="8762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遠野緑峰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～チーム緑峰プロジェクト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堅</cp:lastModifiedBy>
  <cp:lastPrinted>2023-05-08T02:04:09Z</cp:lastPrinted>
  <dcterms:modified xsi:type="dcterms:W3CDTF">2023-05-08T04:47:51Z</dcterms:modified>
  <cp:revision>961</cp:revision>
  <dc:subject/>
  <dc:title>スライド 1</dc:title>
</cp:coreProperties>
</file>