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71200" y="744120"/>
            <a:ext cx="5049720" cy="37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54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660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2660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03FA7-09B3-4BB5-BC37-4DC66F234A01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48040" y="9426600"/>
            <a:ext cx="2943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D9CD-5C07-41BE-B3A7-FF1748C5EC40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71560" y="744480"/>
            <a:ext cx="5049720" cy="37213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50B6-E756-4931-B3F7-468875CA0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8412-6DB8-4521-9B22-B7CF9B28A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C14B-323E-40DC-B4F9-014E8F34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292C-5961-46BF-870B-76E3C9C7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C4F1-243C-4CA3-A3CF-8CD9314C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58AF-32D9-41E9-B4CF-9C6456921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C706-E631-432E-B2FE-6F912A334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839-0ACF-4100-8A0A-DFDC89E70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9D51-F1C0-4A83-87CB-A1A1EABEF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9B15-5CAB-4297-9EE9-918A4C1C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DB3B-1B9B-4D5D-AF07-0523A41C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184A-1D6E-4D6F-BCB6-C29AA98D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714D-BCFC-427F-940B-A56755C716CA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岩手県立大野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「持続可能」な働き方を目指して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538280"/>
            <a:ext cx="5545080" cy="4064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7600" y="4284720"/>
            <a:ext cx="11769840" cy="39348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1076400" y="1146240"/>
            <a:ext cx="117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大野高等学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967040"/>
            <a:ext cx="5545080" cy="2212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少ない教職員数で分担し、各自が多様な業務に取り組んでおり、負担を感じ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いる教職員が少なく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特定の時期に複数の業務が重なり、個人に負担が向かう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時間外在校時感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ゼロであるが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越（週休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の部活動指導従事を除く）は２名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前年度年次休暇取得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68792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91120" y="4692600"/>
            <a:ext cx="3997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569440" y="7734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９日　岩手県立大野高等学校長　千葉美春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550880"/>
            <a:ext cx="5535720" cy="36684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941480"/>
            <a:ext cx="5535720" cy="22384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　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時間外勤務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に該当する教職員→ゼロ継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時間外勤務（週休日の部活動従事時間を除く）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教職員→ゼ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　年次休暇取得率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以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理解し、ゆとりと思いやりを持って同僚や生徒に接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お互いの業務をサポートし合い、気軽に休暇を取得できる雰囲気が作られ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 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ワークライフバランスをとりながら、教職員本来の業務に専念でき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22920" y="1959120"/>
            <a:ext cx="676440" cy="190800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686480"/>
            <a:ext cx="3735360" cy="40788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089680"/>
            <a:ext cx="4003560" cy="25509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費用対効果、時間対効果を考えた業務のスクラップ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ビルドに取り組みます。安易にコロナ禍前に戻さ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ＩＣＴを活用し、ペーパーレス化や会議等における集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形式の見直しを行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方針に基づき、適正な部活動時間を徹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るなど、部活動指導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外部講師、総探コーディネーター等を積極的に活用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生徒への指導等への負担軽減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087880"/>
            <a:ext cx="3745080" cy="2563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、主任間で業務内容、進捗状況を確認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お互いに業務の「見える化」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各業務に複数の担当者を配置できるよう、校務分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少ない職員数では手が回りにくい公舎外の環境整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等を、ＰＴＡや同窓会に協力を求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56440" y="808200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094360"/>
            <a:ext cx="4024440" cy="25462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休暇を取りやすくするために、部活動顧問を複数配置し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校務分掌の見直し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早期退庁及び積極的な年次休暇等の取得をしやすい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う、管理職は会議設定や運営の効率化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開催規定人数に関わらず、衛生委員会を実施し、健康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持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千葉　美春</cp:lastModifiedBy>
  <cp:lastPrinted>2023-05-19T00:44:34Z</cp:lastPrinted>
  <dcterms:modified xsi:type="dcterms:W3CDTF">2023-05-19T00:46:22Z</dcterms:modified>
  <cp:revision>958</cp:revision>
  <dc:subject/>
  <dc:title>スライド 1</dc:title>
</cp:coreProperties>
</file>