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8600" y="739440"/>
            <a:ext cx="501804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47AF2-6DE0-4FF1-ADAC-55E5C06E348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16360" y="937116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44734-A5CC-404B-9778-6DCAFF47447C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58960" y="739800"/>
            <a:ext cx="5018040" cy="369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0ABFB-D72D-4C00-B8D2-5B80DA84A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9E46-C659-4EC4-AA56-8E5FABB4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B7D8-5377-4203-A5CB-BDE6EEA6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9EEE-77F4-4EA6-A4AF-65416597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BF57-A2B7-413D-B1B5-04D391A8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4E81-0987-4744-8926-E3646147B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28FE-8BD4-490C-998F-9C049F15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3A56-92F5-44E3-812E-CCBA24D7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5A0D-2E99-4BDB-82CB-83AC1C9A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FEB1-E17A-4E13-B3AC-81B84246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246A-6A72-4242-A9E6-CFAB2C42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B299-9C77-4BB5-B22B-49283BDE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C9E9-73E3-45FD-8E3B-8D882FB80761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99160" y="-2211840"/>
            <a:ext cx="792360" cy="11695320"/>
          </a:xfrm>
          <a:custGeom>
            <a:avLst/>
            <a:gdLst>
              <a:gd name="textAreaLeft" fmla="*/ 0 w 792360"/>
              <a:gd name="textAreaRight" fmla="*/ 792720 w 792360"/>
              <a:gd name="textAreaTop" fmla="*/ 0 h 11695320"/>
              <a:gd name="textAreaBottom" fmla="*/ 11695680 h 11695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68280" y="34920"/>
            <a:ext cx="11449080" cy="10555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盛岡第二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白梅教職員生き生きプランＲ５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73160" y="6681960"/>
            <a:ext cx="8015400" cy="1260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等時間の削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①月８０時間以上の教職員の年間割合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３％以内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 　　　　　 ②月１００時間以上の教職員の人数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０人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休暇の取得促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　①一人当たりの年次有給休暇の年間取得日数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７日以上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②一人当たりの夏季休暇取得日数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４日以上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ノー残業デーへの取組の推進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各自月１回以上の実施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32680"/>
            <a:ext cx="8008920" cy="433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106640" y="1498680"/>
            <a:ext cx="5545080" cy="3380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114560" y="376092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1073160" y="1130400"/>
            <a:ext cx="1191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盛岡二高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103400" y="1862280"/>
            <a:ext cx="5545080" cy="15811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１年間における月間平均時間外勤務時間　　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３６．０時間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１年間における年次有給休暇取得７日未満の割合　　 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０．３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夏季休暇取得４日未満の割合　　　　　　　　　　　　　　　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７．７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定期健康診断における健康管理区分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１以下の割合　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４１．３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98720" y="412740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26040" y="412740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469360" y="7404120"/>
            <a:ext cx="4952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５月１日　盛岡第二高等学校長　鈴木広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98680"/>
            <a:ext cx="5535720" cy="36360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836720"/>
            <a:ext cx="5535720" cy="1630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業務の役割分担が適正になされ、協働体制が確立されている学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授業の準備や教育環境の整備に十分な時間が確保されている学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ワーク・ライフ・バランスが図られ、健康で生き生きと業務に従事している学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互いに助け合う学校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3324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83520" y="4118040"/>
            <a:ext cx="3735720" cy="4190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6960" y="4491000"/>
            <a:ext cx="3963960" cy="16556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部活動休養日実施の徹底と学校閉庁日の拡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のスクラップと各種学校行事の内容の見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正副担任及び正副顧問間での業務分担の見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会議の精選及び簡素化と会議準備の軽減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74160" y="4506840"/>
            <a:ext cx="3745080" cy="16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高教研、高文連、高体連の事務局業務の軽減に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する関係団体との協議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部活動指導の負担軽減の取組に関する県教委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地域と一体になった検討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同窓会やＰＴＡに関する業務の軽減や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3160" y="8099280"/>
            <a:ext cx="11655360" cy="19400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305840" y="8599320"/>
          <a:ext cx="5329080" cy="681120"/>
        </p:xfrm>
        <a:graphic>
          <a:graphicData uri="http://schemas.openxmlformats.org/drawingml/2006/table">
            <a:tbl>
              <a:tblPr/>
              <a:tblGrid>
                <a:gridCol w="1214280"/>
                <a:gridCol w="1371600"/>
                <a:gridCol w="1371600"/>
                <a:gridCol w="13716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29360" y="812160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113600" y="9356760"/>
            <a:ext cx="560376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468680"/>
            <a:ext cx="4024080" cy="1695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年次有給休暇や特別休暇の積極的な取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土日等の部活動指導に対する振替取得率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メンタルヘルスセミナーへの積極的参加と研修の共有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ノー残業デーへの組織的取組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鈴木　広樹</cp:lastModifiedBy>
  <cp:lastPrinted>2023-04-25T23:40:14Z</cp:lastPrinted>
  <dcterms:modified xsi:type="dcterms:W3CDTF">2023-04-26T03:03:59Z</dcterms:modified>
  <cp:revision>965</cp:revision>
  <dc:subject/>
  <dc:title>スライド 1</dc:title>
</cp:coreProperties>
</file>